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ECF-A887-4C61-B5E5-F3142213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DB3-04B5-4995-82D2-BD10DB72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1DA-2937-48F3-A446-36DA8DEE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A29-5C20-414F-A7ED-B8AD499D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DC0-AFE1-462E-B324-2F44171C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EEE-E64F-4013-A16F-D6DA2FD6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97A-A079-4CF8-AC9F-AA2B0201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983-ABE7-419B-90EB-882113AC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3D4-EA04-4B32-BF3A-EA8D475A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562-0C27-46D6-B45E-ED101425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107-837E-40A6-8A9F-CA400A3F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574-1F2A-4074-BB61-744BA5C8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5FD7-31CE-44AB-9D8C-375371F68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8800" y="2936880"/>
            <a:ext cx="438012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us the ordered p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800" y="2936880"/>
            <a:ext cx="438012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us the ordered p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800" y="2936880"/>
            <a:ext cx="438012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us the ordered p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800" y="2936880"/>
            <a:ext cx="4529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800" y="2936880"/>
            <a:ext cx="4529160" cy="9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128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31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34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800" y="2936880"/>
            <a:ext cx="452916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144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147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5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800" y="2936880"/>
            <a:ext cx="452916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160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163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66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67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71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74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75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800" y="2936880"/>
            <a:ext cx="452916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186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189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192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193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99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02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03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8800" y="2936880"/>
            <a:ext cx="452916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214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217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220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221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207880" y="2062080"/>
            <a:ext cx="925920" cy="588600"/>
            <a:chOff x="2207880" y="2062080"/>
            <a:chExt cx="925920" cy="588600"/>
          </a:xfrm>
        </p:grpSpPr>
        <p:grpSp>
          <p:nvGrpSpPr>
            <p:cNvPr id="227" name=""/>
            <p:cNvGrpSpPr/>
            <p:nvPr/>
          </p:nvGrpSpPr>
          <p:grpSpPr>
            <a:xfrm>
              <a:off x="2651400" y="2119320"/>
              <a:ext cx="482400" cy="531360"/>
              <a:chOff x="2651400" y="2119320"/>
              <a:chExt cx="482400" cy="531360"/>
            </a:xfrm>
          </p:grpSpPr>
          <p:sp>
            <p:nvSpPr>
              <p:cNvPr id="228" name=""/>
              <p:cNvSpPr/>
              <p:nvPr/>
            </p:nvSpPr>
            <p:spPr>
              <a:xfrm>
                <a:off x="26514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0044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2078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8983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227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34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37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38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800" y="2936880"/>
            <a:ext cx="4529160" cy="2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249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252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255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256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207880" y="2062080"/>
            <a:ext cx="925920" cy="588600"/>
            <a:chOff x="2207880" y="2062080"/>
            <a:chExt cx="925920" cy="588600"/>
          </a:xfrm>
        </p:grpSpPr>
        <p:grpSp>
          <p:nvGrpSpPr>
            <p:cNvPr id="262" name=""/>
            <p:cNvGrpSpPr/>
            <p:nvPr/>
          </p:nvGrpSpPr>
          <p:grpSpPr>
            <a:xfrm>
              <a:off x="2651400" y="2119320"/>
              <a:ext cx="482400" cy="531360"/>
              <a:chOff x="2651400" y="2119320"/>
              <a:chExt cx="482400" cy="531360"/>
            </a:xfrm>
          </p:grpSpPr>
          <p:sp>
            <p:nvSpPr>
              <p:cNvPr id="263" name=""/>
              <p:cNvSpPr/>
              <p:nvPr/>
            </p:nvSpPr>
            <p:spPr>
              <a:xfrm>
                <a:off x="26514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0044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2078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8983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227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03200" y="1042920"/>
            <a:ext cx="6004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ketch the graph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 should find some ordered pairs that satisfy the function.  Since this function involves polar coordinates, we are looking for pairs of the for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7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73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74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8800" y="2936880"/>
            <a:ext cx="4529160" cy="26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, and connect the point we already graphed with this new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284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287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290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291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207880" y="2062080"/>
            <a:ext cx="925920" cy="588600"/>
            <a:chOff x="2207880" y="2062080"/>
            <a:chExt cx="925920" cy="588600"/>
          </a:xfrm>
        </p:grpSpPr>
        <p:grpSp>
          <p:nvGrpSpPr>
            <p:cNvPr id="297" name=""/>
            <p:cNvGrpSpPr/>
            <p:nvPr/>
          </p:nvGrpSpPr>
          <p:grpSpPr>
            <a:xfrm>
              <a:off x="2651400" y="2119320"/>
              <a:ext cx="482400" cy="531360"/>
              <a:chOff x="2651400" y="2119320"/>
              <a:chExt cx="482400" cy="531360"/>
            </a:xfrm>
          </p:grpSpPr>
          <p:sp>
            <p:nvSpPr>
              <p:cNvPr id="298" name=""/>
              <p:cNvSpPr/>
              <p:nvPr/>
            </p:nvSpPr>
            <p:spPr>
              <a:xfrm>
                <a:off x="26514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0044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2078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8983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227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8800" y="2936880"/>
            <a:ext cx="4529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314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317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318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324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325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800" y="2936880"/>
            <a:ext cx="4529160" cy="9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336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339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342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343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349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350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35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8800" y="2936880"/>
            <a:ext cx="452916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364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367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37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373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374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380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381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385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8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8800" y="2936880"/>
            <a:ext cx="452916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395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398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401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404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405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411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412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416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419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420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4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8800" y="2936880"/>
            <a:ext cx="452916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431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434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437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440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441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447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448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454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455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459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460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46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8800" y="2936880"/>
            <a:ext cx="452916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474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477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48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483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484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490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491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497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498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502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503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509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510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51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8800" y="2936880"/>
            <a:ext cx="4529160" cy="2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524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527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53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533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534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540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541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547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548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52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553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554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560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561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565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8800" y="2936880"/>
            <a:ext cx="4529160" cy="26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, and connect it with what we’ve graphed so f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576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579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582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585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586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592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593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599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600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60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607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608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614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615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5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2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88800" y="2936880"/>
            <a:ext cx="4529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625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628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629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635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636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640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641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645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648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649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03200" y="1042920"/>
            <a:ext cx="600408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ketch the graph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 should find some ordered pairs that satisfy the function.  Since this function involves polar coordinates, we are looking for pairs of the for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construct a table so that we can find ordered pairs on the graph 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6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8800" y="2936880"/>
            <a:ext cx="4529160" cy="9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663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666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669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670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676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677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681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682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686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689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690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696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8800" y="2936880"/>
            <a:ext cx="452916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706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709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712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715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716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722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723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727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728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732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735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736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742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5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8800" y="2936880"/>
            <a:ext cx="452916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752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755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758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761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762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768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769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773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774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778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781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782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788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791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792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6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0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88800" y="2936880"/>
            <a:ext cx="452916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803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806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809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812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813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476160" y="4087800"/>
            <a:ext cx="932400" cy="588600"/>
            <a:chOff x="3476160" y="4087800"/>
            <a:chExt cx="932400" cy="588600"/>
          </a:xfrm>
        </p:grpSpPr>
        <p:grpSp>
          <p:nvGrpSpPr>
            <p:cNvPr id="819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820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178160" y="408780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826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827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831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832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836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839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840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846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849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850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4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8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88800" y="2936880"/>
            <a:ext cx="452916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861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864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867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870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871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476160" y="4087800"/>
            <a:ext cx="932400" cy="588600"/>
            <a:chOff x="3476160" y="4087800"/>
            <a:chExt cx="932400" cy="588600"/>
          </a:xfrm>
        </p:grpSpPr>
        <p:grpSp>
          <p:nvGrpSpPr>
            <p:cNvPr id="877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878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178160" y="408780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884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885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889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890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89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897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898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904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907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908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912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913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0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88800" y="2936880"/>
            <a:ext cx="4529160" cy="2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927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930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933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936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937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9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3476160" y="4087800"/>
            <a:ext cx="932400" cy="588600"/>
            <a:chOff x="3476160" y="4087800"/>
            <a:chExt cx="932400" cy="588600"/>
          </a:xfrm>
        </p:grpSpPr>
        <p:grpSp>
          <p:nvGrpSpPr>
            <p:cNvPr id="943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944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178160" y="408780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950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951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955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956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960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963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964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970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973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974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978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979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5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88800" y="2936880"/>
            <a:ext cx="4529160" cy="26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, and connect it with what we’ve graphed so f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992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995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998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001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002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4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3476160" y="4087800"/>
            <a:ext cx="932400" cy="588600"/>
            <a:chOff x="3476160" y="4087800"/>
            <a:chExt cx="932400" cy="588600"/>
          </a:xfrm>
        </p:grpSpPr>
        <p:grpSp>
          <p:nvGrpSpPr>
            <p:cNvPr id="1008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1009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4178160" y="408780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015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016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020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021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025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028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029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035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038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039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043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044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6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5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8800" y="2936880"/>
            <a:ext cx="4348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tinue to choose values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058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061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062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068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069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073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074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078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081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082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4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088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091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092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098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099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3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7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88800" y="2936880"/>
            <a:ext cx="4348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tinue to choose values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the corresponding valu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11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113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114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120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121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125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126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130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133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134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140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143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144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150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151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5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9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88800" y="2936880"/>
            <a:ext cx="4348440" cy="12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tinue to choose values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the corresponding valu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the ordered pai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our polar coordinate pla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162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165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166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172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173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177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178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0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182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185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186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192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195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196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202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203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800" y="2936880"/>
            <a:ext cx="438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t’s choose values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ind the corresponding values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hen form ordered pai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88800" y="2936880"/>
            <a:ext cx="4348440" cy="158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tinue to choose values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the corresponding valu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the ordered pai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our polar coordinate plane, and connect our points to obtain a graph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214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217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218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224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229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230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23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237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238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244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247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248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254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255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265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268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269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275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276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280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281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3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285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288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289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1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295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298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299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305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306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9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0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4" name=""/>
          <p:cNvSpPr/>
          <p:nvPr/>
        </p:nvSpPr>
        <p:spPr>
          <a:xfrm>
            <a:off x="536400" y="3051000"/>
            <a:ext cx="39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316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319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320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326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327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331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332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336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339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340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346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349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350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356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357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9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367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370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371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3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377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378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382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383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5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387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390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391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397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400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401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3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407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408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0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2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6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418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421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422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4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428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429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1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433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434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6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438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441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442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448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451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452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458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459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2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7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469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472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473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479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480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2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484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485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489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492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493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5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499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502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503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5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509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510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4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5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6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0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522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525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526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8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532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537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538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542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545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546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8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552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555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556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8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562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563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567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0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3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4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576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579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580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2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586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587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591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592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596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599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600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2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606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609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610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5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616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617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9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1621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1622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4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626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9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0" name="" descr=""/>
          <p:cNvPicPr/>
          <p:nvPr/>
        </p:nvPicPr>
        <p:blipFill>
          <a:blip r:embed="rId3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637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640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641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3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647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648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0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652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653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5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657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660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661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3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667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670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671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3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677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678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1682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1684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6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689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1692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1693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703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706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707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9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2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713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714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718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719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723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726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727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9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733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736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737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2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743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744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6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7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1748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9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1750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4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55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756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1759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1760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2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50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800" y="2936880"/>
            <a:ext cx="43801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t’s choose values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ind the corresponding values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hen form ordered pai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then plot these ordered pairs on a polar coordinate plane to obtain a graph of the fun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4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7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8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77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773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774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780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781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3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785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786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790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793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794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6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800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803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804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810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3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815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1818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1819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1823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1825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1830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2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3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7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839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842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843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5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849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850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2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854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855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7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859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862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863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869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872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873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5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879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880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884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1887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1888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0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1892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3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1894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6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1899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1902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1903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6" name=""/>
          <p:cNvGrpSpPr/>
          <p:nvPr/>
        </p:nvGrpSpPr>
        <p:grpSpPr>
          <a:xfrm>
            <a:off x="6970680" y="2119320"/>
            <a:ext cx="822240" cy="531360"/>
            <a:chOff x="6970680" y="2119320"/>
            <a:chExt cx="822240" cy="531360"/>
          </a:xfrm>
        </p:grpSpPr>
        <p:sp>
          <p:nvSpPr>
            <p:cNvPr id="1907" name=""/>
            <p:cNvSpPr/>
            <p:nvPr/>
          </p:nvSpPr>
          <p:spPr>
            <a:xfrm>
              <a:off x="7310520" y="2119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459560" y="238140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9706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.7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0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917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920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921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3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6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927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928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0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932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933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5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6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937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940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941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3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947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950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951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3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957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958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962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1965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1966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8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9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1970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1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1972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4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6" name=""/>
          <p:cNvSpPr/>
          <p:nvPr/>
        </p:nvSpPr>
        <p:spPr>
          <a:xfrm>
            <a:off x="6867000" y="2062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7572240" y="2062080"/>
            <a:ext cx="2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8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79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1980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1983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1984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6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7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8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1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2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3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994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6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997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998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004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005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8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009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010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2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01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017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018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0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024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027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028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0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034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035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039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1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042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043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047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8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049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1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054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055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7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8" name=""/>
          <p:cNvSpPr/>
          <p:nvPr/>
        </p:nvSpPr>
        <p:spPr>
          <a:xfrm>
            <a:off x="6867000" y="2062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7572240" y="2062080"/>
            <a:ext cx="2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6970680" y="2119320"/>
            <a:ext cx="822240" cy="531360"/>
            <a:chOff x="6970680" y="2119320"/>
            <a:chExt cx="822240" cy="531360"/>
          </a:xfrm>
        </p:grpSpPr>
        <p:sp>
          <p:nvSpPr>
            <p:cNvPr id="2061" name=""/>
            <p:cNvSpPr/>
            <p:nvPr/>
          </p:nvSpPr>
          <p:spPr>
            <a:xfrm>
              <a:off x="7310520" y="2119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459560" y="238140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9706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.7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4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065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066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" dur="5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075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7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2078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2079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1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085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086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8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9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090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091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3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095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098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099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1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105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108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109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1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115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116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8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9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120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123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124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6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7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128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9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130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2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135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138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139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1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6867000" y="2062080"/>
            <a:ext cx="935640" cy="588600"/>
            <a:chOff x="6867000" y="2062080"/>
            <a:chExt cx="935640" cy="588600"/>
          </a:xfrm>
        </p:grpSpPr>
        <p:grpSp>
          <p:nvGrpSpPr>
            <p:cNvPr id="2143" name=""/>
            <p:cNvGrpSpPr/>
            <p:nvPr/>
          </p:nvGrpSpPr>
          <p:grpSpPr>
            <a:xfrm>
              <a:off x="7310520" y="2119320"/>
              <a:ext cx="482400" cy="531360"/>
              <a:chOff x="7310520" y="2119320"/>
              <a:chExt cx="482400" cy="531360"/>
            </a:xfrm>
          </p:grpSpPr>
          <p:sp>
            <p:nvSpPr>
              <p:cNvPr id="2144" name=""/>
              <p:cNvSpPr/>
              <p:nvPr/>
            </p:nvSpPr>
            <p:spPr>
              <a:xfrm>
                <a:off x="73105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4595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6" name=""/>
            <p:cNvSpPr/>
            <p:nvPr/>
          </p:nvSpPr>
          <p:spPr>
            <a:xfrm>
              <a:off x="686700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7572240" y="206208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9706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9" name=""/>
          <p:cNvGrpSpPr/>
          <p:nvPr/>
        </p:nvGrpSpPr>
        <p:grpSpPr>
          <a:xfrm>
            <a:off x="8061480" y="1084320"/>
            <a:ext cx="482400" cy="531360"/>
            <a:chOff x="8061480" y="1084320"/>
            <a:chExt cx="482400" cy="531360"/>
          </a:xfrm>
        </p:grpSpPr>
        <p:sp>
          <p:nvSpPr>
            <p:cNvPr id="2150" name=""/>
            <p:cNvSpPr/>
            <p:nvPr/>
          </p:nvSpPr>
          <p:spPr>
            <a:xfrm>
              <a:off x="806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21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3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6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7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8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159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2162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2163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5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169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170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2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3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174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175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7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179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182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183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5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8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189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1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192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193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199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200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2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3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204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6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207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208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0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212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3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214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6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8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219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1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222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223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6867000" y="2062080"/>
            <a:ext cx="935640" cy="588600"/>
            <a:chOff x="6867000" y="2062080"/>
            <a:chExt cx="935640" cy="588600"/>
          </a:xfrm>
        </p:grpSpPr>
        <p:grpSp>
          <p:nvGrpSpPr>
            <p:cNvPr id="2227" name=""/>
            <p:cNvGrpSpPr/>
            <p:nvPr/>
          </p:nvGrpSpPr>
          <p:grpSpPr>
            <a:xfrm>
              <a:off x="7310520" y="2119320"/>
              <a:ext cx="482400" cy="531360"/>
              <a:chOff x="7310520" y="2119320"/>
              <a:chExt cx="482400" cy="531360"/>
            </a:xfrm>
          </p:grpSpPr>
          <p:sp>
            <p:nvSpPr>
              <p:cNvPr id="2228" name=""/>
              <p:cNvSpPr/>
              <p:nvPr/>
            </p:nvSpPr>
            <p:spPr>
              <a:xfrm>
                <a:off x="73105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4595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0" name=""/>
            <p:cNvSpPr/>
            <p:nvPr/>
          </p:nvSpPr>
          <p:spPr>
            <a:xfrm>
              <a:off x="686700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7572240" y="206208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9706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8061480" y="1084320"/>
            <a:ext cx="482400" cy="531360"/>
            <a:chOff x="8061480" y="1084320"/>
            <a:chExt cx="482400" cy="531360"/>
          </a:xfrm>
        </p:grpSpPr>
        <p:sp>
          <p:nvSpPr>
            <p:cNvPr id="2234" name=""/>
            <p:cNvSpPr/>
            <p:nvPr/>
          </p:nvSpPr>
          <p:spPr>
            <a:xfrm>
              <a:off x="806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21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7804080" y="1603440"/>
            <a:ext cx="1011240" cy="531360"/>
            <a:chOff x="7804080" y="1603440"/>
            <a:chExt cx="1011240" cy="531360"/>
          </a:xfrm>
        </p:grpSpPr>
        <p:grpSp>
          <p:nvGrpSpPr>
            <p:cNvPr id="2237" name=""/>
            <p:cNvGrpSpPr/>
            <p:nvPr/>
          </p:nvGrpSpPr>
          <p:grpSpPr>
            <a:xfrm>
              <a:off x="7804080" y="1603440"/>
              <a:ext cx="482400" cy="531360"/>
              <a:chOff x="7804080" y="1603440"/>
              <a:chExt cx="482400" cy="531360"/>
            </a:xfrm>
          </p:grpSpPr>
          <p:sp>
            <p:nvSpPr>
              <p:cNvPr id="2238" name=""/>
              <p:cNvSpPr/>
              <p:nvPr/>
            </p:nvSpPr>
            <p:spPr>
              <a:xfrm>
                <a:off x="78040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95312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0" name=""/>
            <p:cNvSpPr/>
            <p:nvPr/>
          </p:nvSpPr>
          <p:spPr>
            <a:xfrm>
              <a:off x="81007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5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1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42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5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6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7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248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0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2251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2252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4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258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259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1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263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264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6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7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268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0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271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272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4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278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281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282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4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7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288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289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1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2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293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296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297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9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0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301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2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303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308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0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311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312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4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5" name=""/>
          <p:cNvGrpSpPr/>
          <p:nvPr/>
        </p:nvGrpSpPr>
        <p:grpSpPr>
          <a:xfrm>
            <a:off x="6867000" y="2062080"/>
            <a:ext cx="935640" cy="588600"/>
            <a:chOff x="6867000" y="2062080"/>
            <a:chExt cx="935640" cy="588600"/>
          </a:xfrm>
        </p:grpSpPr>
        <p:grpSp>
          <p:nvGrpSpPr>
            <p:cNvPr id="2316" name=""/>
            <p:cNvGrpSpPr/>
            <p:nvPr/>
          </p:nvGrpSpPr>
          <p:grpSpPr>
            <a:xfrm>
              <a:off x="7310520" y="2119320"/>
              <a:ext cx="482400" cy="531360"/>
              <a:chOff x="7310520" y="2119320"/>
              <a:chExt cx="482400" cy="531360"/>
            </a:xfrm>
          </p:grpSpPr>
          <p:sp>
            <p:nvSpPr>
              <p:cNvPr id="2317" name=""/>
              <p:cNvSpPr/>
              <p:nvPr/>
            </p:nvSpPr>
            <p:spPr>
              <a:xfrm>
                <a:off x="73105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4595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9" name=""/>
            <p:cNvSpPr/>
            <p:nvPr/>
          </p:nvSpPr>
          <p:spPr>
            <a:xfrm>
              <a:off x="686700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7572240" y="206208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9706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2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23" name=""/>
          <p:cNvGrpSpPr/>
          <p:nvPr/>
        </p:nvGrpSpPr>
        <p:grpSpPr>
          <a:xfrm>
            <a:off x="8061480" y="1084320"/>
            <a:ext cx="482400" cy="531360"/>
            <a:chOff x="8061480" y="1084320"/>
            <a:chExt cx="482400" cy="531360"/>
          </a:xfrm>
        </p:grpSpPr>
        <p:sp>
          <p:nvSpPr>
            <p:cNvPr id="2324" name=""/>
            <p:cNvSpPr/>
            <p:nvPr/>
          </p:nvSpPr>
          <p:spPr>
            <a:xfrm>
              <a:off x="806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821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6" name=""/>
          <p:cNvGrpSpPr/>
          <p:nvPr/>
        </p:nvGrpSpPr>
        <p:grpSpPr>
          <a:xfrm>
            <a:off x="7791120" y="2054160"/>
            <a:ext cx="921240" cy="596520"/>
            <a:chOff x="7791120" y="2054160"/>
            <a:chExt cx="921240" cy="596520"/>
          </a:xfrm>
        </p:grpSpPr>
        <p:sp>
          <p:nvSpPr>
            <p:cNvPr id="2327" name=""/>
            <p:cNvSpPr/>
            <p:nvPr/>
          </p:nvSpPr>
          <p:spPr>
            <a:xfrm flipH="1">
              <a:off x="84819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8" name=""/>
            <p:cNvGrpSpPr/>
            <p:nvPr/>
          </p:nvGrpSpPr>
          <p:grpSpPr>
            <a:xfrm>
              <a:off x="8224920" y="2119320"/>
              <a:ext cx="482400" cy="531360"/>
              <a:chOff x="8224920" y="2119320"/>
              <a:chExt cx="482400" cy="531360"/>
            </a:xfrm>
          </p:grpSpPr>
          <p:sp>
            <p:nvSpPr>
              <p:cNvPr id="2329" name=""/>
              <p:cNvSpPr/>
              <p:nvPr/>
            </p:nvSpPr>
            <p:spPr>
              <a:xfrm>
                <a:off x="82249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37396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"/>
            <p:cNvSpPr/>
            <p:nvPr/>
          </p:nvSpPr>
          <p:spPr>
            <a:xfrm>
              <a:off x="78962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5.5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7911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7804080" y="1603440"/>
            <a:ext cx="1011240" cy="531360"/>
            <a:chOff x="7804080" y="1603440"/>
            <a:chExt cx="1011240" cy="531360"/>
          </a:xfrm>
        </p:grpSpPr>
        <p:grpSp>
          <p:nvGrpSpPr>
            <p:cNvPr id="2334" name=""/>
            <p:cNvGrpSpPr/>
            <p:nvPr/>
          </p:nvGrpSpPr>
          <p:grpSpPr>
            <a:xfrm>
              <a:off x="7804080" y="1603440"/>
              <a:ext cx="482400" cy="531360"/>
              <a:chOff x="7804080" y="1603440"/>
              <a:chExt cx="482400" cy="531360"/>
            </a:xfrm>
          </p:grpSpPr>
          <p:sp>
            <p:nvSpPr>
              <p:cNvPr id="2335" name=""/>
              <p:cNvSpPr/>
              <p:nvPr/>
            </p:nvSpPr>
            <p:spPr>
              <a:xfrm>
                <a:off x="78040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95312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7" name=""/>
            <p:cNvSpPr/>
            <p:nvPr/>
          </p:nvSpPr>
          <p:spPr>
            <a:xfrm>
              <a:off x="81007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5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9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40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3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4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346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8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2349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2350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2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356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357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9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0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361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362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4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366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369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370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376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379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380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2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386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387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9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391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394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395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7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8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399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0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401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3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5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406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8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409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410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2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3" name=""/>
          <p:cNvSpPr/>
          <p:nvPr/>
        </p:nvSpPr>
        <p:spPr>
          <a:xfrm>
            <a:off x="7310520" y="2119320"/>
            <a:ext cx="4824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7459560" y="2381400"/>
            <a:ext cx="1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6867000" y="2062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H="1">
            <a:off x="7572240" y="2062080"/>
            <a:ext cx="2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6970680" y="22194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7804080" y="1603440"/>
            <a:ext cx="1011240" cy="531360"/>
            <a:chOff x="7804080" y="1603440"/>
            <a:chExt cx="1011240" cy="531360"/>
          </a:xfrm>
        </p:grpSpPr>
        <p:grpSp>
          <p:nvGrpSpPr>
            <p:cNvPr id="2419" name=""/>
            <p:cNvGrpSpPr/>
            <p:nvPr/>
          </p:nvGrpSpPr>
          <p:grpSpPr>
            <a:xfrm>
              <a:off x="7804080" y="1603440"/>
              <a:ext cx="482400" cy="531360"/>
              <a:chOff x="7804080" y="1603440"/>
              <a:chExt cx="482400" cy="531360"/>
            </a:xfrm>
          </p:grpSpPr>
          <p:sp>
            <p:nvSpPr>
              <p:cNvPr id="2420" name=""/>
              <p:cNvSpPr/>
              <p:nvPr/>
            </p:nvSpPr>
            <p:spPr>
              <a:xfrm>
                <a:off x="78040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95312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2" name=""/>
            <p:cNvSpPr/>
            <p:nvPr/>
          </p:nvSpPr>
          <p:spPr>
            <a:xfrm>
              <a:off x="81007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5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3" name=""/>
          <p:cNvGrpSpPr/>
          <p:nvPr/>
        </p:nvGrpSpPr>
        <p:grpSpPr>
          <a:xfrm>
            <a:off x="7791120" y="2054160"/>
            <a:ext cx="921240" cy="596520"/>
            <a:chOff x="7791120" y="2054160"/>
            <a:chExt cx="921240" cy="596520"/>
          </a:xfrm>
        </p:grpSpPr>
        <p:sp>
          <p:nvSpPr>
            <p:cNvPr id="2424" name=""/>
            <p:cNvSpPr/>
            <p:nvPr/>
          </p:nvSpPr>
          <p:spPr>
            <a:xfrm flipH="1">
              <a:off x="84819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5" name=""/>
            <p:cNvGrpSpPr/>
            <p:nvPr/>
          </p:nvGrpSpPr>
          <p:grpSpPr>
            <a:xfrm>
              <a:off x="8224920" y="2119320"/>
              <a:ext cx="482400" cy="531360"/>
              <a:chOff x="8224920" y="2119320"/>
              <a:chExt cx="482400" cy="531360"/>
            </a:xfrm>
          </p:grpSpPr>
          <p:sp>
            <p:nvSpPr>
              <p:cNvPr id="2426" name=""/>
              <p:cNvSpPr/>
              <p:nvPr/>
            </p:nvSpPr>
            <p:spPr>
              <a:xfrm>
                <a:off x="82249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837396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8" name=""/>
            <p:cNvSpPr/>
            <p:nvPr/>
          </p:nvSpPr>
          <p:spPr>
            <a:xfrm>
              <a:off x="78962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5.5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7911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8061480" y="1084320"/>
            <a:ext cx="482400" cy="531360"/>
            <a:chOff x="8061480" y="1084320"/>
            <a:chExt cx="482400" cy="531360"/>
          </a:xfrm>
        </p:grpSpPr>
        <p:sp>
          <p:nvSpPr>
            <p:cNvPr id="2431" name=""/>
            <p:cNvSpPr/>
            <p:nvPr/>
          </p:nvSpPr>
          <p:spPr>
            <a:xfrm>
              <a:off x="806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21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5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4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35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8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9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388800" y="2936880"/>
            <a:ext cx="4348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we can continue drawing our graph along this same trajectory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1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442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2445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2446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8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452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453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5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457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458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0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462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4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465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466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8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472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4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475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476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8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482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483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5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6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487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490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491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4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495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6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497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9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502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4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505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506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8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9" name=""/>
          <p:cNvGrpSpPr/>
          <p:nvPr/>
        </p:nvGrpSpPr>
        <p:grpSpPr>
          <a:xfrm>
            <a:off x="7310520" y="2119320"/>
            <a:ext cx="482400" cy="531360"/>
            <a:chOff x="7310520" y="2119320"/>
            <a:chExt cx="482400" cy="531360"/>
          </a:xfrm>
        </p:grpSpPr>
        <p:sp>
          <p:nvSpPr>
            <p:cNvPr id="2510" name=""/>
            <p:cNvSpPr/>
            <p:nvPr/>
          </p:nvSpPr>
          <p:spPr>
            <a:xfrm>
              <a:off x="7310520" y="2119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459560" y="2381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2" name=""/>
          <p:cNvSpPr/>
          <p:nvPr/>
        </p:nvSpPr>
        <p:spPr>
          <a:xfrm>
            <a:off x="6867000" y="2062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 flipH="1">
            <a:off x="7572240" y="2062080"/>
            <a:ext cx="2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6970680" y="22194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5" name=""/>
          <p:cNvGrpSpPr/>
          <p:nvPr/>
        </p:nvGrpSpPr>
        <p:grpSpPr>
          <a:xfrm>
            <a:off x="8061480" y="1084320"/>
            <a:ext cx="482400" cy="531360"/>
            <a:chOff x="8061480" y="1084320"/>
            <a:chExt cx="482400" cy="531360"/>
          </a:xfrm>
        </p:grpSpPr>
        <p:sp>
          <p:nvSpPr>
            <p:cNvPr id="2516" name=""/>
            <p:cNvSpPr/>
            <p:nvPr/>
          </p:nvSpPr>
          <p:spPr>
            <a:xfrm>
              <a:off x="806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821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8" name=""/>
          <p:cNvGrpSpPr/>
          <p:nvPr/>
        </p:nvGrpSpPr>
        <p:grpSpPr>
          <a:xfrm>
            <a:off x="7804080" y="1603440"/>
            <a:ext cx="1011240" cy="531360"/>
            <a:chOff x="7804080" y="1603440"/>
            <a:chExt cx="1011240" cy="531360"/>
          </a:xfrm>
        </p:grpSpPr>
        <p:grpSp>
          <p:nvGrpSpPr>
            <p:cNvPr id="2519" name=""/>
            <p:cNvGrpSpPr/>
            <p:nvPr/>
          </p:nvGrpSpPr>
          <p:grpSpPr>
            <a:xfrm>
              <a:off x="7804080" y="1603440"/>
              <a:ext cx="482400" cy="531360"/>
              <a:chOff x="7804080" y="1603440"/>
              <a:chExt cx="482400" cy="531360"/>
            </a:xfrm>
          </p:grpSpPr>
          <p:sp>
            <p:nvSpPr>
              <p:cNvPr id="2520" name=""/>
              <p:cNvSpPr/>
              <p:nvPr/>
            </p:nvSpPr>
            <p:spPr>
              <a:xfrm>
                <a:off x="78040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9531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2" name=""/>
            <p:cNvSpPr/>
            <p:nvPr/>
          </p:nvSpPr>
          <p:spPr>
            <a:xfrm>
              <a:off x="81007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3" name=""/>
          <p:cNvGrpSpPr/>
          <p:nvPr/>
        </p:nvGrpSpPr>
        <p:grpSpPr>
          <a:xfrm>
            <a:off x="7791120" y="2054160"/>
            <a:ext cx="921240" cy="596520"/>
            <a:chOff x="7791120" y="2054160"/>
            <a:chExt cx="921240" cy="596520"/>
          </a:xfrm>
        </p:grpSpPr>
        <p:sp>
          <p:nvSpPr>
            <p:cNvPr id="2524" name=""/>
            <p:cNvSpPr/>
            <p:nvPr/>
          </p:nvSpPr>
          <p:spPr>
            <a:xfrm flipH="1">
              <a:off x="84819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5" name=""/>
            <p:cNvGrpSpPr/>
            <p:nvPr/>
          </p:nvGrpSpPr>
          <p:grpSpPr>
            <a:xfrm>
              <a:off x="8224920" y="2119320"/>
              <a:ext cx="482400" cy="531360"/>
              <a:chOff x="8224920" y="2119320"/>
              <a:chExt cx="482400" cy="531360"/>
            </a:xfrm>
          </p:grpSpPr>
          <p:sp>
            <p:nvSpPr>
              <p:cNvPr id="2526" name=""/>
              <p:cNvSpPr/>
              <p:nvPr/>
            </p:nvSpPr>
            <p:spPr>
              <a:xfrm>
                <a:off x="82249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3739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8" name=""/>
            <p:cNvSpPr/>
            <p:nvPr/>
          </p:nvSpPr>
          <p:spPr>
            <a:xfrm>
              <a:off x="78962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.5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7911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50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0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3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388800" y="2936880"/>
            <a:ext cx="4348440" cy="16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we can continue drawing our graph along this same trajectory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 o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chimedean Spi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538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0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2541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2542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4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7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548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549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1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2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553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554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7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558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0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561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562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4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568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571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572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578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579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1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583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586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587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9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0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591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2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593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5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598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601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602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4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7310520" y="2119320"/>
            <a:ext cx="482400" cy="531360"/>
            <a:chOff x="7310520" y="2119320"/>
            <a:chExt cx="482400" cy="531360"/>
          </a:xfrm>
        </p:grpSpPr>
        <p:sp>
          <p:nvSpPr>
            <p:cNvPr id="2606" name=""/>
            <p:cNvSpPr/>
            <p:nvPr/>
          </p:nvSpPr>
          <p:spPr>
            <a:xfrm>
              <a:off x="7310520" y="2119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459560" y="2381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8" name=""/>
          <p:cNvSpPr/>
          <p:nvPr/>
        </p:nvSpPr>
        <p:spPr>
          <a:xfrm>
            <a:off x="6867000" y="2062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 flipH="1">
            <a:off x="7572240" y="2062080"/>
            <a:ext cx="2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6970680" y="22194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1" name=""/>
          <p:cNvGrpSpPr/>
          <p:nvPr/>
        </p:nvGrpSpPr>
        <p:grpSpPr>
          <a:xfrm>
            <a:off x="8061480" y="1084320"/>
            <a:ext cx="482400" cy="531360"/>
            <a:chOff x="8061480" y="1084320"/>
            <a:chExt cx="482400" cy="531360"/>
          </a:xfrm>
        </p:grpSpPr>
        <p:sp>
          <p:nvSpPr>
            <p:cNvPr id="2612" name=""/>
            <p:cNvSpPr/>
            <p:nvPr/>
          </p:nvSpPr>
          <p:spPr>
            <a:xfrm>
              <a:off x="806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21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7804080" y="1603440"/>
            <a:ext cx="1011240" cy="531360"/>
            <a:chOff x="7804080" y="1603440"/>
            <a:chExt cx="1011240" cy="531360"/>
          </a:xfrm>
        </p:grpSpPr>
        <p:grpSp>
          <p:nvGrpSpPr>
            <p:cNvPr id="2615" name=""/>
            <p:cNvGrpSpPr/>
            <p:nvPr/>
          </p:nvGrpSpPr>
          <p:grpSpPr>
            <a:xfrm>
              <a:off x="7804080" y="1603440"/>
              <a:ext cx="482400" cy="531360"/>
              <a:chOff x="7804080" y="1603440"/>
              <a:chExt cx="482400" cy="531360"/>
            </a:xfrm>
          </p:grpSpPr>
          <p:sp>
            <p:nvSpPr>
              <p:cNvPr id="2616" name=""/>
              <p:cNvSpPr/>
              <p:nvPr/>
            </p:nvSpPr>
            <p:spPr>
              <a:xfrm>
                <a:off x="78040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9531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8" name=""/>
            <p:cNvSpPr/>
            <p:nvPr/>
          </p:nvSpPr>
          <p:spPr>
            <a:xfrm>
              <a:off x="81007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7791120" y="2054160"/>
            <a:ext cx="921240" cy="596520"/>
            <a:chOff x="7791120" y="2054160"/>
            <a:chExt cx="921240" cy="596520"/>
          </a:xfrm>
        </p:grpSpPr>
        <p:sp>
          <p:nvSpPr>
            <p:cNvPr id="2620" name=""/>
            <p:cNvSpPr/>
            <p:nvPr/>
          </p:nvSpPr>
          <p:spPr>
            <a:xfrm flipH="1">
              <a:off x="84819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1" name=""/>
            <p:cNvGrpSpPr/>
            <p:nvPr/>
          </p:nvGrpSpPr>
          <p:grpSpPr>
            <a:xfrm>
              <a:off x="8224920" y="2119320"/>
              <a:ext cx="482400" cy="531360"/>
              <a:chOff x="8224920" y="2119320"/>
              <a:chExt cx="482400" cy="531360"/>
            </a:xfrm>
          </p:grpSpPr>
          <p:sp>
            <p:nvSpPr>
              <p:cNvPr id="2622" name=""/>
              <p:cNvSpPr/>
              <p:nvPr/>
            </p:nvSpPr>
            <p:spPr>
              <a:xfrm>
                <a:off x="82249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83739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4" name=""/>
            <p:cNvSpPr/>
            <p:nvPr/>
          </p:nvSpPr>
          <p:spPr>
            <a:xfrm>
              <a:off x="78962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.5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7911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800" y="2936880"/>
            <a:ext cx="4380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800" y="2936880"/>
            <a:ext cx="4380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800" y="2936880"/>
            <a:ext cx="4380120" cy="126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800" y="2936880"/>
            <a:ext cx="4380120" cy="126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7:53:17Z</dcterms:created>
  <dc:creator>Peter Haberman</dc:creator>
  <dc:description/>
  <dc:language>en-US</dc:language>
  <cp:lastModifiedBy>Peter Haberman</cp:lastModifiedBy>
  <dcterms:modified xsi:type="dcterms:W3CDTF">2006-02-04T05:07:15Z</dcterms:modified>
  <cp:revision>16</cp:revision>
  <dc:subject/>
  <dc:title>Graphing </dc:title>
</cp:coreProperties>
</file>