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F42-E759-4D53-ACA1-9EC15E93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8D9-3C70-451E-A8CE-E605B9F6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665-B005-4071-A430-04FF8B5E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866-EAD6-4496-801F-202393E8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BF1-EBDE-4584-AB7C-262D6176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786-71CB-4F96-AD77-DF675E98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395-B41C-4296-9B37-4FD26D86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145-5024-4050-81F1-C4068D9F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4AC-C090-4B74-94CD-3F7FE127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9C3-DFE0-423D-B383-58DA1A4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FD4-BCBD-432E-9CAD-90AFAF4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52C-03B3-4F6F-A9BF-97798021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DBD-1287-484E-AE08-0881DD6D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800" y="2936880"/>
            <a:ext cx="438012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us the ordered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800" y="2936880"/>
            <a:ext cx="438012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us the ordered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800" y="2936880"/>
            <a:ext cx="438012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us the ordered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800" y="2936880"/>
            <a:ext cx="45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800" y="2936880"/>
            <a:ext cx="452916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28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1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4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14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5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60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163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6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6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71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7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7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18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189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192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9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0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0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21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21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22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22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207880" y="2062080"/>
            <a:ext cx="925920" cy="588600"/>
            <a:chOff x="2207880" y="2062080"/>
            <a:chExt cx="925920" cy="588600"/>
          </a:xfrm>
        </p:grpSpPr>
        <p:grpSp>
          <p:nvGrpSpPr>
            <p:cNvPr id="227" name=""/>
            <p:cNvGrpSpPr/>
            <p:nvPr/>
          </p:nvGrpSpPr>
          <p:grpSpPr>
            <a:xfrm>
              <a:off x="2651400" y="2119320"/>
              <a:ext cx="482400" cy="531360"/>
              <a:chOff x="2651400" y="2119320"/>
              <a:chExt cx="482400" cy="531360"/>
            </a:xfrm>
          </p:grpSpPr>
          <p:sp>
            <p:nvSpPr>
              <p:cNvPr id="228" name=""/>
              <p:cNvSpPr/>
              <p:nvPr/>
            </p:nvSpPr>
            <p:spPr>
              <a:xfrm>
                <a:off x="26514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0044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2078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983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227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3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3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3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800" y="2936880"/>
            <a:ext cx="4529160" cy="2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249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252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255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256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07880" y="2062080"/>
            <a:ext cx="925920" cy="588600"/>
            <a:chOff x="2207880" y="2062080"/>
            <a:chExt cx="925920" cy="588600"/>
          </a:xfrm>
        </p:grpSpPr>
        <p:grpSp>
          <p:nvGrpSpPr>
            <p:cNvPr id="262" name=""/>
            <p:cNvGrpSpPr/>
            <p:nvPr/>
          </p:nvGrpSpPr>
          <p:grpSpPr>
            <a:xfrm>
              <a:off x="2651400" y="2119320"/>
              <a:ext cx="482400" cy="531360"/>
              <a:chOff x="2651400" y="2119320"/>
              <a:chExt cx="482400" cy="531360"/>
            </a:xfrm>
          </p:grpSpPr>
          <p:sp>
            <p:nvSpPr>
              <p:cNvPr id="263" name=""/>
              <p:cNvSpPr/>
              <p:nvPr/>
            </p:nvSpPr>
            <p:spPr>
              <a:xfrm>
                <a:off x="26514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0044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2078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8983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227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03200" y="1042920"/>
            <a:ext cx="6004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ketch the graph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should find some ordered pairs that satisfy the function.  Since this function involves polar coordinates, we are looking for pairs of the for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7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73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74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8800" y="2936880"/>
            <a:ext cx="4529160" cy="26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 and connect the point we already graphed with this new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28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28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29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207880" y="2062080"/>
            <a:ext cx="925920" cy="588600"/>
            <a:chOff x="2207880" y="2062080"/>
            <a:chExt cx="925920" cy="588600"/>
          </a:xfrm>
        </p:grpSpPr>
        <p:grpSp>
          <p:nvGrpSpPr>
            <p:cNvPr id="297" name=""/>
            <p:cNvGrpSpPr/>
            <p:nvPr/>
          </p:nvGrpSpPr>
          <p:grpSpPr>
            <a:xfrm>
              <a:off x="2651400" y="2119320"/>
              <a:ext cx="482400" cy="531360"/>
              <a:chOff x="2651400" y="2119320"/>
              <a:chExt cx="482400" cy="531360"/>
            </a:xfrm>
          </p:grpSpPr>
          <p:sp>
            <p:nvSpPr>
              <p:cNvPr id="298" name=""/>
              <p:cNvSpPr/>
              <p:nvPr/>
            </p:nvSpPr>
            <p:spPr>
              <a:xfrm>
                <a:off x="26514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0044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2078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983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227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800" y="2936880"/>
            <a:ext cx="45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31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317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318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32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32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800" y="2936880"/>
            <a:ext cx="452916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33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33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34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34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34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35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35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36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36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37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37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37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38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38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38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395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398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401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404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405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411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412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41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41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431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434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43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44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44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447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448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45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45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45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46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46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47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47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48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48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48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49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49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49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49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50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50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50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51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51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8800" y="2936880"/>
            <a:ext cx="4529160" cy="2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524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527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53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53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53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540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541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54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54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5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55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55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56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56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56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800" y="2936880"/>
            <a:ext cx="4529160" cy="26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 and connect it with what we’ve graphed s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57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579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58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58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58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476160" y="4087800"/>
            <a:ext cx="925920" cy="588600"/>
            <a:chOff x="3476160" y="4087800"/>
            <a:chExt cx="925920" cy="588600"/>
          </a:xfrm>
        </p:grpSpPr>
        <p:grpSp>
          <p:nvGrpSpPr>
            <p:cNvPr id="592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593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66640" y="408780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59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60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60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60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60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61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61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5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8800" y="2936880"/>
            <a:ext cx="452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625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628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629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63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63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64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64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64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64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64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03200" y="1042920"/>
            <a:ext cx="600408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ketch the graph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should find some ordered pairs that satisfy the function.  Since this function involves polar coordinates, we are looking for pairs of the for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onstruct a table so that we can find ordered pairs on the graph 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8800" y="2936880"/>
            <a:ext cx="4529160" cy="9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663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66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66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67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67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67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68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68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68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68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69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69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706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709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71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71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71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72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72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72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72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73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73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73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74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8800" y="2936880"/>
            <a:ext cx="4529160" cy="16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752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755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75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76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76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76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76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77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77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77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78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78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78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791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792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803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806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80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81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81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819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820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82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82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83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83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83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83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84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84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84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85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88800" y="2936880"/>
            <a:ext cx="452916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861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864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86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87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87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877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878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88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88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88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89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89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89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89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904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90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90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91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91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8800" y="2936880"/>
            <a:ext cx="4529160" cy="2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927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930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933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936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937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943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944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95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95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955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956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960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96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96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970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973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974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978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979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8800" y="2936880"/>
            <a:ext cx="4529160" cy="26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choose another value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approximate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This gives us the ordered p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ordered pair on our polar coordinate plane, and connect it with what we’ve graphed s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939960" y="3430440"/>
            <a:ext cx="482400" cy="531360"/>
            <a:chOff x="939960" y="3430440"/>
            <a:chExt cx="482400" cy="531360"/>
          </a:xfrm>
        </p:grpSpPr>
        <p:sp>
          <p:nvSpPr>
            <p:cNvPr id="992" name=""/>
            <p:cNvSpPr/>
            <p:nvPr/>
          </p:nvSpPr>
          <p:spPr>
            <a:xfrm>
              <a:off x="939960" y="343044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89000" y="36925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1549440" y="3798720"/>
            <a:ext cx="482400" cy="531360"/>
            <a:chOff x="1549440" y="3798720"/>
            <a:chExt cx="482400" cy="531360"/>
          </a:xfrm>
        </p:grpSpPr>
        <p:sp>
          <p:nvSpPr>
            <p:cNvPr id="995" name=""/>
            <p:cNvSpPr/>
            <p:nvPr/>
          </p:nvSpPr>
          <p:spPr>
            <a:xfrm>
              <a:off x="1549440" y="37987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98480" y="406080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99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00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00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3476160" y="4087800"/>
            <a:ext cx="932400" cy="588600"/>
            <a:chOff x="3476160" y="4087800"/>
            <a:chExt cx="932400" cy="588600"/>
          </a:xfrm>
        </p:grpSpPr>
        <p:grpSp>
          <p:nvGrpSpPr>
            <p:cNvPr id="1008" name=""/>
            <p:cNvGrpSpPr/>
            <p:nvPr/>
          </p:nvGrpSpPr>
          <p:grpSpPr>
            <a:xfrm>
              <a:off x="3919680" y="4145040"/>
              <a:ext cx="482400" cy="531360"/>
              <a:chOff x="3919680" y="4145040"/>
              <a:chExt cx="482400" cy="531360"/>
            </a:xfrm>
          </p:grpSpPr>
          <p:sp>
            <p:nvSpPr>
              <p:cNvPr id="1009" name=""/>
              <p:cNvSpPr/>
              <p:nvPr/>
            </p:nvSpPr>
            <p:spPr>
              <a:xfrm>
                <a:off x="3919680" y="41450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68720" y="44067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3476160" y="4087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178160" y="408780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91000" y="424512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01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02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02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02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02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02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035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03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03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043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800" y="2936880"/>
            <a:ext cx="434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05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06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06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06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06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07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07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07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08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08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08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09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09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09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88800" y="2936880"/>
            <a:ext cx="4348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the corresponding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11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11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11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12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12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125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126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130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13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13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140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143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144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150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151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88800" y="2936880"/>
            <a:ext cx="434844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the corresponding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the ordered pai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our polar coordinate pla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16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16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16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17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17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17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18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18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18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19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195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196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202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203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800" y="2936880"/>
            <a:ext cx="43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t’s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ind the corresponding values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n form ordered pai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88800" y="2936880"/>
            <a:ext cx="4348440" cy="158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tinue to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the corresponding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the ordered pai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our polar coordinate plane, and connect our points to obtain a graph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21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217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22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22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23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23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23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23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244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247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248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254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265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268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269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27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27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28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28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28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28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28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295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298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299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305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306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4" name=""/>
          <p:cNvSpPr/>
          <p:nvPr/>
        </p:nvSpPr>
        <p:spPr>
          <a:xfrm>
            <a:off x="536400" y="3051000"/>
            <a:ext cx="39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1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31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32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32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33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33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33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33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34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34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349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350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356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357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36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37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37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382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383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387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390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391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397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400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401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40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40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41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42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42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42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42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43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43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43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44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44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44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45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45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45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45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2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46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47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47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47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48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48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48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489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49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49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499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50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50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50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51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5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52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52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52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53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53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53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54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54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54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55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555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556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8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562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563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567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57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57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58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58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58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59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59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59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59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60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60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609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616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617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621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622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626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0" name="" descr=""/>
          <p:cNvPicPr/>
          <p:nvPr/>
        </p:nvPicPr>
        <p:blipFill>
          <a:blip r:embed="rId3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63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64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64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64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64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652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653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657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660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661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3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667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670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671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67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67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682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684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689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692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693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7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1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703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706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707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9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713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714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718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719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723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726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727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733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736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737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743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744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6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748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750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55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756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759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760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2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5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800" y="2936880"/>
            <a:ext cx="43801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t’s choose values 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ind the corresponding values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hen form ordered pai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then plot these ordered pairs on a polar coordinate plane to obtain a graph of the fun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770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773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774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780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781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785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786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790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793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794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6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800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803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804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810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3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815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818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819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823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825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1830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83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84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84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84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85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85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85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859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86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86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869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87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87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87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88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884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887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888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0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892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3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894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1899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1902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1903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"/>
          <p:cNvGrpSpPr/>
          <p:nvPr/>
        </p:nvGrpSpPr>
        <p:grpSpPr>
          <a:xfrm>
            <a:off x="6970680" y="2119320"/>
            <a:ext cx="822240" cy="531360"/>
            <a:chOff x="6970680" y="2119320"/>
            <a:chExt cx="822240" cy="531360"/>
          </a:xfrm>
        </p:grpSpPr>
        <p:sp>
          <p:nvSpPr>
            <p:cNvPr id="1907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459560" y="238140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917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920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921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3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1927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1928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1932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1933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5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1937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1940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1941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1947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1950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1951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3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1957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1958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1962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1965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1966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8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1970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1972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8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79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1980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1983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1984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6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1994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1997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1998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004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009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010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2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014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017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018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0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024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027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028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034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035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039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042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043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047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8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049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054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055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7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8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6970680" y="2119320"/>
            <a:ext cx="822240" cy="531360"/>
            <a:chOff x="6970680" y="2119320"/>
            <a:chExt cx="822240" cy="531360"/>
          </a:xfrm>
        </p:grpSpPr>
        <p:sp>
          <p:nvSpPr>
            <p:cNvPr id="2061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459560" y="238140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65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066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5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9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2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3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075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078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079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1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085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086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090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091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3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095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098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099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1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105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108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109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1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115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116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8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120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123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124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7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128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9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130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135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138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139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6867000" y="2062080"/>
            <a:ext cx="935640" cy="588600"/>
            <a:chOff x="6867000" y="2062080"/>
            <a:chExt cx="935640" cy="588600"/>
          </a:xfrm>
        </p:grpSpPr>
        <p:grpSp>
          <p:nvGrpSpPr>
            <p:cNvPr id="2143" name=""/>
            <p:cNvGrpSpPr/>
            <p:nvPr/>
          </p:nvGrpSpPr>
          <p:grpSpPr>
            <a:xfrm>
              <a:off x="7310520" y="2119320"/>
              <a:ext cx="482400" cy="531360"/>
              <a:chOff x="7310520" y="2119320"/>
              <a:chExt cx="482400" cy="531360"/>
            </a:xfrm>
          </p:grpSpPr>
          <p:sp>
            <p:nvSpPr>
              <p:cNvPr id="2144" name=""/>
              <p:cNvSpPr/>
              <p:nvPr/>
            </p:nvSpPr>
            <p:spPr>
              <a:xfrm>
                <a:off x="73105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4595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6" name=""/>
            <p:cNvSpPr/>
            <p:nvPr/>
          </p:nvSpPr>
          <p:spPr>
            <a:xfrm>
              <a:off x="686700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7572240" y="206208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150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3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6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7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8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159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162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163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5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169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170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2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174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175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7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179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182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183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189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192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193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199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200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3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204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207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208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0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212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3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214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219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222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223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6867000" y="2062080"/>
            <a:ext cx="935640" cy="588600"/>
            <a:chOff x="6867000" y="2062080"/>
            <a:chExt cx="935640" cy="588600"/>
          </a:xfrm>
        </p:grpSpPr>
        <p:grpSp>
          <p:nvGrpSpPr>
            <p:cNvPr id="2227" name=""/>
            <p:cNvGrpSpPr/>
            <p:nvPr/>
          </p:nvGrpSpPr>
          <p:grpSpPr>
            <a:xfrm>
              <a:off x="7310520" y="2119320"/>
              <a:ext cx="482400" cy="531360"/>
              <a:chOff x="7310520" y="2119320"/>
              <a:chExt cx="482400" cy="531360"/>
            </a:xfrm>
          </p:grpSpPr>
          <p:sp>
            <p:nvSpPr>
              <p:cNvPr id="2228" name=""/>
              <p:cNvSpPr/>
              <p:nvPr/>
            </p:nvSpPr>
            <p:spPr>
              <a:xfrm>
                <a:off x="73105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4595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0" name=""/>
            <p:cNvSpPr/>
            <p:nvPr/>
          </p:nvSpPr>
          <p:spPr>
            <a:xfrm>
              <a:off x="686700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7572240" y="206208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234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237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238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1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2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5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6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24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25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25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25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25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26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26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26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27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27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27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28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28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28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28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293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296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297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9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0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301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303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308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311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312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4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6867000" y="2062080"/>
            <a:ext cx="935640" cy="588600"/>
            <a:chOff x="6867000" y="2062080"/>
            <a:chExt cx="935640" cy="588600"/>
          </a:xfrm>
        </p:grpSpPr>
        <p:grpSp>
          <p:nvGrpSpPr>
            <p:cNvPr id="2316" name=""/>
            <p:cNvGrpSpPr/>
            <p:nvPr/>
          </p:nvGrpSpPr>
          <p:grpSpPr>
            <a:xfrm>
              <a:off x="7310520" y="2119320"/>
              <a:ext cx="482400" cy="531360"/>
              <a:chOff x="7310520" y="2119320"/>
              <a:chExt cx="482400" cy="531360"/>
            </a:xfrm>
          </p:grpSpPr>
          <p:sp>
            <p:nvSpPr>
              <p:cNvPr id="2317" name=""/>
              <p:cNvSpPr/>
              <p:nvPr/>
            </p:nvSpPr>
            <p:spPr>
              <a:xfrm>
                <a:off x="73105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4595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>
              <a:off x="686700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572240" y="206208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706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2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23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324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327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8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329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334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335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8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9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40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3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4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346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8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349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350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356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357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361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362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4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366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369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370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376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379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380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2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386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387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9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391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394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395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399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0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401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406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409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410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3" name=""/>
          <p:cNvSpPr/>
          <p:nvPr/>
        </p:nvSpPr>
        <p:spPr>
          <a:xfrm>
            <a:off x="7310520" y="2119320"/>
            <a:ext cx="4824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7459560" y="238140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970680" y="2219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419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420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2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424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5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426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431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5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4" name="" descr=""/>
          <p:cNvPicPr/>
          <p:nvPr/>
        </p:nvPicPr>
        <p:blipFill>
          <a:blip r:embed="rId2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3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8800" y="2936880"/>
            <a:ext cx="4348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n continue drawing our graph along this same trajector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442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445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446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8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452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453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5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457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458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462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465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466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8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472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475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476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8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482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483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5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487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490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491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495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6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497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9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502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505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506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8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7310520" y="2119320"/>
            <a:ext cx="482400" cy="531360"/>
            <a:chOff x="7310520" y="2119320"/>
            <a:chExt cx="482400" cy="531360"/>
          </a:xfrm>
        </p:grpSpPr>
        <p:sp>
          <p:nvSpPr>
            <p:cNvPr id="2510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459560" y="2381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970680" y="2219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5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516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8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519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520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2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524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5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526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8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5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, </a:t>
                      </a:r>
                      <a:r>
                        <a:rPr b="0" i="1" lang="el-GR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88800" y="2936880"/>
            <a:ext cx="4348440" cy="16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n continue drawing our graph along this same trajector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 o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chimedean Spi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476440" y="1084320"/>
            <a:ext cx="482400" cy="531360"/>
            <a:chOff x="2476440" y="1084320"/>
            <a:chExt cx="482400" cy="531360"/>
          </a:xfrm>
        </p:grpSpPr>
        <p:sp>
          <p:nvSpPr>
            <p:cNvPr id="2538" name=""/>
            <p:cNvSpPr/>
            <p:nvPr/>
          </p:nvSpPr>
          <p:spPr>
            <a:xfrm>
              <a:off x="247644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62548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2206080" y="2062080"/>
            <a:ext cx="925920" cy="588600"/>
            <a:chOff x="2206080" y="2062080"/>
            <a:chExt cx="925920" cy="588600"/>
          </a:xfrm>
        </p:grpSpPr>
        <p:grpSp>
          <p:nvGrpSpPr>
            <p:cNvPr id="2541" name=""/>
            <p:cNvGrpSpPr/>
            <p:nvPr/>
          </p:nvGrpSpPr>
          <p:grpSpPr>
            <a:xfrm>
              <a:off x="2649600" y="2119320"/>
              <a:ext cx="482400" cy="531360"/>
              <a:chOff x="2649600" y="2119320"/>
              <a:chExt cx="482400" cy="531360"/>
            </a:xfrm>
          </p:grpSpPr>
          <p:sp>
            <p:nvSpPr>
              <p:cNvPr id="2542" name=""/>
              <p:cNvSpPr/>
              <p:nvPr/>
            </p:nvSpPr>
            <p:spPr>
              <a:xfrm>
                <a:off x="264960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79864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220608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289656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32092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7" name=""/>
          <p:cNvGrpSpPr/>
          <p:nvPr/>
        </p:nvGrpSpPr>
        <p:grpSpPr>
          <a:xfrm>
            <a:off x="2219400" y="1603440"/>
            <a:ext cx="1011240" cy="531360"/>
            <a:chOff x="2219400" y="1603440"/>
            <a:chExt cx="1011240" cy="531360"/>
          </a:xfrm>
        </p:grpSpPr>
        <p:grpSp>
          <p:nvGrpSpPr>
            <p:cNvPr id="2548" name=""/>
            <p:cNvGrpSpPr/>
            <p:nvPr/>
          </p:nvGrpSpPr>
          <p:grpSpPr>
            <a:xfrm>
              <a:off x="2219400" y="1603440"/>
              <a:ext cx="482400" cy="531360"/>
              <a:chOff x="2219400" y="1603440"/>
              <a:chExt cx="482400" cy="531360"/>
            </a:xfrm>
          </p:grpSpPr>
          <p:sp>
            <p:nvSpPr>
              <p:cNvPr id="2549" name=""/>
              <p:cNvSpPr/>
              <p:nvPr/>
            </p:nvSpPr>
            <p:spPr>
              <a:xfrm>
                <a:off x="221940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36844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251604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2" name=""/>
          <p:cNvGrpSpPr/>
          <p:nvPr/>
        </p:nvGrpSpPr>
        <p:grpSpPr>
          <a:xfrm>
            <a:off x="3149640" y="1603440"/>
            <a:ext cx="1011240" cy="531360"/>
            <a:chOff x="3149640" y="1603440"/>
            <a:chExt cx="1011240" cy="531360"/>
          </a:xfrm>
        </p:grpSpPr>
        <p:grpSp>
          <p:nvGrpSpPr>
            <p:cNvPr id="2553" name=""/>
            <p:cNvGrpSpPr/>
            <p:nvPr/>
          </p:nvGrpSpPr>
          <p:grpSpPr>
            <a:xfrm>
              <a:off x="3149640" y="1603440"/>
              <a:ext cx="482400" cy="531360"/>
              <a:chOff x="3149640" y="1603440"/>
              <a:chExt cx="482400" cy="531360"/>
            </a:xfrm>
          </p:grpSpPr>
          <p:sp>
            <p:nvSpPr>
              <p:cNvPr id="2554" name=""/>
              <p:cNvSpPr/>
              <p:nvPr/>
            </p:nvSpPr>
            <p:spPr>
              <a:xfrm>
                <a:off x="31496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2986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"/>
            <p:cNvSpPr/>
            <p:nvPr/>
          </p:nvSpPr>
          <p:spPr>
            <a:xfrm>
              <a:off x="34462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7" name=""/>
          <p:cNvGrpSpPr/>
          <p:nvPr/>
        </p:nvGrpSpPr>
        <p:grpSpPr>
          <a:xfrm>
            <a:off x="3381480" y="1084320"/>
            <a:ext cx="482400" cy="531360"/>
            <a:chOff x="3381480" y="1084320"/>
            <a:chExt cx="482400" cy="531360"/>
          </a:xfrm>
        </p:grpSpPr>
        <p:sp>
          <p:nvSpPr>
            <p:cNvPr id="2558" name=""/>
            <p:cNvSpPr/>
            <p:nvPr/>
          </p:nvSpPr>
          <p:spPr>
            <a:xfrm>
              <a:off x="338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3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3148920" y="2062080"/>
            <a:ext cx="925920" cy="588600"/>
            <a:chOff x="3148920" y="2062080"/>
            <a:chExt cx="925920" cy="588600"/>
          </a:xfrm>
        </p:grpSpPr>
        <p:grpSp>
          <p:nvGrpSpPr>
            <p:cNvPr id="2561" name=""/>
            <p:cNvGrpSpPr/>
            <p:nvPr/>
          </p:nvGrpSpPr>
          <p:grpSpPr>
            <a:xfrm>
              <a:off x="3592440" y="2119320"/>
              <a:ext cx="482400" cy="531360"/>
              <a:chOff x="3592440" y="2119320"/>
              <a:chExt cx="482400" cy="531360"/>
            </a:xfrm>
          </p:grpSpPr>
          <p:sp>
            <p:nvSpPr>
              <p:cNvPr id="2562" name=""/>
              <p:cNvSpPr/>
              <p:nvPr/>
            </p:nvSpPr>
            <p:spPr>
              <a:xfrm>
                <a:off x="359244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74148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4" name=""/>
            <p:cNvSpPr/>
            <p:nvPr/>
          </p:nvSpPr>
          <p:spPr>
            <a:xfrm>
              <a:off x="314892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383940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26376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6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4336920" y="1084320"/>
            <a:ext cx="482400" cy="531360"/>
            <a:chOff x="4336920" y="1084320"/>
            <a:chExt cx="482400" cy="531360"/>
          </a:xfrm>
        </p:grpSpPr>
        <p:sp>
          <p:nvSpPr>
            <p:cNvPr id="2568" name=""/>
            <p:cNvSpPr/>
            <p:nvPr/>
          </p:nvSpPr>
          <p:spPr>
            <a:xfrm>
              <a:off x="433692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48596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"/>
          <p:cNvGrpSpPr/>
          <p:nvPr/>
        </p:nvGrpSpPr>
        <p:grpSpPr>
          <a:xfrm>
            <a:off x="4073040" y="2062080"/>
            <a:ext cx="925920" cy="588600"/>
            <a:chOff x="4073040" y="2062080"/>
            <a:chExt cx="925920" cy="588600"/>
          </a:xfrm>
        </p:grpSpPr>
        <p:grpSp>
          <p:nvGrpSpPr>
            <p:cNvPr id="2571" name=""/>
            <p:cNvGrpSpPr/>
            <p:nvPr/>
          </p:nvGrpSpPr>
          <p:grpSpPr>
            <a:xfrm>
              <a:off x="4516560" y="2119320"/>
              <a:ext cx="482400" cy="531360"/>
              <a:chOff x="4516560" y="2119320"/>
              <a:chExt cx="482400" cy="531360"/>
            </a:xfrm>
          </p:grpSpPr>
          <p:sp>
            <p:nvSpPr>
              <p:cNvPr id="2572" name=""/>
              <p:cNvSpPr/>
              <p:nvPr/>
            </p:nvSpPr>
            <p:spPr>
              <a:xfrm>
                <a:off x="451656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66560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4073040" y="206208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4763520" y="2062080"/>
              <a:ext cx="2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18788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4068720" y="1603440"/>
            <a:ext cx="1011240" cy="531360"/>
            <a:chOff x="4068720" y="1603440"/>
            <a:chExt cx="1011240" cy="531360"/>
          </a:xfrm>
        </p:grpSpPr>
        <p:grpSp>
          <p:nvGrpSpPr>
            <p:cNvPr id="2578" name=""/>
            <p:cNvGrpSpPr/>
            <p:nvPr/>
          </p:nvGrpSpPr>
          <p:grpSpPr>
            <a:xfrm>
              <a:off x="4068720" y="1603440"/>
              <a:ext cx="482400" cy="531360"/>
              <a:chOff x="4068720" y="1603440"/>
              <a:chExt cx="482400" cy="531360"/>
            </a:xfrm>
          </p:grpSpPr>
          <p:sp>
            <p:nvSpPr>
              <p:cNvPr id="2579" name=""/>
              <p:cNvSpPr/>
              <p:nvPr/>
            </p:nvSpPr>
            <p:spPr>
              <a:xfrm>
                <a:off x="406872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21776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436536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6216480" y="1084320"/>
            <a:ext cx="482400" cy="531360"/>
            <a:chOff x="6216480" y="1084320"/>
            <a:chExt cx="482400" cy="531360"/>
          </a:xfrm>
        </p:grpSpPr>
        <p:sp>
          <p:nvSpPr>
            <p:cNvPr id="2583" name=""/>
            <p:cNvSpPr/>
            <p:nvPr/>
          </p:nvSpPr>
          <p:spPr>
            <a:xfrm>
              <a:off x="6216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365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948280" y="1603440"/>
            <a:ext cx="1011240" cy="531360"/>
            <a:chOff x="5948280" y="1603440"/>
            <a:chExt cx="1011240" cy="531360"/>
          </a:xfrm>
        </p:grpSpPr>
        <p:grpSp>
          <p:nvGrpSpPr>
            <p:cNvPr id="2586" name=""/>
            <p:cNvGrpSpPr/>
            <p:nvPr/>
          </p:nvGrpSpPr>
          <p:grpSpPr>
            <a:xfrm>
              <a:off x="5948280" y="1603440"/>
              <a:ext cx="482400" cy="531360"/>
              <a:chOff x="5948280" y="1603440"/>
              <a:chExt cx="482400" cy="531360"/>
            </a:xfrm>
          </p:grpSpPr>
          <p:sp>
            <p:nvSpPr>
              <p:cNvPr id="2587" name=""/>
              <p:cNvSpPr/>
              <p:nvPr/>
            </p:nvSpPr>
            <p:spPr>
              <a:xfrm>
                <a:off x="59482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0973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9" name=""/>
            <p:cNvSpPr/>
            <p:nvPr/>
          </p:nvSpPr>
          <p:spPr>
            <a:xfrm>
              <a:off x="62449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5947920" y="2054160"/>
            <a:ext cx="921240" cy="596520"/>
            <a:chOff x="5947920" y="2054160"/>
            <a:chExt cx="921240" cy="596520"/>
          </a:xfrm>
        </p:grpSpPr>
        <p:sp>
          <p:nvSpPr>
            <p:cNvPr id="2591" name=""/>
            <p:cNvSpPr/>
            <p:nvPr/>
          </p:nvSpPr>
          <p:spPr>
            <a:xfrm flipH="1">
              <a:off x="66387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2" name=""/>
            <p:cNvGrpSpPr/>
            <p:nvPr/>
          </p:nvGrpSpPr>
          <p:grpSpPr>
            <a:xfrm>
              <a:off x="6381720" y="2119320"/>
              <a:ext cx="482400" cy="531360"/>
              <a:chOff x="6381720" y="2119320"/>
              <a:chExt cx="482400" cy="531360"/>
            </a:xfrm>
          </p:grpSpPr>
          <p:sp>
            <p:nvSpPr>
              <p:cNvPr id="2593" name=""/>
              <p:cNvSpPr/>
              <p:nvPr/>
            </p:nvSpPr>
            <p:spPr>
              <a:xfrm>
                <a:off x="63817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5307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5" name=""/>
            <p:cNvSpPr/>
            <p:nvPr/>
          </p:nvSpPr>
          <p:spPr>
            <a:xfrm>
              <a:off x="60530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9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9479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7176960" y="1084320"/>
            <a:ext cx="482400" cy="531360"/>
            <a:chOff x="7176960" y="1084320"/>
            <a:chExt cx="482400" cy="531360"/>
          </a:xfrm>
        </p:grpSpPr>
        <p:sp>
          <p:nvSpPr>
            <p:cNvPr id="2598" name=""/>
            <p:cNvSpPr/>
            <p:nvPr/>
          </p:nvSpPr>
          <p:spPr>
            <a:xfrm>
              <a:off x="717696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32600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6873840" y="1603440"/>
            <a:ext cx="1011240" cy="531360"/>
            <a:chOff x="6873840" y="1603440"/>
            <a:chExt cx="1011240" cy="531360"/>
          </a:xfrm>
        </p:grpSpPr>
        <p:grpSp>
          <p:nvGrpSpPr>
            <p:cNvPr id="2601" name=""/>
            <p:cNvGrpSpPr/>
            <p:nvPr/>
          </p:nvGrpSpPr>
          <p:grpSpPr>
            <a:xfrm>
              <a:off x="6873840" y="1603440"/>
              <a:ext cx="482400" cy="531360"/>
              <a:chOff x="6873840" y="1603440"/>
              <a:chExt cx="482400" cy="531360"/>
            </a:xfrm>
          </p:grpSpPr>
          <p:sp>
            <p:nvSpPr>
              <p:cNvPr id="2602" name=""/>
              <p:cNvSpPr/>
              <p:nvPr/>
            </p:nvSpPr>
            <p:spPr>
              <a:xfrm>
                <a:off x="687384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02288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4" name=""/>
            <p:cNvSpPr/>
            <p:nvPr/>
          </p:nvSpPr>
          <p:spPr>
            <a:xfrm>
              <a:off x="717048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7310520" y="2119320"/>
            <a:ext cx="482400" cy="531360"/>
            <a:chOff x="7310520" y="2119320"/>
            <a:chExt cx="482400" cy="531360"/>
          </a:xfrm>
        </p:grpSpPr>
        <p:sp>
          <p:nvSpPr>
            <p:cNvPr id="2606" name=""/>
            <p:cNvSpPr/>
            <p:nvPr/>
          </p:nvSpPr>
          <p:spPr>
            <a:xfrm>
              <a:off x="7310520" y="2119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459560" y="2381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8" name=""/>
          <p:cNvSpPr/>
          <p:nvPr/>
        </p:nvSpPr>
        <p:spPr>
          <a:xfrm>
            <a:off x="6867000" y="206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H="1">
            <a:off x="7572240" y="2062080"/>
            <a:ext cx="2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970680" y="2219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8061480" y="1084320"/>
            <a:ext cx="482400" cy="531360"/>
            <a:chOff x="8061480" y="1084320"/>
            <a:chExt cx="482400" cy="531360"/>
          </a:xfrm>
        </p:grpSpPr>
        <p:sp>
          <p:nvSpPr>
            <p:cNvPr id="2612" name=""/>
            <p:cNvSpPr/>
            <p:nvPr/>
          </p:nvSpPr>
          <p:spPr>
            <a:xfrm>
              <a:off x="8061480" y="1084320"/>
              <a:ext cx="4824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i="1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210520" y="134604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7804080" y="1603440"/>
            <a:ext cx="1011240" cy="531360"/>
            <a:chOff x="7804080" y="1603440"/>
            <a:chExt cx="1011240" cy="531360"/>
          </a:xfrm>
        </p:grpSpPr>
        <p:grpSp>
          <p:nvGrpSpPr>
            <p:cNvPr id="2615" name=""/>
            <p:cNvGrpSpPr/>
            <p:nvPr/>
          </p:nvGrpSpPr>
          <p:grpSpPr>
            <a:xfrm>
              <a:off x="7804080" y="1603440"/>
              <a:ext cx="482400" cy="531360"/>
              <a:chOff x="7804080" y="1603440"/>
              <a:chExt cx="482400" cy="531360"/>
            </a:xfrm>
          </p:grpSpPr>
          <p:sp>
            <p:nvSpPr>
              <p:cNvPr id="2616" name=""/>
              <p:cNvSpPr/>
              <p:nvPr/>
            </p:nvSpPr>
            <p:spPr>
              <a:xfrm>
                <a:off x="7804080" y="160344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53120" y="186516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8" name=""/>
            <p:cNvSpPr/>
            <p:nvPr/>
          </p:nvSpPr>
          <p:spPr>
            <a:xfrm>
              <a:off x="8100720" y="16779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≈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7791120" y="2054160"/>
            <a:ext cx="921240" cy="596520"/>
            <a:chOff x="7791120" y="2054160"/>
            <a:chExt cx="921240" cy="596520"/>
          </a:xfrm>
        </p:grpSpPr>
        <p:sp>
          <p:nvSpPr>
            <p:cNvPr id="2620" name=""/>
            <p:cNvSpPr/>
            <p:nvPr/>
          </p:nvSpPr>
          <p:spPr>
            <a:xfrm flipH="1">
              <a:off x="8481960" y="2054160"/>
              <a:ext cx="23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1" name=""/>
            <p:cNvGrpSpPr/>
            <p:nvPr/>
          </p:nvGrpSpPr>
          <p:grpSpPr>
            <a:xfrm>
              <a:off x="8224920" y="2119320"/>
              <a:ext cx="482400" cy="531360"/>
              <a:chOff x="8224920" y="2119320"/>
              <a:chExt cx="482400" cy="531360"/>
            </a:xfrm>
          </p:grpSpPr>
          <p:sp>
            <p:nvSpPr>
              <p:cNvPr id="2622" name=""/>
              <p:cNvSpPr/>
              <p:nvPr/>
            </p:nvSpPr>
            <p:spPr>
              <a:xfrm>
                <a:off x="8224920" y="2119320"/>
                <a:ext cx="48240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r>
                  <a:rPr b="0" i="1" lang="el-GR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373960" y="2381040"/>
                <a:ext cx="1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4" name=""/>
            <p:cNvSpPr/>
            <p:nvPr/>
          </p:nvSpPr>
          <p:spPr>
            <a:xfrm>
              <a:off x="7896240" y="2219400"/>
              <a:ext cx="5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5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791120" y="20685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800" y="2936880"/>
            <a:ext cx="438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800" y="2936880"/>
            <a:ext cx="438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800" y="2936880"/>
            <a:ext cx="4380120" cy="12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2200" y="3067200"/>
            <a:ext cx="375588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800280" y="363600"/>
            <a:ext cx="7389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l-G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θ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on the Polar Coordinat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2120" y="1096920"/>
          <a:ext cx="8278920" cy="1589040"/>
        </p:xfrm>
        <a:graphic>
          <a:graphicData uri="http://schemas.openxmlformats.org/drawingml/2006/table">
            <a:tbl>
              <a:tblPr/>
              <a:tblGrid>
                <a:gridCol w="833400"/>
                <a:gridCol w="932040"/>
                <a:gridCol w="928440"/>
                <a:gridCol w="932040"/>
                <a:gridCol w="930240"/>
                <a:gridCol w="931680"/>
                <a:gridCol w="930600"/>
                <a:gridCol w="930240"/>
                <a:gridCol w="93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l-G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θ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536400" y="3040200"/>
            <a:ext cx="39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800" y="2936880"/>
            <a:ext cx="4380120" cy="126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by choo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i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ee tha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so equ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53:17Z</dcterms:created>
  <dc:creator>Peter Haberman</dc:creator>
  <dc:description/>
  <dc:language>en-US</dc:language>
  <cp:lastModifiedBy>Peter Haberman</cp:lastModifiedBy>
  <dcterms:modified xsi:type="dcterms:W3CDTF">2006-02-04T05:07:15Z</dcterms:modified>
  <cp:revision>16</cp:revision>
  <dc:subject/>
  <dc:title>Graphing </dc:title>
</cp:coreProperties>
</file>