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57.png" ContentType="image/png"/>
  <Override PartName="/ppt/media/image2.wmf" ContentType="image/x-wmf"/>
  <Override PartName="/ppt/media/image56.wmf" ContentType="image/x-wmf"/>
  <Override PartName="/ppt/media/image55.wmf" ContentType="image/x-wmf"/>
  <Override PartName="/ppt/media/image52.png" ContentType="image/png"/>
  <Override PartName="/ppt/media/image5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50.wmf" ContentType="image/x-wmf"/>
  <Override PartName="/ppt/media/image10.png" ContentType="image/png"/>
  <Override PartName="/ppt/media/image29.wmf" ContentType="image/x-wmf"/>
  <Override PartName="/ppt/media/image31.png" ContentType="image/png"/>
  <Override PartName="/ppt/media/image15.wmf" ContentType="image/x-wmf"/>
  <Override PartName="/ppt/media/image21.wmf" ContentType="image/x-wmf"/>
  <Override PartName="/ppt/media/image58.wmf" ContentType="image/x-wmf"/>
  <Override PartName="/ppt/media/image17.png" ContentType="image/png"/>
  <Override PartName="/ppt/media/image20.wmf" ContentType="image/x-wmf"/>
  <Override PartName="/ppt/media/image32.wmf" ContentType="image/x-wmf"/>
  <Override PartName="/ppt/media/image67.wmf" ContentType="image/x-wmf"/>
  <Override PartName="/ppt/media/image30.wmf" ContentType="image/x-wmf"/>
  <Override PartName="/ppt/media/image28.wmf" ContentType="image/x-wmf"/>
  <Override PartName="/ppt/media/image65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64.wmf" ContentType="image/x-wmf"/>
  <Override PartName="/ppt/media/image68.png" ContentType="image/png"/>
  <Override PartName="/ppt/media/image25.wmf" ContentType="image/x-wmf"/>
  <Override PartName="/ppt/media/image62.wmf" ContentType="image/x-wmf"/>
  <Override PartName="/ppt/media/image63.wmf" ContentType="image/x-wmf"/>
  <Override PartName="/ppt/media/image26.wmf" ContentType="image/x-wmf"/>
  <Override PartName="/ppt/media/image69.png" ContentType="image/png"/>
  <Override PartName="/ppt/media/image60.wmf" ContentType="image/x-wmf"/>
  <Override PartName="/ppt/media/image66.png" ContentType="image/png"/>
  <Override PartName="/ppt/media/image23.wmf" ContentType="image/x-wmf"/>
  <Override PartName="/ppt/media/image1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5.wmf" ContentType="image/x-wmf"/>
  <Override PartName="/ppt/media/image35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54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13.png" ContentType="image/png"/>
  <Override PartName="/ppt/media/image53.wmf" ContentType="image/x-wmf"/>
  <Override PartName="/ppt/media/image8.wmf" ContentType="image/x-wmf"/>
  <Override PartName="/ppt/media/image38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33.wmf" ContentType="image/x-wmf"/>
  <Override PartName="/ppt/media/image34.png" ContentType="image/png"/>
  <Override PartName="/ppt/media/image18.png" ContentType="image/png"/>
  <Override PartName="/ppt/media/image40.wmf" ContentType="image/x-wmf"/>
  <Override PartName="/ppt/media/image42.wmf" ContentType="image/x-wmf"/>
  <Override PartName="/ppt/media/image4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987-F853-458C-9F79-B9760D6F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09D-484C-4FF6-A620-35A64CF6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D4E-B09A-41D3-8022-F90E77B2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AA2-4A27-48D1-AB1F-B4128D0F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540-8260-4C5C-AD90-77B7C80C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A23-E528-490F-92D9-527C9831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4D6-EABE-41B2-B43C-B334BA10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B141-174D-4273-B19F-7FEF11F5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C553-1BA2-4F37-A4F3-AA816D52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8D1F-6A13-43BD-BDFD-22AB275C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3A8-4AF1-4987-8338-ECDC029C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E2F-3D49-4219-9B3E-4653FB9B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BDDB-288B-4543-B9ED-822FADE7D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68.png"/><Relationship Id="rId9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43.png"/><Relationship Id="rId8" Type="http://schemas.openxmlformats.org/officeDocument/2006/relationships/image" Target="../media/image52.png"/><Relationship Id="rId9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5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6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03280" y="3622680"/>
            <a:ext cx="50306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corresponding values 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5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8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9" name=""/>
          <p:cNvGraphicFramePr/>
          <p:nvPr/>
        </p:nvGraphicFramePr>
        <p:xfrm>
          <a:off x="3413160" y="4149720"/>
          <a:ext cx="171432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3160" y="4149720"/>
                    <a:ext cx="1714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1" name=""/>
          <p:cNvGraphicFramePr/>
          <p:nvPr/>
        </p:nvGraphicFramePr>
        <p:xfrm>
          <a:off x="703440" y="4200480"/>
          <a:ext cx="1688760" cy="109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3440" y="4200480"/>
                    <a:ext cx="16887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3" name=""/>
          <p:cNvSpPr/>
          <p:nvPr/>
        </p:nvSpPr>
        <p:spPr>
          <a:xfrm>
            <a:off x="262728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03280" y="5415120"/>
            <a:ext cx="4751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point on our coordinate plane and connect our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43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3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3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39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855720" y="5416560"/>
            <a:ext cx="1201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, 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86456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8" dur="5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0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51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452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53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55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86456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62" name=""/>
          <p:cNvSpPr/>
          <p:nvPr/>
        </p:nvSpPr>
        <p:spPr>
          <a:xfrm>
            <a:off x="503280" y="3622680"/>
            <a:ext cx="362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we can finish our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now see that the figure skater carved a figure-eight on the 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6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46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6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7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86456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6" name="" descr=""/>
          <p:cNvPicPr/>
          <p:nvPr/>
        </p:nvPicPr>
        <p:blipFill>
          <a:blip r:embed="rId4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5" dur="5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03280" y="3622680"/>
            <a:ext cx="50306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corresponding values 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plot ordered pai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03280" y="3622680"/>
            <a:ext cx="50306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corresponding values 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plot ordered pai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03280" y="3622680"/>
            <a:ext cx="50306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corresponding values 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plot ordered pai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a coordinate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03280" y="3622680"/>
            <a:ext cx="50306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corresponding values 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plot ordered pai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a coordinate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3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503280" y="360684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with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45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503280" y="360684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with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3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54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503280" y="360684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with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725400" y="4273560"/>
          <a:ext cx="167652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4273560"/>
                    <a:ext cx="1676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65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6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503280" y="360684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with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725400" y="4273560"/>
          <a:ext cx="167652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4273560"/>
                    <a:ext cx="1676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7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76480" y="1400040"/>
            <a:ext cx="664848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that the system of parametric equations given below represents the path that a figure-skater carves on the 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514680" y="2408400"/>
          <a:ext cx="1955880" cy="116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4680" y="2408400"/>
                    <a:ext cx="19558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503280" y="360684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with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429000" y="4299120"/>
          <a:ext cx="17146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99120"/>
                    <a:ext cx="17146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725400" y="4273560"/>
          <a:ext cx="16765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5400" y="4273560"/>
                    <a:ext cx="1676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64312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9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503280" y="360684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with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429000" y="4299120"/>
          <a:ext cx="17146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99120"/>
                    <a:ext cx="17146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725400" y="4273560"/>
          <a:ext cx="16765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5400" y="4273560"/>
                    <a:ext cx="1676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264312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204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5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503280" y="360684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with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429000" y="4299120"/>
          <a:ext cx="17146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99120"/>
                    <a:ext cx="17146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25400" y="4273560"/>
          <a:ext cx="16765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5400" y="4273560"/>
                    <a:ext cx="1676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264312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3280" y="5494320"/>
            <a:ext cx="501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 8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219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0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503280" y="360684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with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429000" y="4299120"/>
          <a:ext cx="17146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99120"/>
                    <a:ext cx="17146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725400" y="4273560"/>
          <a:ext cx="16765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5400" y="4273560"/>
                    <a:ext cx="1676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264312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3280" y="5494320"/>
            <a:ext cx="501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 8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234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8" name=""/>
          <p:cNvSpPr/>
          <p:nvPr/>
        </p:nvSpPr>
        <p:spPr>
          <a:xfrm>
            <a:off x="503280" y="360684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with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429000" y="4299120"/>
          <a:ext cx="17146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99120"/>
                    <a:ext cx="17146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725400" y="4273560"/>
          <a:ext cx="16765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5400" y="4273560"/>
                    <a:ext cx="1676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64312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3280" y="5494320"/>
            <a:ext cx="501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 8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  Let’s plot this point on our coordinate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249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0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52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7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258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9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26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27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757080" y="4273560"/>
          <a:ext cx="161316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080" y="4273560"/>
                    <a:ext cx="1613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28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757080" y="4273560"/>
          <a:ext cx="161316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080" y="4273560"/>
                    <a:ext cx="1613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7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298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9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76480" y="1400040"/>
            <a:ext cx="664848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that the system of parametric equations given below represents the path that a figure-skater carves on the 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sketch a graph of the figure-skater’s movement.  We can start by constructing a table of values so that we can find ordered pairs on the graph of the system of parametric equa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514680" y="2408400"/>
          <a:ext cx="1955880" cy="116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4680" y="2408400"/>
                    <a:ext cx="19558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2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3460680" y="4273560"/>
          <a:ext cx="1650960" cy="113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60680" y="4273560"/>
                    <a:ext cx="16509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757080" y="4273560"/>
          <a:ext cx="161316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73560"/>
                    <a:ext cx="1613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312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3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6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3460680" y="4273560"/>
          <a:ext cx="1650960" cy="113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60680" y="4273560"/>
                    <a:ext cx="16509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757080" y="4273560"/>
          <a:ext cx="161316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73560"/>
                    <a:ext cx="1613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32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3460680" y="4273560"/>
          <a:ext cx="1650960" cy="113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60680" y="4273560"/>
                    <a:ext cx="16509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757080" y="4273560"/>
          <a:ext cx="161316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73560"/>
                    <a:ext cx="1613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3280" y="5510160"/>
            <a:ext cx="50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341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42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44" name=""/>
          <p:cNvSpPr/>
          <p:nvPr/>
        </p:nvSpPr>
        <p:spPr>
          <a:xfrm>
            <a:off x="871560" y="554364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, 5.7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6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3460680" y="4273560"/>
          <a:ext cx="1650960" cy="113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60680" y="4273560"/>
                    <a:ext cx="16509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757080" y="4273560"/>
          <a:ext cx="161316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73560"/>
                    <a:ext cx="1613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03280" y="5510160"/>
            <a:ext cx="50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35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5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5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71560" y="554364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, 5.7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3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3460680" y="4273560"/>
          <a:ext cx="1650960" cy="113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60680" y="4273560"/>
                    <a:ext cx="16509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757080" y="4273560"/>
          <a:ext cx="161316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73560"/>
                    <a:ext cx="1613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3280" y="5510160"/>
            <a:ext cx="487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  Let’s plot this point on our coordinat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374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75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77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71560" y="554364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, 5.7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3460680" y="4273560"/>
          <a:ext cx="1650960" cy="113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60680" y="4273560"/>
                    <a:ext cx="16509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757080" y="4273560"/>
          <a:ext cx="161316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73560"/>
                    <a:ext cx="1613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3280" y="5510160"/>
            <a:ext cx="48895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  Let’s plot this point on our coordinate plane and connect our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392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5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71560" y="554364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, 5.7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40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0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8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41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8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42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2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8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719280" y="4273560"/>
          <a:ext cx="168912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9280" y="4273560"/>
                    <a:ext cx="16891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4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435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6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8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3280" y="3622680"/>
            <a:ext cx="50306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719280" y="4273560"/>
          <a:ext cx="168912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9280" y="4273560"/>
                    <a:ext cx="16891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44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4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4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2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3422520" y="4299120"/>
          <a:ext cx="17272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99120"/>
                    <a:ext cx="1727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719280" y="4273560"/>
          <a:ext cx="16891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9280" y="4273560"/>
                    <a:ext cx="16891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462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63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6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5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7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422520" y="4299120"/>
          <a:ext cx="17272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99120"/>
                    <a:ext cx="1727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719280" y="4273560"/>
          <a:ext cx="16891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9280" y="4273560"/>
                    <a:ext cx="16891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47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2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3422520" y="4299120"/>
          <a:ext cx="17272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99120"/>
                    <a:ext cx="1727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719280" y="4273560"/>
          <a:ext cx="16891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9280" y="4273560"/>
                    <a:ext cx="16891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03280" y="5462640"/>
            <a:ext cx="475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49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549576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9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3422520" y="4299120"/>
          <a:ext cx="17272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99120"/>
                    <a:ext cx="1727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719280" y="4273560"/>
          <a:ext cx="16891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9280" y="4273560"/>
                    <a:ext cx="16891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3280" y="5462640"/>
            <a:ext cx="475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51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1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1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13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39880" y="549576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6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3422520" y="4299120"/>
          <a:ext cx="17272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99120"/>
                    <a:ext cx="1727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719280" y="4273560"/>
          <a:ext cx="16891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9280" y="4273560"/>
                    <a:ext cx="16891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3280" y="546264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  Let’s plot this point on our coordinat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52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2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2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39880" y="549576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4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3422520" y="4299120"/>
          <a:ext cx="17272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99120"/>
                    <a:ext cx="1727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719280" y="4273560"/>
          <a:ext cx="16891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9280" y="4273560"/>
                    <a:ext cx="16891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3280" y="5462640"/>
            <a:ext cx="4751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  Let’s plot this point on our coordinate plane and connect our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545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6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8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39880" y="549576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5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55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9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56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9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7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57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7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9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03280" y="3622680"/>
            <a:ext cx="50306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731880" y="4194000"/>
          <a:ext cx="166356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880" y="4194000"/>
                    <a:ext cx="1663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7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588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9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9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1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3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731880" y="4194000"/>
          <a:ext cx="166356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880" y="4194000"/>
                    <a:ext cx="1663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60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0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3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5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435480" y="4194000"/>
          <a:ext cx="1701720" cy="115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5480" y="4194000"/>
                    <a:ext cx="170172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731880" y="4194000"/>
          <a:ext cx="166356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880" y="4194000"/>
                    <a:ext cx="1663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615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16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1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8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3435480" y="4194000"/>
          <a:ext cx="1701720" cy="115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5480" y="4194000"/>
                    <a:ext cx="170172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731880" y="4194000"/>
          <a:ext cx="166356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880" y="4194000"/>
                    <a:ext cx="1663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63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3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5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9" name=""/>
          <p:cNvGraphicFramePr/>
          <p:nvPr/>
        </p:nvGraphicFramePr>
        <p:xfrm>
          <a:off x="3435480" y="4194000"/>
          <a:ext cx="1701720" cy="115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5480" y="4194000"/>
                    <a:ext cx="170172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731880" y="4194000"/>
          <a:ext cx="166356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880" y="4194000"/>
                    <a:ext cx="1663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03280" y="5462640"/>
            <a:ext cx="475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64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4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4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49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55720" y="547992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, -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2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435480" y="4194000"/>
          <a:ext cx="1701720" cy="115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5480" y="4194000"/>
                    <a:ext cx="170172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731880" y="4194000"/>
          <a:ext cx="166356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880" y="4194000"/>
                    <a:ext cx="1663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03280" y="5462640"/>
            <a:ext cx="475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66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6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55720" y="547992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, -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3435480" y="4194000"/>
          <a:ext cx="1701720" cy="115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5480" y="4194000"/>
                    <a:ext cx="170172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731880" y="4194000"/>
          <a:ext cx="166356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880" y="4194000"/>
                    <a:ext cx="1663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03280" y="546264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  Let’s plot this point on our coordinat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681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82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84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855720" y="547992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, -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9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3435480" y="4194000"/>
          <a:ext cx="1701720" cy="115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5480" y="4194000"/>
                    <a:ext cx="170172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731880" y="4194000"/>
          <a:ext cx="166356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880" y="4194000"/>
                    <a:ext cx="1663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3280" y="5462640"/>
            <a:ext cx="4751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  Let’s plot this point on our coordinate plane and connect our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70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0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3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55720" y="547992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, -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5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11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712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3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1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5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8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72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03280" y="3622680"/>
            <a:ext cx="50306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9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33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734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35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3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37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750960" y="4226040"/>
          <a:ext cx="168912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0960" y="4226040"/>
                    <a:ext cx="16891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74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4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5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3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7" name=""/>
          <p:cNvGraphicFramePr/>
          <p:nvPr/>
        </p:nvGraphicFramePr>
        <p:xfrm>
          <a:off x="750960" y="4226040"/>
          <a:ext cx="168912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0960" y="4226040"/>
                    <a:ext cx="16891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76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6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63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7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1" name=""/>
          <p:cNvGraphicFramePr/>
          <p:nvPr/>
        </p:nvGraphicFramePr>
        <p:xfrm>
          <a:off x="3422520" y="4257720"/>
          <a:ext cx="172728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57720"/>
                    <a:ext cx="1727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750960" y="4226040"/>
          <a:ext cx="16891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0960" y="4226040"/>
                    <a:ext cx="16891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"/>
          <p:cNvSpPr/>
          <p:nvPr/>
        </p:nvSpPr>
        <p:spPr>
          <a:xfrm>
            <a:off x="2658960" y="43401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77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7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7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8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4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3422520" y="4257720"/>
          <a:ext cx="172728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57720"/>
                    <a:ext cx="1727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"/>
          <p:cNvGraphicFramePr/>
          <p:nvPr/>
        </p:nvGraphicFramePr>
        <p:xfrm>
          <a:off x="750960" y="4226040"/>
          <a:ext cx="16891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0960" y="4226040"/>
                    <a:ext cx="16891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"/>
          <p:cNvSpPr/>
          <p:nvPr/>
        </p:nvSpPr>
        <p:spPr>
          <a:xfrm>
            <a:off x="2658960" y="43401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794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5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9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97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2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6" name=""/>
          <p:cNvGraphicFramePr/>
          <p:nvPr/>
        </p:nvGraphicFramePr>
        <p:xfrm>
          <a:off x="3422520" y="4257720"/>
          <a:ext cx="172728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57720"/>
                    <a:ext cx="1727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8" name=""/>
          <p:cNvGraphicFramePr/>
          <p:nvPr/>
        </p:nvGraphicFramePr>
        <p:xfrm>
          <a:off x="750960" y="4226040"/>
          <a:ext cx="16891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0960" y="4226040"/>
                    <a:ext cx="16891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"/>
          <p:cNvSpPr/>
          <p:nvPr/>
        </p:nvSpPr>
        <p:spPr>
          <a:xfrm>
            <a:off x="2658960" y="43401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03280" y="538308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    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81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1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55720" y="540072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-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22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6" name=""/>
          <p:cNvGraphicFramePr/>
          <p:nvPr/>
        </p:nvGraphicFramePr>
        <p:xfrm>
          <a:off x="3422520" y="4257720"/>
          <a:ext cx="172728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57720"/>
                    <a:ext cx="1727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750960" y="4226040"/>
          <a:ext cx="16891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0960" y="4226040"/>
                    <a:ext cx="16891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0" name=""/>
          <p:cNvSpPr/>
          <p:nvPr/>
        </p:nvSpPr>
        <p:spPr>
          <a:xfrm>
            <a:off x="2658960" y="43401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03280" y="538308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    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83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3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3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855720" y="540072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-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2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6" name=""/>
          <p:cNvGraphicFramePr/>
          <p:nvPr/>
        </p:nvGraphicFramePr>
        <p:xfrm>
          <a:off x="3422520" y="4257720"/>
          <a:ext cx="172728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57720"/>
                    <a:ext cx="1727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"/>
          <p:cNvGraphicFramePr/>
          <p:nvPr/>
        </p:nvGraphicFramePr>
        <p:xfrm>
          <a:off x="750960" y="4226040"/>
          <a:ext cx="16891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0960" y="4226040"/>
                    <a:ext cx="16891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"/>
          <p:cNvSpPr/>
          <p:nvPr/>
        </p:nvSpPr>
        <p:spPr>
          <a:xfrm>
            <a:off x="2658960" y="43401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03280" y="5383080"/>
            <a:ext cx="4751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    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point on our coordinate p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85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5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55720" y="540072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-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3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7" name=""/>
          <p:cNvGraphicFramePr/>
          <p:nvPr/>
        </p:nvGraphicFramePr>
        <p:xfrm>
          <a:off x="3422520" y="4257720"/>
          <a:ext cx="172728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57720"/>
                    <a:ext cx="1727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"/>
          <p:cNvGraphicFramePr/>
          <p:nvPr/>
        </p:nvGraphicFramePr>
        <p:xfrm>
          <a:off x="750960" y="4226040"/>
          <a:ext cx="16891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0960" y="4226040"/>
                    <a:ext cx="16891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1" name=""/>
          <p:cNvSpPr/>
          <p:nvPr/>
        </p:nvSpPr>
        <p:spPr>
          <a:xfrm>
            <a:off x="2658960" y="43401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03280" y="5383080"/>
            <a:ext cx="4751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    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point on our coordinate plane and connect our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874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75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7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7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55720" y="540072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-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5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88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8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9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03280" y="3622680"/>
            <a:ext cx="503064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corresponding values 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9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90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0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3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1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91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1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1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3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5" name=""/>
          <p:cNvGraphicFramePr/>
          <p:nvPr/>
        </p:nvGraphicFramePr>
        <p:xfrm>
          <a:off x="763560" y="4206960"/>
          <a:ext cx="16635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206960"/>
                    <a:ext cx="16635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7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928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29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31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5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0" name=""/>
          <p:cNvGraphicFramePr/>
          <p:nvPr/>
        </p:nvGraphicFramePr>
        <p:xfrm>
          <a:off x="763560" y="4206960"/>
          <a:ext cx="16635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206960"/>
                    <a:ext cx="16635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94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4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5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5" name=""/>
          <p:cNvGraphicFramePr/>
          <p:nvPr/>
        </p:nvGraphicFramePr>
        <p:xfrm>
          <a:off x="3435480" y="4232160"/>
          <a:ext cx="17017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5480" y="4232160"/>
                    <a:ext cx="17017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7" name=""/>
          <p:cNvGraphicFramePr/>
          <p:nvPr/>
        </p:nvGraphicFramePr>
        <p:xfrm>
          <a:off x="763560" y="4206960"/>
          <a:ext cx="166356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560" y="4206960"/>
                    <a:ext cx="16635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9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961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62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64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7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3" name=""/>
          <p:cNvGraphicFramePr/>
          <p:nvPr/>
        </p:nvGraphicFramePr>
        <p:xfrm>
          <a:off x="3435480" y="4232160"/>
          <a:ext cx="17017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5480" y="4232160"/>
                    <a:ext cx="17017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5" name=""/>
          <p:cNvGraphicFramePr/>
          <p:nvPr/>
        </p:nvGraphicFramePr>
        <p:xfrm>
          <a:off x="763560" y="4206960"/>
          <a:ext cx="166356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560" y="4206960"/>
                    <a:ext cx="16635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7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979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0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2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7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1" name=""/>
          <p:cNvGraphicFramePr/>
          <p:nvPr/>
        </p:nvGraphicFramePr>
        <p:xfrm>
          <a:off x="3435480" y="4232160"/>
          <a:ext cx="17017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5480" y="4232160"/>
                    <a:ext cx="17017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3" name=""/>
          <p:cNvGraphicFramePr/>
          <p:nvPr/>
        </p:nvGraphicFramePr>
        <p:xfrm>
          <a:off x="763560" y="4206960"/>
          <a:ext cx="166356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560" y="4206960"/>
                    <a:ext cx="16635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5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03280" y="5383080"/>
            <a:ext cx="475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998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99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01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39880" y="541656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, -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" descr=""/>
          <p:cNvPicPr/>
          <p:nvPr/>
        </p:nvPicPr>
        <p:blipFill>
          <a:blip r:embed="rId7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1" name=""/>
          <p:cNvGraphicFramePr/>
          <p:nvPr/>
        </p:nvGraphicFramePr>
        <p:xfrm>
          <a:off x="3435480" y="4232160"/>
          <a:ext cx="17017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5480" y="4232160"/>
                    <a:ext cx="17017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3" name=""/>
          <p:cNvGraphicFramePr/>
          <p:nvPr/>
        </p:nvGraphicFramePr>
        <p:xfrm>
          <a:off x="763560" y="4206960"/>
          <a:ext cx="166356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560" y="4206960"/>
                    <a:ext cx="16635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5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03280" y="5383080"/>
            <a:ext cx="475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018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19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21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839880" y="541656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, -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" descr=""/>
          <p:cNvPicPr/>
          <p:nvPr/>
        </p:nvPicPr>
        <p:blipFill>
          <a:blip r:embed="rId7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27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3435480" y="4232160"/>
          <a:ext cx="17017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5480" y="4232160"/>
                    <a:ext cx="17017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4" name=""/>
          <p:cNvGraphicFramePr/>
          <p:nvPr/>
        </p:nvGraphicFramePr>
        <p:xfrm>
          <a:off x="763560" y="4206960"/>
          <a:ext cx="166356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560" y="4206960"/>
                    <a:ext cx="16635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6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03280" y="53830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point on our coordinat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039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40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42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39880" y="541656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, -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7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8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5" name=""/>
          <p:cNvGraphicFramePr/>
          <p:nvPr/>
        </p:nvGraphicFramePr>
        <p:xfrm>
          <a:off x="3435480" y="4232160"/>
          <a:ext cx="170172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5480" y="4232160"/>
                    <a:ext cx="17017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7" name=""/>
          <p:cNvGraphicFramePr/>
          <p:nvPr/>
        </p:nvGraphicFramePr>
        <p:xfrm>
          <a:off x="763560" y="4206960"/>
          <a:ext cx="166356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560" y="4206960"/>
                    <a:ext cx="16635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9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03280" y="5383080"/>
            <a:ext cx="4751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point on our coordinat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nnect our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062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3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6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65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39880" y="541656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, -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5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3280" y="3622680"/>
            <a:ext cx="503064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corresponding values 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7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07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7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8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6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9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0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091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2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4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04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105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06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08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4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7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8" name=""/>
          <p:cNvGraphicFramePr/>
          <p:nvPr/>
        </p:nvGraphicFramePr>
        <p:xfrm>
          <a:off x="757080" y="4206960"/>
          <a:ext cx="167652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080" y="4206960"/>
                    <a:ext cx="16765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0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121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22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2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24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4" name=""/>
          <p:cNvGraphicFramePr/>
          <p:nvPr/>
        </p:nvGraphicFramePr>
        <p:xfrm>
          <a:off x="757080" y="4206960"/>
          <a:ext cx="167652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080" y="4206960"/>
                    <a:ext cx="16765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13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3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4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6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9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0" name=""/>
          <p:cNvGraphicFramePr/>
          <p:nvPr/>
        </p:nvGraphicFramePr>
        <p:xfrm>
          <a:off x="3429000" y="4232160"/>
          <a:ext cx="171468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32160"/>
                    <a:ext cx="1714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2" name=""/>
          <p:cNvGraphicFramePr/>
          <p:nvPr/>
        </p:nvGraphicFramePr>
        <p:xfrm>
          <a:off x="757080" y="4206960"/>
          <a:ext cx="16765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06960"/>
                    <a:ext cx="16765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4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15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5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5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59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5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8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9" name=""/>
          <p:cNvGraphicFramePr/>
          <p:nvPr/>
        </p:nvGraphicFramePr>
        <p:xfrm>
          <a:off x="3429000" y="4232160"/>
          <a:ext cx="171468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32160"/>
                    <a:ext cx="1714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1" name=""/>
          <p:cNvGraphicFramePr/>
          <p:nvPr/>
        </p:nvGraphicFramePr>
        <p:xfrm>
          <a:off x="757080" y="4206960"/>
          <a:ext cx="16765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06960"/>
                    <a:ext cx="16765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175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6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78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4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8" name=""/>
          <p:cNvGraphicFramePr/>
          <p:nvPr/>
        </p:nvGraphicFramePr>
        <p:xfrm>
          <a:off x="3429000" y="4232160"/>
          <a:ext cx="171468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32160"/>
                    <a:ext cx="1714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0" name=""/>
          <p:cNvGraphicFramePr/>
          <p:nvPr/>
        </p:nvGraphicFramePr>
        <p:xfrm>
          <a:off x="757080" y="4206960"/>
          <a:ext cx="16765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06960"/>
                    <a:ext cx="16765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2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03280" y="538308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195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96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9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98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839880" y="5400720"/>
            <a:ext cx="911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5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8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9" name=""/>
          <p:cNvGraphicFramePr/>
          <p:nvPr/>
        </p:nvGraphicFramePr>
        <p:xfrm>
          <a:off x="3429000" y="4232160"/>
          <a:ext cx="171468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32160"/>
                    <a:ext cx="1714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1" name=""/>
          <p:cNvGraphicFramePr/>
          <p:nvPr/>
        </p:nvGraphicFramePr>
        <p:xfrm>
          <a:off x="757080" y="4206960"/>
          <a:ext cx="16765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06960"/>
                    <a:ext cx="16765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3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3280" y="538308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21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1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19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839880" y="5400720"/>
            <a:ext cx="911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6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0" name=""/>
          <p:cNvGraphicFramePr/>
          <p:nvPr/>
        </p:nvGraphicFramePr>
        <p:xfrm>
          <a:off x="3429000" y="4232160"/>
          <a:ext cx="171468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32160"/>
                    <a:ext cx="1714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2" name=""/>
          <p:cNvGraphicFramePr/>
          <p:nvPr/>
        </p:nvGraphicFramePr>
        <p:xfrm>
          <a:off x="757080" y="4206960"/>
          <a:ext cx="16765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06960"/>
                    <a:ext cx="16765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4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03280" y="5383080"/>
            <a:ext cx="4751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point on our coordinate plan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our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23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3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4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839880" y="5400720"/>
            <a:ext cx="911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6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5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03280" y="3622680"/>
            <a:ext cx="50306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corresponding values 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51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252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3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55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26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69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5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8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7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28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8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8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83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9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2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3" name=""/>
          <p:cNvGraphicFramePr/>
          <p:nvPr/>
        </p:nvGraphicFramePr>
        <p:xfrm>
          <a:off x="703440" y="4200480"/>
          <a:ext cx="1688760" cy="10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4200480"/>
                    <a:ext cx="16887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29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9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9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5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8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9" name=""/>
          <p:cNvGraphicFramePr/>
          <p:nvPr/>
        </p:nvGraphicFramePr>
        <p:xfrm>
          <a:off x="703440" y="4200480"/>
          <a:ext cx="1688760" cy="10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4200480"/>
                    <a:ext cx="16887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1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312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13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1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15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0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5" name=""/>
          <p:cNvGraphicFramePr/>
          <p:nvPr/>
        </p:nvGraphicFramePr>
        <p:xfrm>
          <a:off x="3413160" y="4149720"/>
          <a:ext cx="171432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3160" y="4149720"/>
                    <a:ext cx="1714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7" name=""/>
          <p:cNvGraphicFramePr/>
          <p:nvPr/>
        </p:nvGraphicFramePr>
        <p:xfrm>
          <a:off x="703440" y="4200480"/>
          <a:ext cx="1688760" cy="109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3440" y="4200480"/>
                    <a:ext cx="16887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9" name=""/>
          <p:cNvSpPr/>
          <p:nvPr/>
        </p:nvSpPr>
        <p:spPr>
          <a:xfrm>
            <a:off x="262728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331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32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3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34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4" name=""/>
          <p:cNvGraphicFramePr/>
          <p:nvPr/>
        </p:nvGraphicFramePr>
        <p:xfrm>
          <a:off x="3413160" y="4149720"/>
          <a:ext cx="171432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3160" y="4149720"/>
                    <a:ext cx="1714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6" name=""/>
          <p:cNvGraphicFramePr/>
          <p:nvPr/>
        </p:nvGraphicFramePr>
        <p:xfrm>
          <a:off x="703440" y="4200480"/>
          <a:ext cx="1688760" cy="109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3440" y="4200480"/>
                    <a:ext cx="16887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8" name=""/>
          <p:cNvSpPr/>
          <p:nvPr/>
        </p:nvSpPr>
        <p:spPr>
          <a:xfrm>
            <a:off x="262728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35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5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5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53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9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3" name=""/>
          <p:cNvGraphicFramePr/>
          <p:nvPr/>
        </p:nvGraphicFramePr>
        <p:xfrm>
          <a:off x="3413160" y="4149720"/>
          <a:ext cx="171432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3160" y="4149720"/>
                    <a:ext cx="1714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5" name=""/>
          <p:cNvGraphicFramePr/>
          <p:nvPr/>
        </p:nvGraphicFramePr>
        <p:xfrm>
          <a:off x="703440" y="4200480"/>
          <a:ext cx="1688760" cy="109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3440" y="4200480"/>
                    <a:ext cx="16887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7" name=""/>
          <p:cNvSpPr/>
          <p:nvPr/>
        </p:nvSpPr>
        <p:spPr>
          <a:xfrm>
            <a:off x="262728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3280" y="541512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37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7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7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73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855720" y="5416560"/>
            <a:ext cx="1201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, 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4" name=""/>
          <p:cNvGraphicFramePr/>
          <p:nvPr/>
        </p:nvGraphicFramePr>
        <p:xfrm>
          <a:off x="3413160" y="4149720"/>
          <a:ext cx="171432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3160" y="4149720"/>
                    <a:ext cx="1714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6" name=""/>
          <p:cNvGraphicFramePr/>
          <p:nvPr/>
        </p:nvGraphicFramePr>
        <p:xfrm>
          <a:off x="703440" y="4200480"/>
          <a:ext cx="1688760" cy="109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3440" y="4200480"/>
                    <a:ext cx="16887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8" name=""/>
          <p:cNvSpPr/>
          <p:nvPr/>
        </p:nvSpPr>
        <p:spPr>
          <a:xfrm>
            <a:off x="262728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03280" y="541512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391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92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9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94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855720" y="5416560"/>
            <a:ext cx="1201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, 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786456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2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6" name=""/>
          <p:cNvGraphicFramePr/>
          <p:nvPr/>
        </p:nvGraphicFramePr>
        <p:xfrm>
          <a:off x="3413160" y="4149720"/>
          <a:ext cx="171432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3160" y="4149720"/>
                    <a:ext cx="1714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8" name=""/>
          <p:cNvGraphicFramePr/>
          <p:nvPr/>
        </p:nvGraphicFramePr>
        <p:xfrm>
          <a:off x="703440" y="4200480"/>
          <a:ext cx="1688760" cy="109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3440" y="4200480"/>
                    <a:ext cx="16887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0" name=""/>
          <p:cNvSpPr/>
          <p:nvPr/>
        </p:nvSpPr>
        <p:spPr>
          <a:xfrm>
            <a:off x="262728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503280" y="5415120"/>
            <a:ext cx="4751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point on our coordinat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41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1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1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1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855720" y="5416560"/>
            <a:ext cx="1201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, 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86456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3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7:53:17Z</dcterms:created>
  <dc:creator>Peter Haberman</dc:creator>
  <dc:description/>
  <dc:language>en-US</dc:language>
  <cp:lastModifiedBy>Peter Haberman</cp:lastModifiedBy>
  <dcterms:modified xsi:type="dcterms:W3CDTF">2006-02-04T06:14:35Z</dcterms:modified>
  <cp:revision>21</cp:revision>
  <dc:subject/>
  <dc:title>Graphing </dc:title>
</cp:coreProperties>
</file>