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57.png" ContentType="image/png"/>
  <Override PartName="/ppt/media/image2.wmf" ContentType="image/x-wmf"/>
  <Override PartName="/ppt/media/image56.wmf" ContentType="image/x-wmf"/>
  <Override PartName="/ppt/media/image55.wmf" ContentType="image/x-wmf"/>
  <Override PartName="/ppt/media/image52.png" ContentType="image/png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50.wmf" ContentType="image/x-wmf"/>
  <Override PartName="/ppt/media/image10.png" ContentType="image/png"/>
  <Override PartName="/ppt/media/image29.wmf" ContentType="image/x-wmf"/>
  <Override PartName="/ppt/media/image31.png" ContentType="image/png"/>
  <Override PartName="/ppt/media/image15.wmf" ContentType="image/x-wmf"/>
  <Override PartName="/ppt/media/image21.wmf" ContentType="image/x-wmf"/>
  <Override PartName="/ppt/media/image58.wmf" ContentType="image/x-wmf"/>
  <Override PartName="/ppt/media/image17.png" ContentType="image/png"/>
  <Override PartName="/ppt/media/image20.wmf" ContentType="image/x-wmf"/>
  <Override PartName="/ppt/media/image32.wmf" ContentType="image/x-wmf"/>
  <Override PartName="/ppt/media/image67.wmf" ContentType="image/x-wmf"/>
  <Override PartName="/ppt/media/image30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64.wmf" ContentType="image/x-wmf"/>
  <Override PartName="/ppt/media/image68.png" ContentType="image/png"/>
  <Override PartName="/ppt/media/image25.wmf" ContentType="image/x-wmf"/>
  <Override PartName="/ppt/media/image62.wmf" ContentType="image/x-wmf"/>
  <Override PartName="/ppt/media/image63.wmf" ContentType="image/x-wmf"/>
  <Override PartName="/ppt/media/image26.wmf" ContentType="image/x-wmf"/>
  <Override PartName="/ppt/media/image69.png" ContentType="image/png"/>
  <Override PartName="/ppt/media/image60.wmf" ContentType="image/x-wmf"/>
  <Override PartName="/ppt/media/image66.png" ContentType="image/png"/>
  <Override PartName="/ppt/media/image23.wmf" ContentType="image/x-wmf"/>
  <Override PartName="/ppt/media/image1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5.wmf" ContentType="image/x-wmf"/>
  <Override PartName="/ppt/media/image35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54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png" ContentType="image/png"/>
  <Override PartName="/ppt/media/image53.wmf" ContentType="image/x-wmf"/>
  <Override PartName="/ppt/media/image8.wmf" ContentType="image/x-wmf"/>
  <Override PartName="/ppt/media/image38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3.wmf" ContentType="image/x-wmf"/>
  <Override PartName="/ppt/media/image34.png" ContentType="image/png"/>
  <Override PartName="/ppt/media/image18.png" ContentType="image/png"/>
  <Override PartName="/ppt/media/image40.wmf" ContentType="image/x-wmf"/>
  <Override PartName="/ppt/media/image42.wmf" ContentType="image/x-wmf"/>
  <Override PartName="/ppt/media/image4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025-47C7-49BC-ADDD-307AB0A0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AC8-7E4A-4F9E-A43A-86A1E3FC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84B-D667-4406-A16D-A6CB7170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28E-9945-40AA-A7D9-6DE145E5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39F-85F3-47B9-A82B-1E0794D9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3E3-C54E-4450-AA2F-26DA2B3E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8E3-F2C0-43D8-B5E4-B8DD80D5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9A2-E508-4659-91B4-3E25C10E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BA3-76AC-4A1B-AD8B-169147F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F0E-D1C8-426C-9052-66C9FE9C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E3F-05AC-4238-962F-7E2C560A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02E-9E47-4AF1-8898-93C9EE2F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FDD4-27FB-489B-9012-981DEF587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6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3280" y="3622680"/>
            <a:ext cx="5030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9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1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3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03280" y="5415120"/>
            <a:ext cx="475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 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43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3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3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855720" y="5416560"/>
            <a:ext cx="120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86456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" dur="5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45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5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5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86456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2" name=""/>
          <p:cNvSpPr/>
          <p:nvPr/>
        </p:nvSpPr>
        <p:spPr>
          <a:xfrm>
            <a:off x="503280" y="3622680"/>
            <a:ext cx="362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we can finish our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now see that the figure skater carved a figure-eight on the 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46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7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86456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6" name="" descr=""/>
          <p:cNvPicPr/>
          <p:nvPr/>
        </p:nvPicPr>
        <p:blipFill>
          <a:blip r:embed="rId4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5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03280" y="3622680"/>
            <a:ext cx="50306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plot ordered pa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03280" y="3622680"/>
            <a:ext cx="50306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plot ordered pa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03280" y="3622680"/>
            <a:ext cx="5030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plot ordered pa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 coordinate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03280" y="3622680"/>
            <a:ext cx="5030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plot ordered pa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 coordinate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4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5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6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7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76480" y="1400040"/>
            <a:ext cx="66484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at the system of parametric equations given below represents the path that a figure-skater carves on the 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514680" y="2408400"/>
          <a:ext cx="19558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4680" y="2408400"/>
                    <a:ext cx="19558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429000" y="4299120"/>
          <a:ext cx="17146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99120"/>
                    <a:ext cx="1714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64312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9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429000" y="4299120"/>
          <a:ext cx="17146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99120"/>
                    <a:ext cx="1714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4312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0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429000" y="4299120"/>
          <a:ext cx="17146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99120"/>
                    <a:ext cx="1714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64312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3280" y="5494320"/>
            <a:ext cx="501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8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19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0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429000" y="4299120"/>
          <a:ext cx="17146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99120"/>
                    <a:ext cx="1714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64312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3280" y="5494320"/>
            <a:ext cx="501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8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3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"/>
          <p:cNvSpPr/>
          <p:nvPr/>
        </p:nvSpPr>
        <p:spPr>
          <a:xfrm>
            <a:off x="503280" y="360684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start with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429000" y="4299120"/>
          <a:ext cx="17146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99120"/>
                    <a:ext cx="17146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25400" y="4273560"/>
          <a:ext cx="1676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5400" y="4273560"/>
                    <a:ext cx="1676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64312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3280" y="5494320"/>
            <a:ext cx="501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 8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49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0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5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6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7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8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29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76480" y="1400040"/>
            <a:ext cx="664848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at the system of parametric equations given below represents the path that a figure-skater carves on the 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sketch a graph of the figure-skater’s movement.  We can start by constructing a table of values so that we can find ordered pairs on the graph of the system of parametric equa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14680" y="2408400"/>
          <a:ext cx="19558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4680" y="2408400"/>
                    <a:ext cx="19558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1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2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3280" y="5510160"/>
            <a:ext cx="50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4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4" name=""/>
          <p:cNvSpPr/>
          <p:nvPr/>
        </p:nvSpPr>
        <p:spPr>
          <a:xfrm>
            <a:off x="871560" y="554364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5.7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3280" y="5510160"/>
            <a:ext cx="50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5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71560" y="554364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5.7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3280" y="5510160"/>
            <a:ext cx="487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7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7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71560" y="554364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5.7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3460680" y="4273560"/>
          <a:ext cx="1650960" cy="11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0680" y="4273560"/>
                    <a:ext cx="1650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757080" y="4273560"/>
          <a:ext cx="1613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73560"/>
                    <a:ext cx="1613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3280" y="5510160"/>
            <a:ext cx="48895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 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39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71560" y="554364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5.7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0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1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2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3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3280" y="3622680"/>
            <a:ext cx="50306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4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4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6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7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7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03280" y="546264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49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54957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3280" y="546264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1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39880" y="54957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3280" y="546264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2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9880" y="54957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4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3422520" y="4299120"/>
          <a:ext cx="172728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99120"/>
                    <a:ext cx="1727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719280" y="4273560"/>
          <a:ext cx="16891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9280" y="4273560"/>
                    <a:ext cx="16891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3280" y="5462640"/>
            <a:ext cx="4751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 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4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9880" y="54957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5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6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7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7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3622680"/>
            <a:ext cx="5030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58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1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0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1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1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1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3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3280" y="546264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4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55720" y="54799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03280" y="546264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6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55720" y="54799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03280" y="546264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68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55720" y="54799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3435480" y="4194000"/>
          <a:ext cx="1701720" cy="115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194000"/>
                    <a:ext cx="1701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731880" y="4194000"/>
          <a:ext cx="16635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880" y="4194000"/>
                    <a:ext cx="1663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2627280" y="4387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3280" y="5462640"/>
            <a:ext cx="4751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  Let’s plot this point on our coordinate plane 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0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55720" y="54799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5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1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1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2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280" y="3622680"/>
            <a:ext cx="5030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3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3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3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7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4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5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3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6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7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7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8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4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79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9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97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6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03280" y="53830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    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81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1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55720" y="54007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-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03280" y="53830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    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83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3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55720" y="54007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-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6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03280" y="5383080"/>
            <a:ext cx="475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    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85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5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55720" y="54007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-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3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3422520" y="4257720"/>
          <a:ext cx="172728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2520" y="4257720"/>
                    <a:ext cx="17272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750960" y="4226040"/>
          <a:ext cx="16891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960" y="4226040"/>
                    <a:ext cx="1689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"/>
          <p:cNvSpPr/>
          <p:nvPr/>
        </p:nvSpPr>
        <p:spPr>
          <a:xfrm>
            <a:off x="2658960" y="4340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3280" y="5383080"/>
            <a:ext cx="475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       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 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874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75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7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55720" y="540072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-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5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88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03280" y="3622680"/>
            <a:ext cx="503064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0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1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1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3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5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2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1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5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0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4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4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5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7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6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7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3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79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0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2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7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1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3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03280" y="538308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99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1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39880" y="54165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7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1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03280" y="5383080"/>
            <a:ext cx="47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018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19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1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39880" y="54165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7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7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6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03280" y="53830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039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0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42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39880" y="54165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7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8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5" name=""/>
          <p:cNvGraphicFramePr/>
          <p:nvPr/>
        </p:nvGraphicFramePr>
        <p:xfrm>
          <a:off x="3435480" y="4232160"/>
          <a:ext cx="170172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5480" y="4232160"/>
                    <a:ext cx="1701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7" name=""/>
          <p:cNvGraphicFramePr/>
          <p:nvPr/>
        </p:nvGraphicFramePr>
        <p:xfrm>
          <a:off x="763560" y="4206960"/>
          <a:ext cx="166356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560" y="4206960"/>
                    <a:ext cx="16635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9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03280" y="5383080"/>
            <a:ext cx="4751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06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6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6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39880" y="5416560"/>
            <a:ext cx="1216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, -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5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3280" y="3622680"/>
            <a:ext cx="503064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7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07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8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09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0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0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0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4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8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2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2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3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4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3429000" y="4232160"/>
          <a:ext cx="1714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32160"/>
                    <a:ext cx="1714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2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4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5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5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5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9" name=""/>
          <p:cNvGraphicFramePr/>
          <p:nvPr/>
        </p:nvGraphicFramePr>
        <p:xfrm>
          <a:off x="3429000" y="4232160"/>
          <a:ext cx="1714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32160"/>
                    <a:ext cx="1714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1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7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7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4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8" name=""/>
          <p:cNvGraphicFramePr/>
          <p:nvPr/>
        </p:nvGraphicFramePr>
        <p:xfrm>
          <a:off x="3429000" y="4232160"/>
          <a:ext cx="1714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32160"/>
                    <a:ext cx="1714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0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03280" y="53830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195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6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9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98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839880" y="5400720"/>
            <a:ext cx="911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9" name=""/>
          <p:cNvGraphicFramePr/>
          <p:nvPr/>
        </p:nvGraphicFramePr>
        <p:xfrm>
          <a:off x="3429000" y="4232160"/>
          <a:ext cx="1714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32160"/>
                    <a:ext cx="1714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1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3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3280" y="53830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1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1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839880" y="5400720"/>
            <a:ext cx="911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6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0" name=""/>
          <p:cNvGraphicFramePr/>
          <p:nvPr/>
        </p:nvGraphicFramePr>
        <p:xfrm>
          <a:off x="3429000" y="4232160"/>
          <a:ext cx="1714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232160"/>
                    <a:ext cx="1714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2" name=""/>
          <p:cNvGraphicFramePr/>
          <p:nvPr/>
        </p:nvGraphicFramePr>
        <p:xfrm>
          <a:off x="757080" y="4206960"/>
          <a:ext cx="1676520" cy="107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7080" y="4206960"/>
                    <a:ext cx="16765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4" name=""/>
          <p:cNvSpPr/>
          <p:nvPr/>
        </p:nvSpPr>
        <p:spPr>
          <a:xfrm>
            <a:off x="265896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03280" y="5383080"/>
            <a:ext cx="475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r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37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8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40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839880" y="5400720"/>
            <a:ext cx="911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5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3280" y="3622680"/>
            <a:ext cx="5030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struct a table of values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choose valu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ind corresponding values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98280" y="355680"/>
            <a:ext cx="7350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Graphing Parametric Equations: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54160" y="4075200"/>
          <a:ext cx="170172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4075200"/>
                    <a:ext cx="170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5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6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6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7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8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8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8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8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3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5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296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7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9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5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8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9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1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12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3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1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15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1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5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7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9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3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3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3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3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4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8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5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5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9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3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5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7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3280" y="54151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70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1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3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855720" y="5416560"/>
            <a:ext cx="120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0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4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6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8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03280" y="541512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391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92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9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4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55720" y="5416560"/>
            <a:ext cx="120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86456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2" name=""/>
          <p:cNvSpPr/>
          <p:nvPr/>
        </p:nvSpPr>
        <p:spPr>
          <a:xfrm>
            <a:off x="503280" y="36226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ak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5" name=""/>
          <p:cNvGraphicFramePr/>
          <p:nvPr/>
        </p:nvGraphicFramePr>
        <p:xfrm>
          <a:off x="250920" y="1374840"/>
          <a:ext cx="8620200" cy="1993680"/>
        </p:xfrm>
        <a:graphic>
          <a:graphicData uri="http://schemas.openxmlformats.org/drawingml/2006/table">
            <a:tbl>
              <a:tblPr/>
              <a:tblGrid>
                <a:gridCol w="1266840"/>
                <a:gridCol w="815760"/>
                <a:gridCol w="928800"/>
                <a:gridCol w="853920"/>
                <a:gridCol w="1036800"/>
                <a:gridCol w="898560"/>
                <a:gridCol w="1006560"/>
                <a:gridCol w="852480"/>
                <a:gridCol w="960480"/>
              </a:tblGrid>
              <a:tr h="44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6" name=""/>
          <p:cNvGraphicFramePr/>
          <p:nvPr/>
        </p:nvGraphicFramePr>
        <p:xfrm>
          <a:off x="3413160" y="4149720"/>
          <a:ext cx="171432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4149720"/>
                    <a:ext cx="1714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8" name=""/>
          <p:cNvGraphicFramePr/>
          <p:nvPr/>
        </p:nvGraphicFramePr>
        <p:xfrm>
          <a:off x="703440" y="4200480"/>
          <a:ext cx="1688760" cy="109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3440" y="4200480"/>
                    <a:ext cx="16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0" name=""/>
          <p:cNvSpPr/>
          <p:nvPr/>
        </p:nvSpPr>
        <p:spPr>
          <a:xfrm>
            <a:off x="2627280" y="430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03280" y="5415120"/>
            <a:ext cx="475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 the graph of this syst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plot this point on our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8280" y="149400"/>
            <a:ext cx="7934400" cy="1041120"/>
            <a:chOff x="98280" y="149400"/>
            <a:chExt cx="7934400" cy="1041120"/>
          </a:xfrm>
        </p:grpSpPr>
        <p:sp>
          <p:nvSpPr>
            <p:cNvPr id="1413" name=""/>
            <p:cNvSpPr/>
            <p:nvPr/>
          </p:nvSpPr>
          <p:spPr>
            <a:xfrm>
              <a:off x="98280" y="355680"/>
              <a:ext cx="73501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Arial"/>
                </a:rPr>
                <a:t>Graphing Parametric Equations: </a:t>
              </a:r>
              <a:r>
                <a:rPr b="1" lang="en-US" sz="4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14" name=""/>
            <p:cNvGraphicFramePr/>
            <p:nvPr/>
          </p:nvGraphicFramePr>
          <p:xfrm>
            <a:off x="6483240" y="149400"/>
            <a:ext cx="1549440" cy="1041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83240" y="149400"/>
                      <a:ext cx="1549440" cy="10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16" name=""/>
          <p:cNvSpPr/>
          <p:nvPr/>
        </p:nvSpPr>
        <p:spPr>
          <a:xfrm>
            <a:off x="231444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855720" y="5416560"/>
            <a:ext cx="1201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, 5.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06728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437080" y="1881360"/>
            <a:ext cx="514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15120" y="2382840"/>
            <a:ext cx="514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03720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864560" y="2919240"/>
            <a:ext cx="121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4, 5.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8"/>
          <a:stretch/>
        </p:blipFill>
        <p:spPr>
          <a:xfrm>
            <a:off x="5738760" y="3611520"/>
            <a:ext cx="311616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7:53:17Z</dcterms:created>
  <dc:creator>Peter Haberman</dc:creator>
  <dc:description/>
  <dc:language>en-US</dc:language>
  <cp:lastModifiedBy>Peter Haberman</cp:lastModifiedBy>
  <dcterms:modified xsi:type="dcterms:W3CDTF">2006-02-04T06:14:35Z</dcterms:modified>
  <cp:revision>21</cp:revision>
  <dc:subject/>
  <dc:title>Graphing </dc:title>
</cp:coreProperties>
</file>