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6D87-5F89-4936-B6C9-466BB2EA7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5538-175D-4AC1-A974-06D33ED0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9079-3ECC-4DB7-9DA7-3E0E49C1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D36B-F4A5-438A-A442-749AE4A33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2C58-9492-4594-B598-A68E2839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091C-7419-413A-B377-E9C0DD0B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B4C7-02B1-42F5-85E8-DAAA108C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AA48-46BA-4E0D-9BBA-CC65C8DA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807D-1513-4EAB-94DA-C49EBFC8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66C1-E65B-419E-9B40-A2A45F40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3FFF-DD2B-42CD-8DFB-D8187D72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919A-076B-479B-845A-2385747C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4C29-3BAB-4426-9DCF-52FD16302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hy 213: General Physics III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: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Scalar (Dot) Produc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7631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vectors                    can be multiplied to product a scalar resultant, called the scalar (or Dot) produ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using the magnitudes of the vec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is the angle between vectors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using vector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properties of scalar produ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Example: The scalar product of the vectors of force and displacement is used to calculate work performed by the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627520" y="1623960"/>
          <a:ext cx="2337120" cy="63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27520" y="1623960"/>
                    <a:ext cx="233712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050920" y="1003320"/>
          <a:ext cx="1230480" cy="38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1003320"/>
                    <a:ext cx="123048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4378320" y="2925720"/>
          <a:ext cx="251460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78320" y="2925720"/>
                    <a:ext cx="2514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897440" y="4241880"/>
          <a:ext cx="1504800" cy="41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97440" y="4241880"/>
                    <a:ext cx="150480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919760" y="3583080"/>
          <a:ext cx="1268280" cy="41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19760" y="3583080"/>
                    <a:ext cx="12682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902120" y="4842000"/>
          <a:ext cx="2927520" cy="515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02120" y="4842000"/>
                    <a:ext cx="29275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heory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eb Links &amp; Referenc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Tony Zable</cp:lastModifiedBy>
  <dcterms:modified xsi:type="dcterms:W3CDTF">2007-06-12T16:47:19Z</dcterms:modified>
  <cp:revision>25</cp:revision>
  <dc:subject/>
  <dc:title>Phy 211: General Physics I</dc:title>
</cp:coreProperties>
</file>