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829-88F7-4273-BB34-1F6F69D8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B6C-5C84-46C9-978D-C9278D0D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E02-9CF4-485D-9A3F-CBE00E63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479-FF26-482F-8AB2-11AC91B0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942-61BE-4F84-A161-1E509BB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127-0356-4F81-910C-0F898E01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785-5805-4EE0-8FDD-5C6CB4C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93D-5987-4AD1-BFED-F2C75C6B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635-0F1B-4B00-A38B-FC6B5B68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64A-8753-4A4C-98CB-B58C1F4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C82-20A6-4EC9-A6F1-41AE4583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B23-0737-4E21-AC58-EBECCE8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5879-4BDB-45F3-8899-055711C7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Scalar (Dot) Produc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t a scalar resultant, called the scalar (or Dot) prod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xample: The scalar product of the vectors of force and displacement is used to calculate work performed by the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27520" y="1623960"/>
          <a:ext cx="2337120" cy="6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27520" y="1623960"/>
                    <a:ext cx="23371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050920" y="1003320"/>
          <a:ext cx="1230480" cy="38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003320"/>
                    <a:ext cx="12304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378320" y="2925720"/>
          <a:ext cx="2514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78320" y="2925720"/>
                    <a:ext cx="251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897440" y="4241880"/>
          <a:ext cx="1504800" cy="41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97440" y="4241880"/>
                    <a:ext cx="1504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919760" y="3583080"/>
          <a:ext cx="1268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19760" y="3583080"/>
                    <a:ext cx="1268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902120" y="4842000"/>
          <a:ext cx="29275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02120" y="4842000"/>
                    <a:ext cx="292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eb Links &amp; Referen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7-06-12T16:47:19Z</dcterms:modified>
  <cp:revision>25</cp:revision>
  <dc:subject/>
  <dc:title>Phy 211: General Physics I</dc:title>
</cp:coreProperties>
</file>