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9.jpeg" ContentType="image/jpeg"/>
  <Override PartName="/ppt/media/image1.png" ContentType="image/png"/>
  <Override PartName="/ppt/media/image2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E52A-6EA4-45C9-8401-FC09A07D4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y FB direction with R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ither B or A ch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s the change in magnetic field (B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B= 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B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change in area of the loop (A)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33"/>
                </a:solidFill>
                <a:latin typeface="Symbol"/>
                <a:ea typeface="Symbol"/>
              </a:rPr>
              <a:t>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A= 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final</a:t>
            </a:r>
            <a:r>
              <a:rPr b="0" lang="en-US" sz="1200" spc="-1" strike="noStrike">
                <a:solidFill>
                  <a:srgbClr val="ccff33"/>
                </a:solidFill>
                <a:latin typeface="Arial"/>
              </a:rPr>
              <a:t>-A</a:t>
            </a:r>
            <a:r>
              <a:rPr b="0" lang="en-US" sz="1200" spc="-1" strike="noStrike" baseline="-25000">
                <a:solidFill>
                  <a:srgbClr val="ccff33"/>
                </a:solidFill>
                <a:latin typeface="Arial"/>
              </a:rPr>
              <a:t>ini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1E2-690D-4900-9BCE-7C4E1CB9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7A1-BF49-49C7-8E90-2329312C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896-7806-4795-BD92-84D53F8E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F82-986A-4B13-BF0E-5E40E748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548-F435-4E68-9CF9-E7C93D73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8B4-06C1-4B78-A735-9F07F0B4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BAF-A061-4157-8377-32B9AECF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069-C5F6-42AA-9016-DB18A0B6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156-E8E3-4FFF-9714-11450654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F82-9EC9-4DCF-81E6-138D08F7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48F-3AE4-4181-9AA6-8229949F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0D0-FD69-4759-99C6-091F721B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0D4A-E923-4340-A5B9-7148392A5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0: Induction &amp; Induc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1284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orce &amp; Magnetic Indu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004760"/>
            <a:ext cx="91440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the force applied by the hand to keep the rail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ving rail induces an electric current and also produces power to drive the 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 = (5 V)(2.5 A) = 12.5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 (rate of work performed) comes from the effort of the hand to push the r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v is constant, the magnetic field exerts a resistive force on the r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029200"/>
            <a:ext cx="152280" cy="1447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600200" y="5791320"/>
            <a:ext cx="990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5791320"/>
            <a:ext cx="990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414648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rce of the hand can be determined from th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744640" y="3932280"/>
          <a:ext cx="606744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4640" y="3932280"/>
                    <a:ext cx="60674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5640" y="5013360"/>
          <a:ext cx="4419720" cy="9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5640" y="5013360"/>
                    <a:ext cx="441972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4238640" y="5942160"/>
          <a:ext cx="4429080" cy="85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8640" y="5942160"/>
                    <a:ext cx="442908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986120" y="5826240"/>
          <a:ext cx="36972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6120" y="5826240"/>
                    <a:ext cx="3697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68360" y="5823000"/>
          <a:ext cx="671400" cy="515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5823000"/>
                    <a:ext cx="6714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399600"/>
            <a:ext cx="86868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enerators &amp; Alternating Curr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976320"/>
            <a:ext cx="8839440" cy="58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ors are devices that utilize electromagnetic induction to produce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ors convert mechanical energy into electrical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energy is utilized to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 a magnet inside a wire c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 a wire coil inside a magnet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cases, the magnetic flux inside the coil changes producing an induced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magnet or coil rotates, it produces an alternating current (AC) {due to the changing orientation of the coil and the magnetic fiel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s and Generators are equivalen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rator is a motor running in reve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xwell’s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 in combination, the electromagnetic equations are referred to as Maxwell’s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’ Law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’ Law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aday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089160" y="1531800"/>
          <a:ext cx="35928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9160" y="1531800"/>
                    <a:ext cx="35928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3056040" y="2685960"/>
          <a:ext cx="1782720" cy="58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6040" y="2685960"/>
                    <a:ext cx="17827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3406680"/>
          <a:ext cx="6291360" cy="82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4720" y="3406680"/>
                    <a:ext cx="62913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862360" y="4176720"/>
          <a:ext cx="3760560" cy="91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62360" y="4176720"/>
                    <a:ext cx="376056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895480" y="5119560"/>
          <a:ext cx="4445280" cy="83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5119560"/>
                    <a:ext cx="44452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81440" y="5835600"/>
          <a:ext cx="3473280" cy="95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81440" y="5835600"/>
                    <a:ext cx="347328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gnificance of Maxwell’s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 chang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induc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 chang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induces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, 1 &amp; 2 explain all electromagnetic behavior (in a classical sense) AND suggest that bo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agate 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ing waves, directed perpendicular to each other AND the propagation of the waves, 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s special signific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852480" y="3586320"/>
          <a:ext cx="2413080" cy="9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3586320"/>
                    <a:ext cx="241308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0"/>
          <a:ext cx="109548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0954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727520" y="3625920"/>
          <a:ext cx="243216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7520" y="3625920"/>
                    <a:ext cx="24321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81040" y="5483160"/>
          <a:ext cx="5046840" cy="92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81040" y="5483160"/>
                    <a:ext cx="50468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0"/>
          <a:ext cx="33336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0"/>
                    <a:ext cx="333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0"/>
          <a:ext cx="333360" cy="2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0"/>
                    <a:ext cx="333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648480" y="4594320"/>
          <a:ext cx="1985760" cy="88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48480" y="4594320"/>
                    <a:ext cx="19857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omagnetic Induc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120" y="874800"/>
            <a:ext cx="88390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observed that force is exerted on a charge by either and E field or a B field (when charge is movi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 of the Lorentz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 field can exert a force on an electric current (moving 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hanging B-field (such as a moving magnet) will exert a magnetic force on a static charge, producing an electric curr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this is calle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lectromagnetic in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aday’s contribution to this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closed loop, a current is induced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-field through the loop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ea (A) of the loop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entation of B and A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9960" y="1509840"/>
          <a:ext cx="874404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509840"/>
                    <a:ext cx="874404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6243480" y="3365640"/>
            <a:ext cx="1087560" cy="2662920"/>
            <a:chOff x="6243480" y="3365640"/>
            <a:chExt cx="1087560" cy="2662920"/>
          </a:xfrm>
        </p:grpSpPr>
        <p:sp>
          <p:nvSpPr>
            <p:cNvPr id="57" name=""/>
            <p:cNvSpPr/>
            <p:nvPr/>
          </p:nvSpPr>
          <p:spPr>
            <a:xfrm>
              <a:off x="6708600" y="3913200"/>
              <a:ext cx="217440" cy="2170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48360" y="4021200"/>
              <a:ext cx="38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13400" y="3612960"/>
              <a:ext cx="46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" name=""/>
            <p:cNvGraphicFramePr/>
            <p:nvPr/>
          </p:nvGraphicFramePr>
          <p:xfrm>
            <a:off x="7026120" y="4057560"/>
            <a:ext cx="268200" cy="34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26120" y="4057560"/>
                      <a:ext cx="268200" cy="34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" name=""/>
            <p:cNvGrpSpPr/>
            <p:nvPr/>
          </p:nvGrpSpPr>
          <p:grpSpPr>
            <a:xfrm>
              <a:off x="6565680" y="4529160"/>
              <a:ext cx="685440" cy="1499400"/>
              <a:chOff x="6565680" y="4529160"/>
              <a:chExt cx="685440" cy="1499400"/>
            </a:xfrm>
          </p:grpSpPr>
          <p:sp>
            <p:nvSpPr>
              <p:cNvPr id="63" name=""/>
              <p:cNvSpPr/>
              <p:nvPr/>
            </p:nvSpPr>
            <p:spPr>
              <a:xfrm rot="5400000">
                <a:off x="6489720" y="4605120"/>
                <a:ext cx="833040" cy="681120"/>
              </a:xfrm>
              <a:prstGeom prst="cube">
                <a:avLst>
                  <a:gd name="adj" fmla="val 25000"/>
                </a:avLst>
              </a:prstGeom>
              <a:solidFill>
                <a:srgbClr val="ff00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6494040" y="5271480"/>
                <a:ext cx="833040" cy="6807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627600" y="4657320"/>
                <a:ext cx="4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630840" y="5371560"/>
                <a:ext cx="4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 flipV="1">
              <a:off x="6805440" y="3443040"/>
              <a:ext cx="0" cy="4345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6867360" y="3365640"/>
            <a:ext cx="265320" cy="385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67360" y="3365640"/>
                      <a:ext cx="26532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 flipH="1">
              <a:off x="6521400" y="4070160"/>
              <a:ext cx="272880" cy="38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6243480" y="4025880"/>
            <a:ext cx="276120" cy="441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3480" y="4025880"/>
                      <a:ext cx="27612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7705800" y="3362400"/>
            <a:ext cx="1148760" cy="2663640"/>
            <a:chOff x="7705800" y="3362400"/>
            <a:chExt cx="1148760" cy="2663640"/>
          </a:xfrm>
        </p:grpSpPr>
        <p:sp>
          <p:nvSpPr>
            <p:cNvPr id="74" name=""/>
            <p:cNvSpPr/>
            <p:nvPr/>
          </p:nvSpPr>
          <p:spPr>
            <a:xfrm>
              <a:off x="8312040" y="3909960"/>
              <a:ext cx="217440" cy="2174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05800" y="5164200"/>
              <a:ext cx="38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16840" y="3610080"/>
              <a:ext cx="46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" name=""/>
            <p:cNvGraphicFramePr/>
            <p:nvPr/>
          </p:nvGraphicFramePr>
          <p:xfrm>
            <a:off x="7848720" y="5172120"/>
            <a:ext cx="268200" cy="341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48720" y="5172120"/>
                      <a:ext cx="26820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9" name=""/>
            <p:cNvGrpSpPr/>
            <p:nvPr/>
          </p:nvGrpSpPr>
          <p:grpSpPr>
            <a:xfrm>
              <a:off x="8169120" y="4525920"/>
              <a:ext cx="685440" cy="1500120"/>
              <a:chOff x="8169120" y="4525920"/>
              <a:chExt cx="685440" cy="1500120"/>
            </a:xfrm>
          </p:grpSpPr>
          <p:sp>
            <p:nvSpPr>
              <p:cNvPr id="80" name=""/>
              <p:cNvSpPr/>
              <p:nvPr/>
            </p:nvSpPr>
            <p:spPr>
              <a:xfrm rot="5400000">
                <a:off x="8092800" y="4601880"/>
                <a:ext cx="833400" cy="681120"/>
              </a:xfrm>
              <a:prstGeom prst="cube">
                <a:avLst>
                  <a:gd name="adj" fmla="val 25000"/>
                </a:avLst>
              </a:prstGeom>
              <a:solidFill>
                <a:srgbClr val="ff00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5400000">
                <a:off x="8097480" y="5268960"/>
                <a:ext cx="833400" cy="6807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31040" y="4654440"/>
                <a:ext cx="4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234280" y="5368680"/>
                <a:ext cx="4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V="1">
              <a:off x="8408880" y="3440160"/>
              <a:ext cx="0" cy="43488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8470800" y="3362400"/>
            <a:ext cx="265320" cy="385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470800" y="3362400"/>
                      <a:ext cx="265320" cy="38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"/>
            <p:cNvSpPr/>
            <p:nvPr/>
          </p:nvSpPr>
          <p:spPr>
            <a:xfrm flipH="1">
              <a:off x="8124840" y="4067280"/>
              <a:ext cx="272880" cy="38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" name=""/>
            <p:cNvGraphicFramePr/>
            <p:nvPr/>
          </p:nvGraphicFramePr>
          <p:xfrm>
            <a:off x="7846920" y="4022640"/>
            <a:ext cx="276480" cy="441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846920" y="4022640"/>
                      <a:ext cx="2764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" name=""/>
          <p:cNvSpPr/>
          <p:nvPr/>
        </p:nvSpPr>
        <p:spPr>
          <a:xfrm>
            <a:off x="0" y="5396040"/>
            <a:ext cx="6411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rent is induced ONLY when any or all of the above are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induced current depends on the rate of change of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6045120"/>
            <a:ext cx="11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Moving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64360" y="6048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Moving mag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Magnetic Flux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7760" y="926640"/>
            <a:ext cx="853416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aday referred to changes in B field, area and orientation as changes in magnetic flux inside the closed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al definition of magnetic flux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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alogous to electric flux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 is uniform over A, this becomes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flux is a measure of the # of B field lines within a closed area (or in this case a loop or coil of wi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B, A and/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 the magnetic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aday’s La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hanging magnetic flux induces electromotive force (&amp; thus current) in a closed wir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021040" y="2239920"/>
          <a:ext cx="2360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1040" y="2239920"/>
                    <a:ext cx="2360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6705720" y="1871280"/>
            <a:ext cx="2438280" cy="1752480"/>
            <a:chOff x="6705720" y="1871280"/>
            <a:chExt cx="2438280" cy="1752480"/>
          </a:xfrm>
        </p:grpSpPr>
        <p:sp>
          <p:nvSpPr>
            <p:cNvPr id="98" name=""/>
            <p:cNvSpPr/>
            <p:nvPr/>
          </p:nvSpPr>
          <p:spPr>
            <a:xfrm>
              <a:off x="6705720" y="2938320"/>
              <a:ext cx="2438280" cy="685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924680" y="1871280"/>
              <a:ext cx="0" cy="137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7086600" y="2328120"/>
              <a:ext cx="838080" cy="914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7480" y="2468160"/>
              <a:ext cx="457200" cy="164880"/>
            </a:xfrm>
            <a:custGeom>
              <a:avLst/>
              <a:gdLst/>
              <a:ahLst/>
              <a:rect l="l" t="t" r="r" b="b"/>
              <a:pathLst>
                <a:path w="288" h="104">
                  <a:moveTo>
                    <a:pt x="0" y="104"/>
                  </a:moveTo>
                  <a:cubicBezTo>
                    <a:pt x="12" y="88"/>
                    <a:pt x="24" y="72"/>
                    <a:pt x="48" y="56"/>
                  </a:cubicBezTo>
                  <a:cubicBezTo>
                    <a:pt x="72" y="40"/>
                    <a:pt x="104" y="16"/>
                    <a:pt x="144" y="8"/>
                  </a:cubicBezTo>
                  <a:cubicBezTo>
                    <a:pt x="184" y="0"/>
                    <a:pt x="236" y="4"/>
                    <a:pt x="288" y="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67480" y="2023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3" name=""/>
            <p:cNvGraphicFramePr/>
            <p:nvPr/>
          </p:nvGraphicFramePr>
          <p:xfrm>
            <a:off x="7996320" y="2287440"/>
            <a:ext cx="388800" cy="516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996320" y="2287440"/>
                      <a:ext cx="388800" cy="51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721560" y="2242800"/>
            <a:ext cx="358560" cy="522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21560" y="2242800"/>
                      <a:ext cx="358560" cy="52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7" name=""/>
          <p:cNvGraphicFramePr/>
          <p:nvPr/>
        </p:nvGraphicFramePr>
        <p:xfrm>
          <a:off x="2019240" y="3390840"/>
          <a:ext cx="2755800" cy="56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19240" y="3390840"/>
                    <a:ext cx="2755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7764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araday’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942400" cy="55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no voltage source is present, current will flow around a closed loop or coil when an electric field is present parallel to the curren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flows due to the presence of electromotive force, or em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n charge carriers in the coil.  The emf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-field is induced along a coil when the magnetic flux changes, producing an emf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The induced emf is rela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loops (N) in the c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te at which the magnetic flux is changing inside the loop(s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flux changes wh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agnetic field (B), the area (A) or the orientation (c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f the loop cha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96920" y="4476600"/>
          <a:ext cx="638640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4476600"/>
                    <a:ext cx="63864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52360" y="6035760"/>
          <a:ext cx="226692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60" y="6035760"/>
                    <a:ext cx="226692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352680" y="6060960"/>
          <a:ext cx="226404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6060960"/>
                    <a:ext cx="226404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470640" y="6012000"/>
          <a:ext cx="2481120" cy="76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0640" y="6012000"/>
                    <a:ext cx="24811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328920" y="2484360"/>
          <a:ext cx="317988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28920" y="2484360"/>
                    <a:ext cx="31798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590400" y="2490840"/>
            <a:ext cx="2071800" cy="729720"/>
            <a:chOff x="590400" y="2490840"/>
            <a:chExt cx="2071800" cy="729720"/>
          </a:xfrm>
        </p:grpSpPr>
        <p:sp>
          <p:nvSpPr>
            <p:cNvPr id="122" name=""/>
            <p:cNvSpPr/>
            <p:nvPr/>
          </p:nvSpPr>
          <p:spPr>
            <a:xfrm>
              <a:off x="655560" y="2490840"/>
              <a:ext cx="2006640" cy="5634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893880" y="2638080"/>
            <a:ext cx="463320" cy="344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93880" y="2638080"/>
                      <a:ext cx="463320" cy="34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 flipH="1" flipV="1">
              <a:off x="847800" y="3072600"/>
              <a:ext cx="395280" cy="9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28800" y="2973240"/>
              <a:ext cx="258480" cy="45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7" name=""/>
            <p:cNvGraphicFramePr/>
            <p:nvPr/>
          </p:nvGraphicFramePr>
          <p:xfrm>
            <a:off x="590400" y="2868480"/>
            <a:ext cx="262080" cy="352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90400" y="2868480"/>
                      <a:ext cx="262080" cy="35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 flipV="1">
              <a:off x="912600" y="2747160"/>
              <a:ext cx="139356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689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68964"/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74840" y="260640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anging Magnetic Fiel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33483"/>
          <a:stretch/>
        </p:blipFill>
        <p:spPr>
          <a:xfrm>
            <a:off x="304920" y="914400"/>
            <a:ext cx="8297640" cy="241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22200" y="3862440"/>
          <a:ext cx="3622680" cy="11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200" y="3862440"/>
                    <a:ext cx="362268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15840" y="3543120"/>
            <a:ext cx="5257800" cy="20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gnet moves toward a loop of wire (N=10 &amp; A is 0.02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movement, B changes from is 0.0 T to 1.5 T in 3 s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605560"/>
            <a:ext cx="83822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induc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induced current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anging Area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86320" y="1103040"/>
            <a:ext cx="521784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op of wire (N=10) contracts from 0.03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0.0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0.5 s, where B is 0.5 T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35422"/>
          <a:stretch/>
        </p:blipFill>
        <p:spPr>
          <a:xfrm>
            <a:off x="228600" y="914400"/>
            <a:ext cx="3894120" cy="464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246560" y="2849400"/>
          <a:ext cx="4003560" cy="12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6560" y="2849400"/>
                    <a:ext cx="4003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28600" y="563868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induc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the induced current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hanging Orienta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411480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op of wire (N=10) rotates from 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1.5 s, B is 0.5 T and A is 0.02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verage angular frequenc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nduce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induced current in the lo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30077"/>
          <a:stretch/>
        </p:blipFill>
        <p:spPr>
          <a:xfrm>
            <a:off x="152280" y="1219320"/>
            <a:ext cx="5715000" cy="278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784840" y="1430280"/>
          <a:ext cx="3057480" cy="22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84840" y="1430280"/>
                    <a:ext cx="305748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Lenz’s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magnetic flux changes within a loop of wire, the induced curr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i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hanging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induced current always produces a magnetic field that resists the change in magnetic flux (blue arrow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the previous examples and determine the direction of th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9840" y="3016080"/>
            <a:ext cx="2437920" cy="2534400"/>
            <a:chOff x="339840" y="3016080"/>
            <a:chExt cx="2437920" cy="2534400"/>
          </a:xfrm>
        </p:grpSpPr>
        <p:sp>
          <p:nvSpPr>
            <p:cNvPr id="151" name=""/>
            <p:cNvSpPr/>
            <p:nvPr/>
          </p:nvSpPr>
          <p:spPr>
            <a:xfrm rot="20696400">
              <a:off x="903240" y="3042720"/>
              <a:ext cx="480600" cy="2076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50680" y="350820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79480" y="367632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30240" y="393048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12680" y="432720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68120" y="452880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1920" y="412416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55600" y="472104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25440" y="485748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27160" y="337500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8960" y="355248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17600" y="379728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28480" y="419400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8440" y="458604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61880" y="39909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88960" y="476712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65200" y="4389120"/>
              <a:ext cx="75672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2246040" y="3288960"/>
            <a:ext cx="531720" cy="77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46040" y="3288960"/>
                      <a:ext cx="531720" cy="77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339840" y="5144760"/>
              <a:ext cx="211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agnetic flux,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355920" y="3013920"/>
            <a:ext cx="2448000" cy="2573640"/>
            <a:chOff x="3355920" y="3013920"/>
            <a:chExt cx="2448000" cy="2573640"/>
          </a:xfrm>
        </p:grpSpPr>
        <p:sp>
          <p:nvSpPr>
            <p:cNvPr id="172" name=""/>
            <p:cNvSpPr/>
            <p:nvPr/>
          </p:nvSpPr>
          <p:spPr>
            <a:xfrm>
              <a:off x="3603600" y="448632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73360" y="421488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97320" y="406872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55920" y="3767040"/>
              <a:ext cx="59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0696400">
              <a:off x="3929040" y="3062160"/>
              <a:ext cx="480960" cy="2076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76480" y="352728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05280" y="36957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6040" y="3949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38480" y="434664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93920" y="454824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7720" y="414324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81400" y="474012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51240" y="4876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52960" y="339408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4760" y="357192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43400" y="38163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54280" y="421308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94240" y="460512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87680" y="401004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14760" y="478620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1000" y="4408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3" name=""/>
            <p:cNvGraphicFramePr/>
            <p:nvPr/>
          </p:nvGraphicFramePr>
          <p:xfrm>
            <a:off x="5272200" y="3308400"/>
            <a:ext cx="531720" cy="77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72200" y="3308400"/>
                      <a:ext cx="531720" cy="77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3365280" y="5164200"/>
              <a:ext cx="21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creasing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94080" y="4497120"/>
              <a:ext cx="757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54480" y="4213080"/>
              <a:ext cx="757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10040" y="3762360"/>
              <a:ext cx="757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64040" y="4062240"/>
              <a:ext cx="757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 rot="10527600">
              <a:off x="3701880" y="3025080"/>
              <a:ext cx="326160" cy="117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a50021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 rot="7918200">
              <a:off x="4253760" y="4485960"/>
              <a:ext cx="325440" cy="11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a50021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33680" y="3100320"/>
              <a:ext cx="4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308640" y="3040920"/>
            <a:ext cx="2597400" cy="2573640"/>
            <a:chOff x="6308640" y="3040920"/>
            <a:chExt cx="2597400" cy="2573640"/>
          </a:xfrm>
        </p:grpSpPr>
        <p:sp>
          <p:nvSpPr>
            <p:cNvPr id="204" name=""/>
            <p:cNvSpPr/>
            <p:nvPr/>
          </p:nvSpPr>
          <p:spPr>
            <a:xfrm>
              <a:off x="6569280" y="4513320"/>
              <a:ext cx="730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80080" y="4241880"/>
              <a:ext cx="689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50040" y="4095720"/>
              <a:ext cx="743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08640" y="3794040"/>
              <a:ext cx="743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696400">
              <a:off x="7031160" y="3089160"/>
              <a:ext cx="480960" cy="2076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78600" y="355428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07400" y="37227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58160" y="3976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40600" y="437364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96040" y="457524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89840" y="417024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83520" y="476712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53360" y="4903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55080" y="342108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46880" y="359892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445520" y="38433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56400" y="424008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96360" y="463212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89800" y="4037040"/>
              <a:ext cx="75744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16880" y="481320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93120" y="4435560"/>
              <a:ext cx="757080" cy="0"/>
            </a:xfrm>
            <a:prstGeom prst="line">
              <a:avLst/>
            </a:prstGeom>
            <a:ln cap="rnd" w="28440">
              <a:solidFill>
                <a:srgbClr val="80808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5" name=""/>
            <p:cNvGraphicFramePr/>
            <p:nvPr/>
          </p:nvGraphicFramePr>
          <p:xfrm>
            <a:off x="8373960" y="3335400"/>
            <a:ext cx="532080" cy="774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73960" y="3335400"/>
                      <a:ext cx="532080" cy="77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6467400" y="5191200"/>
              <a:ext cx="21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creasing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396200" y="4510080"/>
              <a:ext cx="457200" cy="13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6600" y="4240080"/>
              <a:ext cx="552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12160" y="3789360"/>
              <a:ext cx="579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6160" y="4089240"/>
              <a:ext cx="552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 rot="10527600">
              <a:off x="6804000" y="3052080"/>
              <a:ext cx="326160" cy="117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a5002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 rot="7918200">
              <a:off x="7355880" y="4512960"/>
              <a:ext cx="325440" cy="11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a5002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35800" y="3127320"/>
              <a:ext cx="4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396720"/>
            <a:ext cx="883944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perating a light bulb with motional EMF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rectangular loop placed within a magnetic field, with a moveable rail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0.5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10 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1.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What is the area of the l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How does the area vary with 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What is the induc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l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0" t="0" r="0" b="25863"/>
          <a:stretch/>
        </p:blipFill>
        <p:spPr>
          <a:xfrm>
            <a:off x="5473800" y="914400"/>
            <a:ext cx="3630600" cy="5195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43000" y="5568840"/>
            <a:ext cx="6538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) What is the induced current in the l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) What is the direction of the cur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3-21T20:09:19Z</dcterms:modified>
  <cp:revision>67</cp:revision>
  <dc:subject/>
  <dc:title>Phy 211: General Physics I</dc:title>
</cp:coreProperties>
</file>