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1.wmf" ContentType="image/x-wmf"/>
  <Override PartName="/ppt/media/image12.wmf" ContentType="image/x-wmf"/>
  <Override PartName="/ppt/media/image13.png" ContentType="image/png"/>
  <Override PartName="/ppt/media/image7.wmf" ContentType="image/x-wmf"/>
  <Override PartName="/ppt/media/image37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1.png" ContentType="image/png"/>
  <Override PartName="/ppt/media/image29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9C9D-268D-4735-A2AB-954BB02F2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A8B6-9A4F-4F30-B7C7-2EF4F2ED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31AC-7C15-4FEA-A622-DC0488AF1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4CDB-B1BC-48C0-B10E-D0B3DAA97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2A2E-12B5-4607-BC77-8BB2AFBD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6146-206E-4937-B406-8925523A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5B83-DC70-45F5-AA38-CEDD5765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E9E4-5973-4624-8E48-8E7B040F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86A1-DD9C-4353-B1ED-CDCB381D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B870-401C-4B94-9F22-DC6A0CB0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DF0D-9A9A-4699-8E6C-B2BDE12F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8F08-4B66-4D6A-80E9-B823AEB1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8B46-A0C4-43DB-93B7-6B1CE3BC1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image" Target="../media/image1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7.wmf"/><Relationship Id="rId1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13: General Physics II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29: Magnetic Fields to Cur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Field of a Magnetic Dipol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012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urrent carrying loop or coil is an effective magnetic dipole (analogous to a straight bar magnet), where the B-field is parallel to the area vector of the c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-field at point P along z-axis, can be analyzed using the Biot-Savart La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z&gt;&gt;R, the B-field equation simplifie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441680" y="2131920"/>
            <a:ext cx="45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584280" y="3059280"/>
          <a:ext cx="5931000" cy="25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4280" y="3059280"/>
                    <a:ext cx="5931000" cy="25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1455840" y="6087960"/>
          <a:ext cx="2469960" cy="7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5840" y="6087960"/>
                    <a:ext cx="246996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4000680" y="627372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{the B-field for a magnetic dipole along Z-axis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6527880" y="2919240"/>
            <a:ext cx="2412360" cy="2160000"/>
            <a:chOff x="6527880" y="2919240"/>
            <a:chExt cx="2412360" cy="2160000"/>
          </a:xfrm>
        </p:grpSpPr>
        <p:grpSp>
          <p:nvGrpSpPr>
            <p:cNvPr id="244" name=""/>
            <p:cNvGrpSpPr/>
            <p:nvPr/>
          </p:nvGrpSpPr>
          <p:grpSpPr>
            <a:xfrm>
              <a:off x="6970680" y="2919240"/>
              <a:ext cx="1969560" cy="2160000"/>
              <a:chOff x="6970680" y="2919240"/>
              <a:chExt cx="1969560" cy="2160000"/>
            </a:xfrm>
          </p:grpSpPr>
          <p:sp>
            <p:nvSpPr>
              <p:cNvPr id="245" name=""/>
              <p:cNvSpPr/>
              <p:nvPr/>
            </p:nvSpPr>
            <p:spPr>
              <a:xfrm>
                <a:off x="6970680" y="3667680"/>
                <a:ext cx="1493640" cy="59616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970680" y="3758760"/>
                <a:ext cx="1493640" cy="59652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970680" y="3850200"/>
                <a:ext cx="1493640" cy="59616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970680" y="3943440"/>
                <a:ext cx="1493640" cy="59616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970680" y="4034520"/>
                <a:ext cx="1493640" cy="59616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970680" y="4125600"/>
                <a:ext cx="1493640" cy="59652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 flipV="1">
                <a:off x="7643160" y="3228840"/>
                <a:ext cx="16200" cy="973800"/>
              </a:xfrm>
              <a:prstGeom prst="line">
                <a:avLst/>
              </a:prstGeom>
              <a:ln w="38160">
                <a:solidFill>
                  <a:srgbClr val="33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7660080" y="4073400"/>
                <a:ext cx="0" cy="1005840"/>
              </a:xfrm>
              <a:prstGeom prst="line">
                <a:avLst/>
              </a:prstGeom>
              <a:ln w="38160">
                <a:solidFill>
                  <a:srgbClr val="3333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53" name=""/>
              <p:cNvGraphicFramePr/>
              <p:nvPr/>
            </p:nvGraphicFramePr>
            <p:xfrm>
              <a:off x="7865280" y="2919240"/>
              <a:ext cx="410040" cy="5900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54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865280" y="2919240"/>
                        <a:ext cx="410040" cy="590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5" name=""/>
              <p:cNvSpPr/>
              <p:nvPr/>
            </p:nvSpPr>
            <p:spPr>
              <a:xfrm>
                <a:off x="7759800" y="3634920"/>
                <a:ext cx="818640" cy="71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1" swAng="54000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1" swAng="5400001"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464320" y="3407760"/>
                <a:ext cx="475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6527880" y="3943440"/>
              <a:ext cx="62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43880" y="3976200"/>
              <a:ext cx="689040" cy="129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42160" y="3651480"/>
              <a:ext cx="113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7518240" y="2654280"/>
            <a:ext cx="7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Biot-Savart Law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833400"/>
            <a:ext cx="8839440" cy="18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etic field analog to Coulomb’s Law is the Biot-Savart Law, which describes the magnetic field (dB) produced by a segment of current-carrying wire (ds) at a distance, 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327400" y="2502000"/>
          <a:ext cx="2319120" cy="86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7400" y="2502000"/>
                    <a:ext cx="231912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1897200" y="5175360"/>
          <a:ext cx="3627360" cy="86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97200" y="5175360"/>
                    <a:ext cx="362736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01520" y="3651120"/>
            <a:ext cx="516744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ng the Biot-Savart Law over the whole wire will yield the total magnetic field, 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000840" y="1986120"/>
            <a:ext cx="2784240" cy="2380680"/>
            <a:chOff x="6000840" y="1986120"/>
            <a:chExt cx="2784240" cy="2380680"/>
          </a:xfrm>
        </p:grpSpPr>
        <p:sp>
          <p:nvSpPr>
            <p:cNvPr id="53" name=""/>
            <p:cNvSpPr/>
            <p:nvPr/>
          </p:nvSpPr>
          <p:spPr>
            <a:xfrm rot="16200000">
              <a:off x="7270200" y="2477160"/>
              <a:ext cx="245520" cy="2784240"/>
            </a:xfrm>
            <a:prstGeom prst="can">
              <a:avLst>
                <a:gd name="adj" fmla="val 5472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16200000">
              <a:off x="6645240" y="3666600"/>
              <a:ext cx="245520" cy="382680"/>
            </a:xfrm>
            <a:prstGeom prst="can">
              <a:avLst>
                <a:gd name="adj" fmla="val 34439"/>
              </a:avLst>
            </a:prstGeom>
            <a:solidFill>
              <a:srgbClr val="ff0000"/>
            </a:solidFill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194680" y="3612960"/>
              <a:ext cx="299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6" name=""/>
            <p:cNvGraphicFramePr/>
            <p:nvPr/>
          </p:nvGraphicFramePr>
          <p:xfrm>
            <a:off x="6554880" y="4032000"/>
            <a:ext cx="379440" cy="334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554880" y="4032000"/>
                      <a:ext cx="37944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" name=""/>
            <p:cNvSpPr/>
            <p:nvPr/>
          </p:nvSpPr>
          <p:spPr>
            <a:xfrm flipV="1">
              <a:off x="6778800" y="2263320"/>
              <a:ext cx="626760" cy="1433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9" name=""/>
            <p:cNvGraphicFramePr/>
            <p:nvPr/>
          </p:nvGraphicFramePr>
          <p:xfrm>
            <a:off x="6810480" y="2705040"/>
            <a:ext cx="223560" cy="347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810480" y="2705040"/>
                      <a:ext cx="223560" cy="34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" name=""/>
            <p:cNvGraphicFramePr/>
            <p:nvPr/>
          </p:nvGraphicFramePr>
          <p:xfrm>
            <a:off x="7674120" y="2457360"/>
            <a:ext cx="446040" cy="398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674120" y="2457360"/>
                      <a:ext cx="446040" cy="39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3" name=""/>
            <p:cNvSpPr/>
            <p:nvPr/>
          </p:nvSpPr>
          <p:spPr>
            <a:xfrm>
              <a:off x="7889760" y="3382920"/>
              <a:ext cx="36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421400" y="2280960"/>
              <a:ext cx="196920" cy="198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92880" y="1986120"/>
              <a:ext cx="67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 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064280" y="3249360"/>
              <a:ext cx="36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18680" y="3403440"/>
              <a:ext cx="393120" cy="64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88560" y="858600"/>
            <a:ext cx="8839080" cy="56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 long straight wire (length = L) with current, i.  The magnetic field (dB) at position P, directly above the center of the wire, due to a segment of the wire is given by the Biot-Savart La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ng over the length of the wi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34880" y="3616200"/>
          <a:ext cx="3365640" cy="31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3616200"/>
                    <a:ext cx="3365640" cy="31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alculating B Field due to a straight wir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5559120" y="3166920"/>
            <a:ext cx="3317760" cy="2306520"/>
            <a:chOff x="5559120" y="3166920"/>
            <a:chExt cx="3317760" cy="2306520"/>
          </a:xfrm>
        </p:grpSpPr>
        <p:grpSp>
          <p:nvGrpSpPr>
            <p:cNvPr id="73" name=""/>
            <p:cNvGrpSpPr/>
            <p:nvPr/>
          </p:nvGrpSpPr>
          <p:grpSpPr>
            <a:xfrm>
              <a:off x="6262560" y="3166920"/>
              <a:ext cx="2614320" cy="2306520"/>
              <a:chOff x="6262560" y="3166920"/>
              <a:chExt cx="2614320" cy="2306520"/>
            </a:xfrm>
          </p:grpSpPr>
          <p:sp>
            <p:nvSpPr>
              <p:cNvPr id="74" name=""/>
              <p:cNvSpPr/>
              <p:nvPr/>
            </p:nvSpPr>
            <p:spPr>
              <a:xfrm rot="16200000">
                <a:off x="7450920" y="3686400"/>
                <a:ext cx="237240" cy="2614320"/>
              </a:xfrm>
              <a:prstGeom prst="can">
                <a:avLst>
                  <a:gd name="adj" fmla="val 5472"/>
                </a:avLst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6200000">
                <a:off x="6864120" y="4803120"/>
                <a:ext cx="237240" cy="359280"/>
              </a:xfrm>
              <a:prstGeom prst="can">
                <a:avLst>
                  <a:gd name="adj" fmla="val 34439"/>
                </a:avLst>
              </a:prstGeom>
              <a:solidFill>
                <a:srgbClr val="ff0000"/>
              </a:solidFill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322480" y="4746960"/>
                <a:ext cx="281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77" name=""/>
              <p:cNvGraphicFramePr/>
              <p:nvPr/>
            </p:nvGraphicFramePr>
            <p:xfrm>
              <a:off x="6782760" y="5150880"/>
              <a:ext cx="356040" cy="3225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782760" y="5150880"/>
                        <a:ext cx="356040" cy="322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9" name=""/>
              <p:cNvSpPr/>
              <p:nvPr/>
            </p:nvSpPr>
            <p:spPr>
              <a:xfrm flipV="1">
                <a:off x="6992640" y="3446280"/>
                <a:ext cx="588600" cy="1381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80" name=""/>
              <p:cNvGraphicFramePr/>
              <p:nvPr/>
            </p:nvGraphicFramePr>
            <p:xfrm>
              <a:off x="7022520" y="3872160"/>
              <a:ext cx="209880" cy="3348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81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022520" y="3872160"/>
                        <a:ext cx="209880" cy="334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2" name=""/>
              <p:cNvGraphicFramePr/>
              <p:nvPr/>
            </p:nvGraphicFramePr>
            <p:xfrm>
              <a:off x="7046280" y="3265920"/>
              <a:ext cx="418680" cy="3837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83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7046280" y="3265920"/>
                        <a:ext cx="418680" cy="383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4" name=""/>
              <p:cNvSpPr/>
              <p:nvPr/>
            </p:nvSpPr>
            <p:spPr>
              <a:xfrm>
                <a:off x="8035920" y="4525200"/>
                <a:ext cx="345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7292160" y="3439080"/>
                <a:ext cx="291960" cy="3499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452000" y="3166920"/>
                <a:ext cx="637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. 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260840" y="4396680"/>
                <a:ext cx="345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936840" y="4545360"/>
                <a:ext cx="368640" cy="622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5559120" y="3430440"/>
              <a:ext cx="1201320" cy="1572840"/>
              <a:chOff x="5559120" y="3430440"/>
              <a:chExt cx="1201320" cy="1572840"/>
            </a:xfrm>
          </p:grpSpPr>
          <p:sp>
            <p:nvSpPr>
              <p:cNvPr id="90" name=""/>
              <p:cNvSpPr/>
              <p:nvPr/>
            </p:nvSpPr>
            <p:spPr>
              <a:xfrm flipH="1" flipV="1">
                <a:off x="5839560" y="3682800"/>
                <a:ext cx="11520" cy="69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833440" y="4361400"/>
                <a:ext cx="572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5559120" y="4349160"/>
                <a:ext cx="286200" cy="42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414840" y="4200840"/>
                <a:ext cx="345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830560" y="3430440"/>
                <a:ext cx="345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592240" y="4604400"/>
                <a:ext cx="345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96" name=""/>
          <p:cNvGraphicFramePr/>
          <p:nvPr/>
        </p:nvGraphicFramePr>
        <p:xfrm>
          <a:off x="420840" y="2436840"/>
          <a:ext cx="7084800" cy="855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0840" y="2436840"/>
                    <a:ext cx="708480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505320" y="5707080"/>
          <a:ext cx="3644640" cy="834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5320" y="5707080"/>
                    <a:ext cx="364464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agnetic field for a straight wir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63630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, the magnitude of the magnetic field due to a straight wire, at a    distance r, is give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rection of dB and the net B field is always perpendicular to the plane of the wire and point 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652840" y="1839960"/>
          <a:ext cx="2985840" cy="121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52840" y="1839960"/>
                    <a:ext cx="2985840" cy="12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737240" y="1438200"/>
          <a:ext cx="374400" cy="3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37240" y="1438200"/>
                    <a:ext cx="3744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290760" y="3948120"/>
          <a:ext cx="1947960" cy="48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90760" y="3948120"/>
                    <a:ext cx="194796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8" name=""/>
          <p:cNvGrpSpPr/>
          <p:nvPr/>
        </p:nvGrpSpPr>
        <p:grpSpPr>
          <a:xfrm>
            <a:off x="6424560" y="1324080"/>
            <a:ext cx="2668320" cy="2603520"/>
            <a:chOff x="6424560" y="1324080"/>
            <a:chExt cx="2668320" cy="2603520"/>
          </a:xfrm>
        </p:grpSpPr>
        <p:pic>
          <p:nvPicPr>
            <p:cNvPr id="109" name="" descr=""/>
            <p:cNvPicPr/>
            <p:nvPr/>
          </p:nvPicPr>
          <p:blipFill>
            <a:blip r:embed="rId7"/>
            <a:stretch/>
          </p:blipFill>
          <p:spPr>
            <a:xfrm>
              <a:off x="6424560" y="1397160"/>
              <a:ext cx="2319480" cy="25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 rot="18768600">
              <a:off x="6694560" y="1973160"/>
              <a:ext cx="2313000" cy="1243080"/>
            </a:xfrm>
            <a:prstGeom prst="parallelogram">
              <a:avLst>
                <a:gd name="adj" fmla="val 46518"/>
              </a:avLst>
            </a:prstGeom>
            <a:solidFill>
              <a:srgbClr val="bbe0e3">
                <a:alpha val="38000"/>
              </a:srgbClr>
            </a:solidFill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556400" y="1460880"/>
              <a:ext cx="44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7121520" y="3100320"/>
              <a:ext cx="300600" cy="306720"/>
              <a:chOff x="7121520" y="3100320"/>
              <a:chExt cx="300600" cy="306720"/>
            </a:xfrm>
          </p:grpSpPr>
          <p:sp>
            <p:nvSpPr>
              <p:cNvPr id="113" name=""/>
              <p:cNvSpPr/>
              <p:nvPr/>
            </p:nvSpPr>
            <p:spPr>
              <a:xfrm rot="13482000">
                <a:off x="7237440" y="3160800"/>
                <a:ext cx="117360" cy="239400"/>
              </a:xfrm>
              <a:prstGeom prst="rect">
                <a:avLst/>
              </a:prstGeom>
              <a:solidFill>
                <a:srgbClr val="00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3482000">
                <a:off x="7194600" y="3092760"/>
                <a:ext cx="77760" cy="239760"/>
              </a:xfrm>
              <a:prstGeom prst="rect">
                <a:avLst/>
              </a:prstGeom>
              <a:solidFill>
                <a:srgbClr val="abf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8264520" y="1836720"/>
              <a:ext cx="300600" cy="306720"/>
              <a:chOff x="8264520" y="1836720"/>
              <a:chExt cx="300600" cy="306720"/>
            </a:xfrm>
          </p:grpSpPr>
          <p:sp>
            <p:nvSpPr>
              <p:cNvPr id="116" name=""/>
              <p:cNvSpPr/>
              <p:nvPr/>
            </p:nvSpPr>
            <p:spPr>
              <a:xfrm rot="13482000">
                <a:off x="8380440" y="1897200"/>
                <a:ext cx="117360" cy="239400"/>
              </a:xfrm>
              <a:prstGeom prst="rect">
                <a:avLst/>
              </a:prstGeom>
              <a:solidFill>
                <a:srgbClr val="00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13482000">
                <a:off x="8337600" y="1829160"/>
                <a:ext cx="77760" cy="239760"/>
              </a:xfrm>
              <a:prstGeom prst="rect">
                <a:avLst/>
              </a:prstGeom>
              <a:solidFill>
                <a:srgbClr val="abf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7645320" y="1791000"/>
              <a:ext cx="88920" cy="101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65240" y="4516560"/>
            <a:ext cx="88009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 field is said to “curl” around the current in the wire (as per RH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length of the wire (L) is much greater than the separation distance (r), the magnitude of the B-field reduce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041640" y="6070680"/>
          <a:ext cx="3117960" cy="749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41640" y="6070680"/>
                    <a:ext cx="311796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agnetic Field of a Circular Arc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036440"/>
            <a:ext cx="8839440" cy="54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 field at the center of curvature of a circular arc can be determined by applying the Biot-Savart Law to a segment of the ar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ng over the entire ar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   is the unit vector normal to the plane of the ar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circular loop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80320" y="2662200"/>
            <a:ext cx="2618640" cy="2676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281280" y="2978280"/>
            <a:ext cx="941400" cy="1131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95360" y="2220840"/>
          <a:ext cx="405612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2220840"/>
                    <a:ext cx="40561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6438960" y="3251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54680" y="38606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01080" y="2946240"/>
            <a:ext cx="69840" cy="63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194600" y="2665440"/>
          <a:ext cx="1155600" cy="3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94600" y="2665440"/>
                    <a:ext cx="115560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5091840" y="2509920"/>
            <a:ext cx="2620440" cy="267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33759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337592"/>
              </a:path>
            </a:pathLst>
          </a:custGeom>
          <a:noFill/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15280" y="2209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77720" y="3522600"/>
          <a:ext cx="485316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7720" y="3522600"/>
                    <a:ext cx="4853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461960" y="4373640"/>
          <a:ext cx="26532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61960" y="4373640"/>
                    <a:ext cx="2653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6089760" y="5173560"/>
          <a:ext cx="1449360" cy="77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89760" y="5173560"/>
                    <a:ext cx="144936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Force Between Parallel Current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2 parallel wires (length=L) both carry current, their respective B-field exerts a magnetic force on the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ttra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puls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344840" y="2201760"/>
          <a:ext cx="3327480" cy="7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4840" y="2201760"/>
                    <a:ext cx="332748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5" name=""/>
          <p:cNvGrpSpPr/>
          <p:nvPr/>
        </p:nvGrpSpPr>
        <p:grpSpPr>
          <a:xfrm>
            <a:off x="546120" y="2044800"/>
            <a:ext cx="3168720" cy="2031120"/>
            <a:chOff x="546120" y="2044800"/>
            <a:chExt cx="3168720" cy="2031120"/>
          </a:xfrm>
        </p:grpSpPr>
        <p:sp>
          <p:nvSpPr>
            <p:cNvPr id="146" name=""/>
            <p:cNvSpPr/>
            <p:nvPr/>
          </p:nvSpPr>
          <p:spPr>
            <a:xfrm rot="16200000">
              <a:off x="2082600" y="1040760"/>
              <a:ext cx="228600" cy="3035520"/>
            </a:xfrm>
            <a:prstGeom prst="can">
              <a:avLst>
                <a:gd name="adj" fmla="val 2083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6200000">
              <a:off x="2070000" y="2057040"/>
              <a:ext cx="228600" cy="3035160"/>
            </a:xfrm>
            <a:prstGeom prst="can">
              <a:avLst>
                <a:gd name="adj" fmla="val 2083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84480" y="222264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05120" y="2044800"/>
              <a:ext cx="76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22640" y="384804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43280" y="3670200"/>
              <a:ext cx="76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73400" y="2692440"/>
              <a:ext cx="0" cy="266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3" name=""/>
            <p:cNvGraphicFramePr/>
            <p:nvPr/>
          </p:nvGraphicFramePr>
          <p:xfrm>
            <a:off x="2354400" y="2665440"/>
            <a:ext cx="571320" cy="368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54400" y="2665440"/>
                      <a:ext cx="57132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5" name=""/>
            <p:cNvSpPr/>
            <p:nvPr/>
          </p:nvSpPr>
          <p:spPr>
            <a:xfrm>
              <a:off x="2273400" y="3174840"/>
              <a:ext cx="0" cy="266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6" name=""/>
            <p:cNvGraphicFramePr/>
            <p:nvPr/>
          </p:nvGraphicFramePr>
          <p:xfrm>
            <a:off x="2379600" y="3097080"/>
            <a:ext cx="571680" cy="368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379600" y="3097080"/>
                      <a:ext cx="57168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8" name=""/>
            <p:cNvSpPr/>
            <p:nvPr/>
          </p:nvSpPr>
          <p:spPr>
            <a:xfrm>
              <a:off x="546120" y="2565360"/>
              <a:ext cx="0" cy="97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6120" y="28195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58720" y="4292640"/>
            <a:ext cx="3143160" cy="2031120"/>
            <a:chOff x="558720" y="4292640"/>
            <a:chExt cx="3143160" cy="2031120"/>
          </a:xfrm>
        </p:grpSpPr>
        <p:sp>
          <p:nvSpPr>
            <p:cNvPr id="161" name=""/>
            <p:cNvSpPr/>
            <p:nvPr/>
          </p:nvSpPr>
          <p:spPr>
            <a:xfrm rot="16200000">
              <a:off x="2070000" y="3288960"/>
              <a:ext cx="228600" cy="3035160"/>
            </a:xfrm>
            <a:prstGeom prst="can">
              <a:avLst>
                <a:gd name="adj" fmla="val 2083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6200000">
              <a:off x="2057400" y="4304880"/>
              <a:ext cx="228600" cy="3035160"/>
            </a:xfrm>
            <a:prstGeom prst="can">
              <a:avLst>
                <a:gd name="adj" fmla="val 2083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71880" y="447048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92160" y="429264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209680" y="609588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30320" y="591804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260440" y="4940280"/>
              <a:ext cx="0" cy="26676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8" name=""/>
            <p:cNvGraphicFramePr/>
            <p:nvPr/>
          </p:nvGraphicFramePr>
          <p:xfrm>
            <a:off x="2341440" y="4913280"/>
            <a:ext cx="571680" cy="368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341440" y="4913280"/>
                      <a:ext cx="57168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0" name=""/>
            <p:cNvSpPr/>
            <p:nvPr/>
          </p:nvSpPr>
          <p:spPr>
            <a:xfrm>
              <a:off x="2260440" y="5423040"/>
              <a:ext cx="0" cy="26640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1" name=""/>
            <p:cNvGraphicFramePr/>
            <p:nvPr/>
          </p:nvGraphicFramePr>
          <p:xfrm>
            <a:off x="2367000" y="5345280"/>
            <a:ext cx="571320" cy="368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367000" y="5345280"/>
                      <a:ext cx="571320" cy="36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3" name=""/>
            <p:cNvSpPr/>
            <p:nvPr/>
          </p:nvSpPr>
          <p:spPr>
            <a:xfrm>
              <a:off x="558720" y="4826160"/>
              <a:ext cx="0" cy="97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8720" y="50799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5" name=""/>
          <p:cNvGraphicFramePr/>
          <p:nvPr/>
        </p:nvGraphicFramePr>
        <p:xfrm>
          <a:off x="4330800" y="3014640"/>
          <a:ext cx="3316320" cy="723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30800" y="3014640"/>
                    <a:ext cx="33163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4343400" y="4653000"/>
          <a:ext cx="3268800" cy="723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343400" y="4653000"/>
                    <a:ext cx="32688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368960" y="5516640"/>
          <a:ext cx="3375000" cy="736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368960" y="5516640"/>
                    <a:ext cx="337500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mpere’s Law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2280" y="896400"/>
            <a:ext cx="8839440" cy="58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etic analog to Gauss’ Law is Ampere’s Law, which can be used in certain circumstances to calculate a B-field more simply than the Biot-Savart La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for a closed path around an enclosed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he B field outside a straight, infinitely long current carrying w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a circular loop (called an “Amperean Loop”) centered on the wire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Since the path is equidistant at all points to the wire, B will have constant magnitude along the lo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pply Ampere’s La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ve for B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615960" y="5008680"/>
          <a:ext cx="5199120" cy="90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5008680"/>
                    <a:ext cx="519912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2101680" y="5969160"/>
          <a:ext cx="148284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01680" y="5969160"/>
                    <a:ext cx="14828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022560" y="2602080"/>
          <a:ext cx="2374920" cy="62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22560" y="2602080"/>
                    <a:ext cx="237492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9" name=""/>
          <p:cNvGrpSpPr/>
          <p:nvPr/>
        </p:nvGrpSpPr>
        <p:grpSpPr>
          <a:xfrm>
            <a:off x="6311880" y="4309920"/>
            <a:ext cx="2184480" cy="2242800"/>
            <a:chOff x="6311880" y="4309920"/>
            <a:chExt cx="2184480" cy="2242800"/>
          </a:xfrm>
        </p:grpSpPr>
        <p:sp>
          <p:nvSpPr>
            <p:cNvPr id="190" name=""/>
            <p:cNvSpPr/>
            <p:nvPr/>
          </p:nvSpPr>
          <p:spPr>
            <a:xfrm rot="16200000">
              <a:off x="7772400" y="5105520"/>
              <a:ext cx="317520" cy="1130400"/>
            </a:xfrm>
            <a:prstGeom prst="can">
              <a:avLst>
                <a:gd name="adj" fmla="val 770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6200000">
              <a:off x="6505560" y="5109840"/>
              <a:ext cx="1833480" cy="1052280"/>
            </a:xfrm>
            <a:prstGeom prst="ellipse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596360" y="4749840"/>
              <a:ext cx="169560" cy="1602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3" name=""/>
            <p:cNvGraphicFramePr/>
            <p:nvPr/>
          </p:nvGraphicFramePr>
          <p:xfrm>
            <a:off x="7597800" y="4309920"/>
            <a:ext cx="763560" cy="420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97800" y="4309920"/>
                      <a:ext cx="763560" cy="42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5" name=""/>
            <p:cNvSpPr/>
            <p:nvPr/>
          </p:nvSpPr>
          <p:spPr>
            <a:xfrm rot="16200000">
              <a:off x="6718320" y="5105520"/>
              <a:ext cx="317520" cy="1130400"/>
            </a:xfrm>
            <a:prstGeom prst="can">
              <a:avLst>
                <a:gd name="adj" fmla="val 770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6375240" y="5359320"/>
              <a:ext cx="43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540480" y="4991040"/>
              <a:ext cx="31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7378560" y="4851000"/>
              <a:ext cx="279720" cy="82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26280" y="4940280"/>
              <a:ext cx="40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Interpreting Ampere’s Law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3000" y="921960"/>
            <a:ext cx="8991720" cy="57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more fundamental way of interpreting Ampere’s La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begin w/ Ampere’s La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interpreted using Gauss’ La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Ampere’s Law be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clusion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time varying E-field produces a corresponding B-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presence of a B-field implies the presence of a corresponding, time varying E-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030640" y="1262160"/>
          <a:ext cx="34560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0640" y="1262160"/>
                    <a:ext cx="34560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1306440" y="4062240"/>
          <a:ext cx="6053040" cy="93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06440" y="4062240"/>
                    <a:ext cx="605304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2768760" y="2652840"/>
          <a:ext cx="3152520" cy="927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68760" y="2652840"/>
                    <a:ext cx="315252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071720" y="2262240"/>
          <a:ext cx="690480" cy="628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71720" y="2262240"/>
                    <a:ext cx="69048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agnetic Fields in Coils (&amp; solenoids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ere’s Law is an effective tool for calculating the B-field inside a straight coil or solenoid, with N uniform tur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3427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ing a rectangular Amperean Loop of length, </a:t>
            </a:r>
            <a:r>
              <a:rPr b="0" lang="en-US" sz="2800" spc="-1" strike="noStrike">
                <a:solidFill>
                  <a:srgbClr val="000000"/>
                </a:solidFill>
                <a:latin typeface="French Script MT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The B-field components around the path segments outside the solenoid equal zero, so Ampere’s Law reduce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3427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ing for the B-fiel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n = N/</a:t>
            </a:r>
            <a:r>
              <a:rPr b="0" lang="en-US" sz="2400" spc="-1" strike="noStrike">
                <a:solidFill>
                  <a:srgbClr val="000000"/>
                </a:solidFill>
                <a:latin typeface="French Script MT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turn density for the soleno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9160" indent="-3427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rection of the B-field is defined by the R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066680" y="3005280"/>
          <a:ext cx="400212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005280"/>
                    <a:ext cx="400212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123920" y="4062240"/>
          <a:ext cx="407988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23920" y="4062240"/>
                    <a:ext cx="40798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6" name=""/>
          <p:cNvGrpSpPr/>
          <p:nvPr/>
        </p:nvGrpSpPr>
        <p:grpSpPr>
          <a:xfrm>
            <a:off x="5778720" y="2706840"/>
            <a:ext cx="3364920" cy="2322000"/>
            <a:chOff x="5778720" y="2706840"/>
            <a:chExt cx="3364920" cy="2322000"/>
          </a:xfrm>
        </p:grpSpPr>
        <p:sp>
          <p:nvSpPr>
            <p:cNvPr id="217" name=""/>
            <p:cNvSpPr/>
            <p:nvPr/>
          </p:nvSpPr>
          <p:spPr>
            <a:xfrm>
              <a:off x="8636760" y="344052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313320" y="3279240"/>
              <a:ext cx="2213280" cy="987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313320" y="3430080"/>
              <a:ext cx="2213280" cy="987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13320" y="3583080"/>
              <a:ext cx="2213280" cy="985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3320" y="3735720"/>
              <a:ext cx="2213280" cy="9871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313320" y="3886920"/>
              <a:ext cx="2213280" cy="989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313320" y="4037760"/>
              <a:ext cx="2213280" cy="987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7328520" y="3438000"/>
              <a:ext cx="4680" cy="7254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7333920" y="3949560"/>
              <a:ext cx="0" cy="1079280"/>
            </a:xfrm>
            <a:prstGeom prst="line">
              <a:avLst/>
            </a:prstGeom>
            <a:ln w="38160">
              <a:solidFill>
                <a:srgbClr val="3333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6" name=""/>
            <p:cNvGraphicFramePr/>
            <p:nvPr/>
          </p:nvGraphicFramePr>
          <p:xfrm>
            <a:off x="7148160" y="2706840"/>
            <a:ext cx="364680" cy="605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148160" y="2706840"/>
                      <a:ext cx="364680" cy="60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8" name=""/>
            <p:cNvSpPr/>
            <p:nvPr/>
          </p:nvSpPr>
          <p:spPr>
            <a:xfrm>
              <a:off x="7483320" y="3224160"/>
              <a:ext cx="1211760" cy="118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1" swAng="54000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1" swAng="5400001"/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609760" y="389376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6102000" y="4171680"/>
              <a:ext cx="0" cy="37188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6084720" y="4190760"/>
              <a:ext cx="5979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6084720" y="4547520"/>
              <a:ext cx="5979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656040" y="4171680"/>
              <a:ext cx="0" cy="37188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78720" y="41140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French Script MT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Tony Zable</cp:lastModifiedBy>
  <dcterms:modified xsi:type="dcterms:W3CDTF">2007-06-09T17:48:21Z</dcterms:modified>
  <cp:revision>65</cp:revision>
  <dc:subject/>
  <dc:title>Phy 211: General Physics I</dc:title>
</cp:coreProperties>
</file>