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1.wmf" ContentType="image/x-wmf"/>
  <Override PartName="/ppt/media/image12.wmf" ContentType="image/x-wmf"/>
  <Override PartName="/ppt/media/image13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C3C-C0D3-447C-986B-E0CF4AAF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FC9-0205-4F2B-B56D-35C73878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557-2C42-47D6-BE33-A1F6B99D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4FD-F4FB-456B-90BB-8F7E9E98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DE4-9E94-4CB4-AC82-E742ECDD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5CF-3674-4079-86AD-935AF35A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CD8-360E-4AA1-9EA4-5C206635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F74-F17A-4E4A-8D65-435DA84D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3DB-7451-4604-AB8A-5D75F207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69D-0AA9-4BC3-A570-14BE127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DAB-3D52-4010-B2B5-E4CC966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7F4-7B5A-4E94-A072-7296FC22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9FB4-38A1-4457-9E7C-1C6653E00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9: Magnetic Fields to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ield of a Magnetic Dipo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0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rent carrying loop or coil is an effective magnetic dipole (analogous to a straight bar magnet), where the B-field is parallel to the area vector of the 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-field at point P along z-axis, can be analyzed using the Biot-Savart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z&gt;&gt;R, the B-field equation simplifie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41680" y="2131920"/>
            <a:ext cx="4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84280" y="3059280"/>
          <a:ext cx="5931000" cy="25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3059280"/>
                    <a:ext cx="593100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455840" y="6087960"/>
          <a:ext cx="246996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5840" y="6087960"/>
                    <a:ext cx="24699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4000680" y="62737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{the B-field for a magnetic dipole along Z-axi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527880" y="2919240"/>
            <a:ext cx="2412360" cy="2160000"/>
            <a:chOff x="6527880" y="2919240"/>
            <a:chExt cx="2412360" cy="2160000"/>
          </a:xfrm>
        </p:grpSpPr>
        <p:grpSp>
          <p:nvGrpSpPr>
            <p:cNvPr id="244" name=""/>
            <p:cNvGrpSpPr/>
            <p:nvPr/>
          </p:nvGrpSpPr>
          <p:grpSpPr>
            <a:xfrm>
              <a:off x="6970680" y="2919240"/>
              <a:ext cx="1969560" cy="2160000"/>
              <a:chOff x="6970680" y="2919240"/>
              <a:chExt cx="1969560" cy="2160000"/>
            </a:xfrm>
          </p:grpSpPr>
          <p:sp>
            <p:nvSpPr>
              <p:cNvPr id="245" name=""/>
              <p:cNvSpPr/>
              <p:nvPr/>
            </p:nvSpPr>
            <p:spPr>
              <a:xfrm>
                <a:off x="6970680" y="3667680"/>
                <a:ext cx="1493640" cy="596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70680" y="3758760"/>
                <a:ext cx="1493640" cy="5965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70680" y="3850200"/>
                <a:ext cx="1493640" cy="596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970680" y="3943440"/>
                <a:ext cx="1493640" cy="596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70680" y="4034520"/>
                <a:ext cx="1493640" cy="596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70680" y="4125600"/>
                <a:ext cx="1493640" cy="5965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7643160" y="3228840"/>
                <a:ext cx="16200" cy="97380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7660080" y="4073400"/>
                <a:ext cx="0" cy="1005840"/>
              </a:xfrm>
              <a:prstGeom prst="line">
                <a:avLst/>
              </a:prstGeom>
              <a:ln w="3816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3" name=""/>
              <p:cNvGraphicFramePr/>
              <p:nvPr/>
            </p:nvGraphicFramePr>
            <p:xfrm>
              <a:off x="7865280" y="2919240"/>
              <a:ext cx="410040" cy="590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865280" y="2919240"/>
                        <a:ext cx="410040" cy="59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5" name=""/>
              <p:cNvSpPr/>
              <p:nvPr/>
            </p:nvSpPr>
            <p:spPr>
              <a:xfrm>
                <a:off x="7759800" y="3634920"/>
                <a:ext cx="818640" cy="71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1" swAng="5400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1" swAng="5400001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464320" y="3407760"/>
                <a:ext cx="47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6527880" y="3943440"/>
              <a:ext cx="62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43880" y="3976200"/>
              <a:ext cx="689040" cy="12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42160" y="3651480"/>
              <a:ext cx="11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518240" y="26542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Biot-Savart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833400"/>
            <a:ext cx="88394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ield analog to Coulomb’s Law is the Biot-Savart Law, which describes the magnetic field (dB) produced by a segment of current-carrying wire (ds) at a distance, 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327400" y="2502000"/>
          <a:ext cx="231912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2502000"/>
                    <a:ext cx="23191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897200" y="5175360"/>
          <a:ext cx="3627360" cy="8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7200" y="5175360"/>
                    <a:ext cx="36273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1520" y="3651120"/>
            <a:ext cx="51674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the Biot-Savart Law over the whole wire will yield the total magnetic field,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00840" y="1986120"/>
            <a:ext cx="2784240" cy="2380680"/>
            <a:chOff x="6000840" y="1986120"/>
            <a:chExt cx="2784240" cy="2380680"/>
          </a:xfrm>
        </p:grpSpPr>
        <p:sp>
          <p:nvSpPr>
            <p:cNvPr id="53" name=""/>
            <p:cNvSpPr/>
            <p:nvPr/>
          </p:nvSpPr>
          <p:spPr>
            <a:xfrm rot="16200000">
              <a:off x="7270200" y="2477160"/>
              <a:ext cx="245520" cy="2784240"/>
            </a:xfrm>
            <a:prstGeom prst="can">
              <a:avLst>
                <a:gd name="adj" fmla="val 5472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6645240" y="3666600"/>
              <a:ext cx="245520" cy="382680"/>
            </a:xfrm>
            <a:prstGeom prst="can">
              <a:avLst>
                <a:gd name="adj" fmla="val 34439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94680" y="3612960"/>
              <a:ext cx="29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" name=""/>
            <p:cNvGraphicFramePr/>
            <p:nvPr/>
          </p:nvGraphicFramePr>
          <p:xfrm>
            <a:off x="6554880" y="4032000"/>
            <a:ext cx="379440" cy="33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4880" y="4032000"/>
                      <a:ext cx="37944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 flipV="1">
              <a:off x="6778800" y="2263320"/>
              <a:ext cx="626760" cy="1433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6810480" y="2705040"/>
            <a:ext cx="223560" cy="347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10480" y="2705040"/>
                      <a:ext cx="22356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7674120" y="2457360"/>
            <a:ext cx="446040" cy="398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674120" y="2457360"/>
                      <a:ext cx="446040" cy="3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7889760" y="338292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21400" y="2280960"/>
              <a:ext cx="196920" cy="198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92880" y="1986120"/>
              <a:ext cx="6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4280" y="32493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18680" y="3403440"/>
              <a:ext cx="393120" cy="6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8560" y="858600"/>
            <a:ext cx="8839080" cy="56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long straight wire (length = L) with current, i.  The magnetic field (dB) at position P, directly above the center of the wire, due to a segment of the wire is given by the Biot-Savart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over the length of the w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4880" y="3616200"/>
          <a:ext cx="336564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3616200"/>
                    <a:ext cx="336564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lculating B Field due to a straight wi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59120" y="3166920"/>
            <a:ext cx="3317760" cy="2306520"/>
            <a:chOff x="5559120" y="3166920"/>
            <a:chExt cx="3317760" cy="2306520"/>
          </a:xfrm>
        </p:grpSpPr>
        <p:grpSp>
          <p:nvGrpSpPr>
            <p:cNvPr id="73" name=""/>
            <p:cNvGrpSpPr/>
            <p:nvPr/>
          </p:nvGrpSpPr>
          <p:grpSpPr>
            <a:xfrm>
              <a:off x="6262560" y="3166920"/>
              <a:ext cx="2614320" cy="2306520"/>
              <a:chOff x="6262560" y="3166920"/>
              <a:chExt cx="2614320" cy="2306520"/>
            </a:xfrm>
          </p:grpSpPr>
          <p:sp>
            <p:nvSpPr>
              <p:cNvPr id="74" name=""/>
              <p:cNvSpPr/>
              <p:nvPr/>
            </p:nvSpPr>
            <p:spPr>
              <a:xfrm rot="16200000">
                <a:off x="7450920" y="3686400"/>
                <a:ext cx="237240" cy="2614320"/>
              </a:xfrm>
              <a:prstGeom prst="can">
                <a:avLst>
                  <a:gd name="adj" fmla="val 5472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6200000">
                <a:off x="6864120" y="4803120"/>
                <a:ext cx="237240" cy="359280"/>
              </a:xfrm>
              <a:prstGeom prst="can">
                <a:avLst>
                  <a:gd name="adj" fmla="val 34439"/>
                </a:avLst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322480" y="4746960"/>
                <a:ext cx="281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7" name=""/>
              <p:cNvGraphicFramePr/>
              <p:nvPr/>
            </p:nvGraphicFramePr>
            <p:xfrm>
              <a:off x="6782760" y="5150880"/>
              <a:ext cx="356040" cy="322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2760" y="5150880"/>
                        <a:ext cx="356040" cy="32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9" name=""/>
              <p:cNvSpPr/>
              <p:nvPr/>
            </p:nvSpPr>
            <p:spPr>
              <a:xfrm flipV="1">
                <a:off x="6992640" y="3446280"/>
                <a:ext cx="588600" cy="138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0" name=""/>
              <p:cNvGraphicFramePr/>
              <p:nvPr/>
            </p:nvGraphicFramePr>
            <p:xfrm>
              <a:off x="7022520" y="3872160"/>
              <a:ext cx="209880" cy="334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22520" y="3872160"/>
                        <a:ext cx="209880" cy="33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2" name=""/>
              <p:cNvGraphicFramePr/>
              <p:nvPr/>
            </p:nvGraphicFramePr>
            <p:xfrm>
              <a:off x="7046280" y="3265920"/>
              <a:ext cx="418680" cy="383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046280" y="3265920"/>
                        <a:ext cx="418680" cy="38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" name=""/>
              <p:cNvSpPr/>
              <p:nvPr/>
            </p:nvSpPr>
            <p:spPr>
              <a:xfrm>
                <a:off x="8035920" y="4525200"/>
                <a:ext cx="34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7292160" y="3439080"/>
                <a:ext cx="291960" cy="349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52000" y="3166920"/>
                <a:ext cx="63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 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60840" y="4396680"/>
                <a:ext cx="34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36840" y="4545360"/>
                <a:ext cx="368640" cy="62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559120" y="3430440"/>
              <a:ext cx="1201320" cy="1572840"/>
              <a:chOff x="5559120" y="3430440"/>
              <a:chExt cx="1201320" cy="1572840"/>
            </a:xfrm>
          </p:grpSpPr>
          <p:sp>
            <p:nvSpPr>
              <p:cNvPr id="90" name=""/>
              <p:cNvSpPr/>
              <p:nvPr/>
            </p:nvSpPr>
            <p:spPr>
              <a:xfrm flipH="1" flipV="1">
                <a:off x="5839560" y="3682800"/>
                <a:ext cx="11520" cy="69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33440" y="4361400"/>
                <a:ext cx="572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559120" y="4349160"/>
                <a:ext cx="286200" cy="42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14840" y="4200840"/>
                <a:ext cx="34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30560" y="3430440"/>
                <a:ext cx="34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92240" y="4604400"/>
                <a:ext cx="34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6" name=""/>
          <p:cNvGraphicFramePr/>
          <p:nvPr/>
        </p:nvGraphicFramePr>
        <p:xfrm>
          <a:off x="420840" y="2436840"/>
          <a:ext cx="7084800" cy="85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0840" y="2436840"/>
                    <a:ext cx="70848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505320" y="5707080"/>
          <a:ext cx="3644640" cy="83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5707080"/>
                    <a:ext cx="36446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ield for a straight wi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363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the magnitude of the magnetic field due to a straight wire, at a    distance r,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dB and the net B field is always perpendicular to the plane of the wire and point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52840" y="1839960"/>
          <a:ext cx="2985840" cy="12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1839960"/>
                    <a:ext cx="298584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737240" y="1438200"/>
          <a:ext cx="37440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7240" y="1438200"/>
                    <a:ext cx="374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290760" y="3948120"/>
          <a:ext cx="194796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0760" y="3948120"/>
                    <a:ext cx="19479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6424560" y="1324080"/>
            <a:ext cx="2668320" cy="2603520"/>
            <a:chOff x="6424560" y="1324080"/>
            <a:chExt cx="2668320" cy="2603520"/>
          </a:xfrm>
        </p:grpSpPr>
        <p:pic>
          <p:nvPicPr>
            <p:cNvPr id="109" name="" descr=""/>
            <p:cNvPicPr/>
            <p:nvPr/>
          </p:nvPicPr>
          <p:blipFill>
            <a:blip r:embed="rId7"/>
            <a:stretch/>
          </p:blipFill>
          <p:spPr>
            <a:xfrm>
              <a:off x="6424560" y="1397160"/>
              <a:ext cx="231948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8768600">
              <a:off x="6694560" y="1973160"/>
              <a:ext cx="2313000" cy="1243080"/>
            </a:xfrm>
            <a:prstGeom prst="parallelogram">
              <a:avLst>
                <a:gd name="adj" fmla="val 46518"/>
              </a:avLst>
            </a:prstGeom>
            <a:solidFill>
              <a:srgbClr val="bbe0e3">
                <a:alpha val="38000"/>
              </a:srgbClr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146088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7121520" y="3100320"/>
              <a:ext cx="300600" cy="306720"/>
              <a:chOff x="7121520" y="3100320"/>
              <a:chExt cx="300600" cy="306720"/>
            </a:xfrm>
          </p:grpSpPr>
          <p:sp>
            <p:nvSpPr>
              <p:cNvPr id="113" name=""/>
              <p:cNvSpPr/>
              <p:nvPr/>
            </p:nvSpPr>
            <p:spPr>
              <a:xfrm rot="13482000">
                <a:off x="7237440" y="3160800"/>
                <a:ext cx="117360" cy="239400"/>
              </a:xfrm>
              <a:prstGeom prst="rect">
                <a:avLst/>
              </a:prstGeom>
              <a:solidFill>
                <a:srgbClr val="00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3482000">
                <a:off x="7194600" y="3092760"/>
                <a:ext cx="77760" cy="239760"/>
              </a:xfrm>
              <a:prstGeom prst="rect">
                <a:avLst/>
              </a:prstGeom>
              <a:solidFill>
                <a:srgbClr val="abf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8264520" y="1836720"/>
              <a:ext cx="300600" cy="306720"/>
              <a:chOff x="8264520" y="1836720"/>
              <a:chExt cx="300600" cy="306720"/>
            </a:xfrm>
          </p:grpSpPr>
          <p:sp>
            <p:nvSpPr>
              <p:cNvPr id="116" name=""/>
              <p:cNvSpPr/>
              <p:nvPr/>
            </p:nvSpPr>
            <p:spPr>
              <a:xfrm rot="13482000">
                <a:off x="8380440" y="1897200"/>
                <a:ext cx="117360" cy="239400"/>
              </a:xfrm>
              <a:prstGeom prst="rect">
                <a:avLst/>
              </a:prstGeom>
              <a:solidFill>
                <a:srgbClr val="00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482000">
                <a:off x="8337600" y="1829160"/>
                <a:ext cx="77760" cy="239760"/>
              </a:xfrm>
              <a:prstGeom prst="rect">
                <a:avLst/>
              </a:prstGeom>
              <a:solidFill>
                <a:srgbClr val="abf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645320" y="1791000"/>
              <a:ext cx="889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65240" y="4516560"/>
            <a:ext cx="88009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 field is said to “curl” around the current in the wire (as per RH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length of the wire (L) is much greater than the separation distance (r), the magnitude of the B-field redu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1640" y="6070680"/>
          <a:ext cx="3117960" cy="74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1640" y="6070680"/>
                    <a:ext cx="31179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ield of a Circular Arc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 field at the center of curvature of a circular arc can be determined by applying the Biot-Savart Law to a segment of the ar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over the entire ar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   is the unit vector normal to the plane of the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ircular loop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80320" y="2662200"/>
            <a:ext cx="2618640" cy="26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281280" y="2978280"/>
            <a:ext cx="941400" cy="1131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95360" y="2220840"/>
          <a:ext cx="4056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220840"/>
                    <a:ext cx="4056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438960" y="3251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54680" y="3860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01080" y="2946240"/>
            <a:ext cx="69840" cy="63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194600" y="2665440"/>
          <a:ext cx="115560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4600" y="2665440"/>
                    <a:ext cx="1155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091840" y="2509920"/>
            <a:ext cx="2620440" cy="267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3375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337592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1528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77720" y="3522600"/>
          <a:ext cx="485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7720" y="3522600"/>
                    <a:ext cx="485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461960" y="4373640"/>
          <a:ext cx="26532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61960" y="4373640"/>
                    <a:ext cx="265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089760" y="5173560"/>
          <a:ext cx="144936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9760" y="5173560"/>
                    <a:ext cx="1449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orce Between Parallel Current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2 parallel wires (length=L) both carry current, their respective B-field exerts a magnetic force on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tr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ul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44840" y="2201760"/>
          <a:ext cx="33274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201760"/>
                    <a:ext cx="33274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546120" y="2044800"/>
            <a:ext cx="3168720" cy="2031120"/>
            <a:chOff x="546120" y="2044800"/>
            <a:chExt cx="3168720" cy="2031120"/>
          </a:xfrm>
        </p:grpSpPr>
        <p:sp>
          <p:nvSpPr>
            <p:cNvPr id="146" name=""/>
            <p:cNvSpPr/>
            <p:nvPr/>
          </p:nvSpPr>
          <p:spPr>
            <a:xfrm rot="16200000">
              <a:off x="2082600" y="1040760"/>
              <a:ext cx="228600" cy="3035520"/>
            </a:xfrm>
            <a:prstGeom prst="can">
              <a:avLst>
                <a:gd name="adj" fmla="val 208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2070000" y="2057040"/>
              <a:ext cx="228600" cy="3035160"/>
            </a:xfrm>
            <a:prstGeom prst="can">
              <a:avLst>
                <a:gd name="adj" fmla="val 208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84480" y="22226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204480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22640" y="38480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3280" y="367020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73400" y="2692440"/>
              <a:ext cx="0" cy="26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2354400" y="2665440"/>
            <a:ext cx="57132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54400" y="2665440"/>
                      <a:ext cx="57132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"/>
            <p:cNvSpPr/>
            <p:nvPr/>
          </p:nvSpPr>
          <p:spPr>
            <a:xfrm>
              <a:off x="2273400" y="3174840"/>
              <a:ext cx="0" cy="26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2379600" y="3097080"/>
            <a:ext cx="57168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79600" y="3097080"/>
                      <a:ext cx="57168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546120" y="2565360"/>
              <a:ext cx="0" cy="9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6120" y="2819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58720" y="4292640"/>
            <a:ext cx="3143160" cy="2031120"/>
            <a:chOff x="558720" y="4292640"/>
            <a:chExt cx="3143160" cy="2031120"/>
          </a:xfrm>
        </p:grpSpPr>
        <p:sp>
          <p:nvSpPr>
            <p:cNvPr id="161" name=""/>
            <p:cNvSpPr/>
            <p:nvPr/>
          </p:nvSpPr>
          <p:spPr>
            <a:xfrm rot="16200000">
              <a:off x="2070000" y="3288960"/>
              <a:ext cx="228600" cy="3035160"/>
            </a:xfrm>
            <a:prstGeom prst="can">
              <a:avLst>
                <a:gd name="adj" fmla="val 208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2057400" y="4304880"/>
              <a:ext cx="228600" cy="3035160"/>
            </a:xfrm>
            <a:prstGeom prst="can">
              <a:avLst>
                <a:gd name="adj" fmla="val 208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1880" y="4470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92160" y="429264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6095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30320" y="591804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60440" y="4940280"/>
              <a:ext cx="0" cy="2667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2341440" y="4913280"/>
            <a:ext cx="57168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41440" y="4913280"/>
                      <a:ext cx="57168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2260440" y="5423040"/>
              <a:ext cx="0" cy="2664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367000" y="5345280"/>
            <a:ext cx="571320" cy="36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67000" y="5345280"/>
                      <a:ext cx="57132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558720" y="4826160"/>
              <a:ext cx="0" cy="9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8720" y="50799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330800" y="3014640"/>
          <a:ext cx="3316320" cy="72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30800" y="3014640"/>
                    <a:ext cx="3316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343400" y="4653000"/>
          <a:ext cx="3268800" cy="723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3400" y="4653000"/>
                    <a:ext cx="3268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368960" y="5516640"/>
          <a:ext cx="3375000" cy="736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68960" y="5516640"/>
                    <a:ext cx="33750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mpere’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896400"/>
            <a:ext cx="883944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analog to Gauss’ Law is Ampere’s Law, which can be used in certain circumstances to calculate a B-field more simply than the Biot-Savart La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or a closed path around an enclose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B field outside a straight, infinitely long current carrying w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circular loop (called an “Amperean Loop”) centered on the wire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ince the path is equidistant at all points to the wire, B will have constant magnitude along the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ply Ampere’s La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ve for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15960" y="5008680"/>
          <a:ext cx="519912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5008680"/>
                    <a:ext cx="51991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101680" y="5969160"/>
          <a:ext cx="14828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1680" y="5969160"/>
                    <a:ext cx="1482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022560" y="2602080"/>
          <a:ext cx="237492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2602080"/>
                    <a:ext cx="23749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6311880" y="4309920"/>
            <a:ext cx="2184480" cy="2242800"/>
            <a:chOff x="6311880" y="4309920"/>
            <a:chExt cx="2184480" cy="2242800"/>
          </a:xfrm>
        </p:grpSpPr>
        <p:sp>
          <p:nvSpPr>
            <p:cNvPr id="190" name=""/>
            <p:cNvSpPr/>
            <p:nvPr/>
          </p:nvSpPr>
          <p:spPr>
            <a:xfrm rot="16200000">
              <a:off x="7772400" y="5105520"/>
              <a:ext cx="317520" cy="1130400"/>
            </a:xfrm>
            <a:prstGeom prst="can">
              <a:avLst>
                <a:gd name="adj" fmla="val 77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6505560" y="5109840"/>
              <a:ext cx="1833480" cy="105228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96360" y="4749840"/>
              <a:ext cx="169560" cy="1602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7597800" y="4309920"/>
            <a:ext cx="763560" cy="420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97800" y="4309920"/>
                      <a:ext cx="76356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 rot="16200000">
              <a:off x="6718320" y="5105520"/>
              <a:ext cx="317520" cy="1130400"/>
            </a:xfrm>
            <a:prstGeom prst="can">
              <a:avLst>
                <a:gd name="adj" fmla="val 77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375240" y="535932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40480" y="4991040"/>
              <a:ext cx="3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378560" y="4851000"/>
              <a:ext cx="279720" cy="82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26280" y="494028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terpreting Ampere’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000" y="921960"/>
            <a:ext cx="8991720" cy="57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more fundamental way of interpreting Ampere’s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w/ Ampere’s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interpreted using Gauss’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mpere’s Law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time varying E-field produces a corresponding B-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esence of a B-field implies the presence of a corresponding, time varying E-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030640" y="1262160"/>
          <a:ext cx="3456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0640" y="1262160"/>
                    <a:ext cx="3456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306440" y="4062240"/>
          <a:ext cx="605304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6440" y="4062240"/>
                    <a:ext cx="6053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68760" y="2652840"/>
          <a:ext cx="3152520" cy="92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8760" y="2652840"/>
                    <a:ext cx="3152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071720" y="2262240"/>
          <a:ext cx="690480" cy="62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2262240"/>
                    <a:ext cx="6904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ields in Coils (&amp; solenoid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’s Law is an effective tool for calculating the B-field inside a straight coil or solenoid, with N uniform tur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4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rectangular Amperean Loop of length, </a:t>
            </a:r>
            <a:r>
              <a:rPr b="0" lang="en-US" sz="2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e B-field components around the path segments outside the solenoid equal zero, so Ampere’s Law redu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4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the B-fi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n = N/</a:t>
            </a:r>
            <a:r>
              <a:rPr b="0" lang="en-US" sz="24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turn density for the soleno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4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 of the B-field is defined by the R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066680" y="3005280"/>
          <a:ext cx="40021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05280"/>
                    <a:ext cx="4002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123920" y="4062240"/>
          <a:ext cx="40798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3920" y="4062240"/>
                    <a:ext cx="4079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5778720" y="2706840"/>
            <a:ext cx="3364920" cy="2322000"/>
            <a:chOff x="5778720" y="2706840"/>
            <a:chExt cx="3364920" cy="2322000"/>
          </a:xfrm>
        </p:grpSpPr>
        <p:sp>
          <p:nvSpPr>
            <p:cNvPr id="217" name=""/>
            <p:cNvSpPr/>
            <p:nvPr/>
          </p:nvSpPr>
          <p:spPr>
            <a:xfrm>
              <a:off x="8636760" y="34405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13320" y="3279240"/>
              <a:ext cx="2213280" cy="987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13320" y="3430080"/>
              <a:ext cx="2213280" cy="987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13320" y="3583080"/>
              <a:ext cx="2213280" cy="985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3320" y="3735720"/>
              <a:ext cx="2213280" cy="987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13320" y="3886920"/>
              <a:ext cx="2213280" cy="989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13320" y="4037760"/>
              <a:ext cx="2213280" cy="987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7328520" y="3438000"/>
              <a:ext cx="4680" cy="725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333920" y="3949560"/>
              <a:ext cx="0" cy="1079280"/>
            </a:xfrm>
            <a:prstGeom prst="line">
              <a:avLst/>
            </a:prstGeom>
            <a:ln w="3816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7148160" y="2706840"/>
            <a:ext cx="364680" cy="60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48160" y="2706840"/>
                      <a:ext cx="364680" cy="6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7483320" y="3224160"/>
              <a:ext cx="1211760" cy="118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09760" y="3893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102000" y="4171680"/>
              <a:ext cx="0" cy="3718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084720" y="4190760"/>
              <a:ext cx="5979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084720" y="4547520"/>
              <a:ext cx="5979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656040" y="4171680"/>
              <a:ext cx="0" cy="3718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78720" y="41140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French Script MT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09T17:48:21Z</dcterms:modified>
  <cp:revision>65</cp:revision>
  <dc:subject/>
  <dc:title>Phy 211: General Physics I</dc:title>
</cp:coreProperties>
</file>