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118-BB13-41B6-838C-3813E134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A10-CFDC-454E-B099-C6F1E6C0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FB3-3ECC-467A-973B-FA68AC42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84B-6F43-449F-8ABC-6C0F5B67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598-AFFE-41EB-A94C-D260C1A3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058-0D2D-4C3E-94D7-42E3FE1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E4D-FA89-40EB-9235-FF36D2B8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24C-78D5-4E80-BCC1-546E2338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BFF-BBEB-42D1-907F-717B73A9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607-B17E-4462-AD25-C4CB961C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0BA-585B-40AA-8AF7-1D81E7E4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9DE-8383-4853-9E77-800E0A0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7D5B-E894-40D8-B7D9-AAF66ED12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8: Magnetic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68880" y="3083040"/>
            <a:ext cx="4875120" cy="3794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orce in DC Mo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61560"/>
            <a:ext cx="8818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DC motor is comprised of a rotating wire coil (called an armature) connected to a battery (or DC power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mature is placed within a between the opposite poles of 2 mag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urrent passes along the coil, the magnetic field exerts force on the wires generating torque that results in the rotation of the arm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440" y="3529080"/>
            <a:ext cx="434340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rotates, the magnitude of torque (force) acting on the armature depends on its orientation in the magnet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457880" y="2820960"/>
            <a:ext cx="4326840" cy="2844720"/>
            <a:chOff x="4457880" y="2820960"/>
            <a:chExt cx="4326840" cy="28447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4457880" y="2820960"/>
              <a:ext cx="432684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716440" y="4221360"/>
              <a:ext cx="1730880" cy="3988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      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885600"/>
            <a:ext cx="8728200" cy="59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vement of electric charge produces a magnetic (B)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magnetic point charge (called a magnetic monopo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never been discovered i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etism always exists as a dipole never as a point “char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etic materials have both north and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etic field lines point from North (N) to South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of magnetic field are called Tesla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 Tesla (T) = 1 N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/C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3200" y="3114720"/>
            <a:ext cx="4229280" cy="2759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iel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2151" b="0"/>
          <a:stretch/>
        </p:blipFill>
        <p:spPr>
          <a:xfrm>
            <a:off x="4753080" y="1617840"/>
            <a:ext cx="4333680" cy="4516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Earth as a Magne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033640"/>
            <a:ext cx="5141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graphic “North Pole” is really the South pole of the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graphic “South Pole” is really the North pole of the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ts value varies depending on location, the magnitude of the Earth’s magnetic field i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~ 6x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22320"/>
            <a:ext cx="914400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th has a magnetic field and acts like a big 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efine the magnetic “north” direction as the direction the North end of a compass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15328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ields (moving charg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charges produce magnetic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produced magnetic field depe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tude of charge (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of the charge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charge 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of magnetic field is determined by the “right hand ru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thumb in direction of v (or –v for negative 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l fingers around the thu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 of the fingers is the direction of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hat is the direction of the B fi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76520" y="6095880"/>
            <a:ext cx="561600" cy="658800"/>
            <a:chOff x="1676520" y="6095880"/>
            <a:chExt cx="561600" cy="658800"/>
          </a:xfrm>
        </p:grpSpPr>
        <p:sp>
          <p:nvSpPr>
            <p:cNvPr id="58" name=""/>
            <p:cNvSpPr/>
            <p:nvPr/>
          </p:nvSpPr>
          <p:spPr>
            <a:xfrm>
              <a:off x="1676520" y="6095880"/>
              <a:ext cx="5616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58600" y="6145200"/>
              <a:ext cx="339480" cy="399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332080" y="6324480"/>
            <a:ext cx="984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77960" y="6299280"/>
            <a:ext cx="447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1320" y="6095880"/>
            <a:ext cx="561600" cy="658800"/>
            <a:chOff x="5791320" y="6095880"/>
            <a:chExt cx="561600" cy="658800"/>
          </a:xfrm>
        </p:grpSpPr>
        <p:sp>
          <p:nvSpPr>
            <p:cNvPr id="63" name=""/>
            <p:cNvSpPr/>
            <p:nvPr/>
          </p:nvSpPr>
          <p:spPr>
            <a:xfrm>
              <a:off x="5791320" y="6095880"/>
              <a:ext cx="5616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73400" y="6145200"/>
              <a:ext cx="339480" cy="399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446880" y="6324480"/>
            <a:ext cx="984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92760" y="6299280"/>
            <a:ext cx="8510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30680" y="2197080"/>
            <a:ext cx="3613320" cy="383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273320" y="5878440"/>
          <a:ext cx="195408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3320" y="5878440"/>
                    <a:ext cx="19540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160" y="1036440"/>
            <a:ext cx="59738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fields exert force on moving charg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he magnetic fo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magnetic forc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endicular to the direction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endicular to the direction of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orce exerted on a charg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moving charge (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ed of the moving charge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magnetic field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l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tween v an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culate magnetic force on a moving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5080" y="5832360"/>
          <a:ext cx="265248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5080" y="5832360"/>
                    <a:ext cx="265248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670200" y="58802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3040" y="463320"/>
            <a:ext cx="8207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orce on a Current-Carrying Wi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840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arrying wires have moving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laced in a magnetic field, the field can exert a force on these moving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orce vector exerted on a current carrying wire of length, L,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magnetic force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693880" y="3882960"/>
          <a:ext cx="28162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3882960"/>
                    <a:ext cx="281628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11600" y="2744640"/>
          <a:ext cx="210168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1600" y="2744640"/>
                    <a:ext cx="21016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"/>
          <p:cNvGrpSpPr/>
          <p:nvPr/>
        </p:nvGrpSpPr>
        <p:grpSpPr>
          <a:xfrm>
            <a:off x="5605560" y="3927600"/>
            <a:ext cx="3538440" cy="1782720"/>
            <a:chOff x="5605560" y="3927600"/>
            <a:chExt cx="3538440" cy="1782720"/>
          </a:xfrm>
        </p:grpSpPr>
        <p:sp>
          <p:nvSpPr>
            <p:cNvPr id="82" name=""/>
            <p:cNvSpPr/>
            <p:nvPr/>
          </p:nvSpPr>
          <p:spPr>
            <a:xfrm rot="5400000">
              <a:off x="6922080" y="3498120"/>
              <a:ext cx="327240" cy="2960640"/>
            </a:xfrm>
            <a:prstGeom prst="can">
              <a:avLst>
                <a:gd name="adj" fmla="val 653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26400" y="46562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32560" y="4005360"/>
              <a:ext cx="0" cy="78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672160" y="5005440"/>
              <a:ext cx="733680" cy="42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785280" y="4363920"/>
              <a:ext cx="733320" cy="42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10840" y="4413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7494840" y="4035600"/>
            <a:ext cx="358560" cy="52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94840" y="4035600"/>
                      <a:ext cx="35856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"/>
            <p:cNvGraphicFramePr/>
            <p:nvPr/>
          </p:nvGraphicFramePr>
          <p:xfrm>
            <a:off x="6019920" y="3927600"/>
            <a:ext cx="372960" cy="57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9920" y="3927600"/>
                      <a:ext cx="37296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5616720" y="4978800"/>
              <a:ext cx="27813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7118640" y="5180400"/>
            <a:ext cx="331560" cy="52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18640" y="5180400"/>
                      <a:ext cx="331560" cy="5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 flipV="1">
              <a:off x="6464520" y="4802400"/>
              <a:ext cx="282600" cy="1778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Hall Effe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5118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erpendicular magnetic field is applied to a current carrying material, the charge path becomes curved with moving charge accumulating on one face of the material &amp; equal and opposite charges exposed on the other f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paration of charge establishes a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ctric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opposes the migration of further charge, and a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ctrical poten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ilds up for as long as the current is flow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96040" y="401400"/>
            <a:ext cx="3747600" cy="4744800"/>
            <a:chOff x="5396040" y="401400"/>
            <a:chExt cx="3747600" cy="4744800"/>
          </a:xfrm>
        </p:grpSpPr>
        <p:sp>
          <p:nvSpPr>
            <p:cNvPr id="99" name=""/>
            <p:cNvSpPr/>
            <p:nvPr/>
          </p:nvSpPr>
          <p:spPr>
            <a:xfrm>
              <a:off x="5396040" y="2277720"/>
              <a:ext cx="3045960" cy="25884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5713200" y="1156680"/>
              <a:ext cx="2536200" cy="2631240"/>
            </a:xfrm>
            <a:prstGeom prst="cube">
              <a:avLst>
                <a:gd name="adj" fmla="val 57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063920" y="401400"/>
              <a:ext cx="0" cy="54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993000" y="3903120"/>
              <a:ext cx="0" cy="60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69280" y="4705560"/>
              <a:ext cx="745560" cy="44064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H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35480" y="4032000"/>
              <a:ext cx="6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103160" y="1562400"/>
              <a:ext cx="2012400" cy="8092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22640" y="1856520"/>
              <a:ext cx="6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0440" y="2140200"/>
              <a:ext cx="6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26400" y="2068200"/>
              <a:ext cx="28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922000" y="1284120"/>
            <a:ext cx="2236320" cy="2264760"/>
            <a:chOff x="5922000" y="1284120"/>
            <a:chExt cx="2236320" cy="2264760"/>
          </a:xfrm>
        </p:grpSpPr>
        <p:sp>
          <p:nvSpPr>
            <p:cNvPr id="110" name=""/>
            <p:cNvSpPr/>
            <p:nvPr/>
          </p:nvSpPr>
          <p:spPr>
            <a:xfrm flipV="1">
              <a:off x="5937480" y="1377000"/>
              <a:ext cx="2167920" cy="21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16221000">
              <a:off x="5930280" y="1343520"/>
              <a:ext cx="2167920" cy="21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23080" y="1284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ff0066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orque Exerted on a Current Loop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931680"/>
            <a:ext cx="8839080" cy="59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net magnetic force exerted on a current carrying loop in a magnetic field is zero, the field does exert torque on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quare loop (length of sides = L and current = i) in a constant magnetic fi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2 sides of the loop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of the other sides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iLB is pointing opposit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f these forces exerts a torque on the 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 torque on the loo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are N lo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72960" y="4226040"/>
          <a:ext cx="44784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4226040"/>
                    <a:ext cx="44784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06440" y="5532480"/>
          <a:ext cx="611820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440" y="5532480"/>
                    <a:ext cx="61182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867120" y="6118200"/>
          <a:ext cx="326232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7120" y="6118200"/>
                    <a:ext cx="32623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5661000" y="4181400"/>
            <a:ext cx="3328920" cy="2098800"/>
            <a:chOff x="5661000" y="4181400"/>
            <a:chExt cx="3328920" cy="2098800"/>
          </a:xfrm>
        </p:grpSpPr>
        <p:sp>
          <p:nvSpPr>
            <p:cNvPr id="122" name=""/>
            <p:cNvSpPr/>
            <p:nvPr/>
          </p:nvSpPr>
          <p:spPr>
            <a:xfrm>
              <a:off x="6897600" y="5551560"/>
              <a:ext cx="8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5039000">
              <a:off x="6851160" y="4041360"/>
              <a:ext cx="1352520" cy="2327400"/>
            </a:xfrm>
            <a:prstGeom prst="parallelogram">
              <a:avLst>
                <a:gd name="adj" fmla="val 61898"/>
              </a:avLst>
            </a:pr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42160" y="5556240"/>
              <a:ext cx="60012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280200" y="4564080"/>
              <a:ext cx="1440" cy="657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734320" y="5127480"/>
              <a:ext cx="3240" cy="658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6372000" y="4183200"/>
            <a:ext cx="524160" cy="750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72000" y="4183200"/>
                      <a:ext cx="524160" cy="75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8281800" y="5500800"/>
            <a:ext cx="544680" cy="779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281800" y="5500800"/>
                      <a:ext cx="54468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7256520" y="4600440"/>
              <a:ext cx="511200" cy="1319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8556480" y="4334040"/>
            <a:ext cx="433440" cy="587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556480" y="4334040"/>
                      <a:ext cx="43344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788240" y="4681440"/>
              <a:ext cx="708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313320" y="5195880"/>
              <a:ext cx="118908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33960" y="4995720"/>
              <a:ext cx="11916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5661000" y="4800600"/>
            <a:ext cx="342720" cy="549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661000" y="4800600"/>
                      <a:ext cx="34272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Mo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645336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NiA is referred to as the magnetic moment vecto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is the normal vector to the face of the 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rque on the loop can then be expressed (for any N, A, and i)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8680" y="254484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7028000">
            <a:off x="7037280" y="1469520"/>
            <a:ext cx="1352520" cy="2327040"/>
          </a:xfrm>
          <a:prstGeom prst="parallelogram">
            <a:avLst>
              <a:gd name="adj" fmla="val 61898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65920" y="2532240"/>
            <a:ext cx="47628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496360" y="2257560"/>
          <a:ext cx="43344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6360" y="2257560"/>
                    <a:ext cx="43344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7728120" y="2604960"/>
            <a:ext cx="70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05440" y="1897200"/>
            <a:ext cx="360360" cy="712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520040" y="1657440"/>
          <a:ext cx="447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0040" y="1657440"/>
                    <a:ext cx="447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02080" y="3422520"/>
          <a:ext cx="3705120" cy="13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02080" y="3422520"/>
                    <a:ext cx="37051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63440" y="4705200"/>
            <a:ext cx="87328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potential energy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3240" y="2119320"/>
          <a:ext cx="1587600" cy="6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3240" y="2119320"/>
                    <a:ext cx="15876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630520" y="5189400"/>
          <a:ext cx="1914480" cy="61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30520" y="5189400"/>
                    <a:ext cx="19144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05T20:45:46Z</dcterms:modified>
  <cp:revision>79</cp:revision>
  <dc:subject/>
  <dc:title>Phy 211: General Physics I</dc:title>
</cp:coreProperties>
</file>