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0C144-0C31-4DB3-A651-F66686073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 (DC): I = dq/dt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 (AC): I = varying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conduction through 2 layers of different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(#conducting electrons/atom)x(density)x(avogadro’s number)/(molar m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sistivity: T can be expressed in either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or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+ (for conductors) &amp; - (for insul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0C9-AA58-4739-B799-0FDF7D2A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23C-76A8-4F88-BD3C-543213B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B22-C254-41FF-AAFE-ADF434B4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F85-F239-4857-9815-0DD7C127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17C-516D-410A-A4CA-0C03A58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626-00E3-40A8-8E28-ADD4365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B6D-5AFA-42B1-9C7F-F10CFD0E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553-5C38-4D8A-99BC-D7A33B4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7D7-6F4A-4D27-897F-9FAE98A7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FD3-F4E3-458F-B9AE-A2BAB687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A23-826C-4D96-A086-BCB54C10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B54-8AF4-4B11-A6EA-06C173E3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86C-DF9A-41E1-92E8-0615E0179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6: 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040" y="821880"/>
            <a:ext cx="883908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energy to “push” charge through an electrical device.  This should be obvious given that the charge flows from high potential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lower potential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must go somewhere if the charge flows at constant drift veloc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0).  It is radiated out as hea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ransfer associated with moving a charge dq across a potential difference, V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energy transfer, in Watts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Ohm’s Law, the power can be alternatively expressed to describe “resistive” dissipation of ener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6120" y="4510080"/>
          <a:ext cx="33638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6120" y="4510080"/>
                    <a:ext cx="33638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80200" y="5911920"/>
          <a:ext cx="229536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0200" y="5911920"/>
                    <a:ext cx="22953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043600" y="3592440"/>
          <a:ext cx="298908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3600" y="3592440"/>
                    <a:ext cx="29890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lectric Curren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33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potential causes electric charges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electric charge is call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electric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 accelerates toward lower electric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harge accelerates toward higher electric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flow of electric charge (i) through a conducting materi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are coulombs per second (C/s), called amperes (A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1 C/s = 1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f charge movement (q) is related to the electric current 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onvention, electric current is defined as the flow of positive charge carriers flowing from high potential (+) to low potential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613320" y="2790720"/>
          <a:ext cx="103788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3320" y="2790720"/>
                    <a:ext cx="10378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384720" y="4735440"/>
          <a:ext cx="271908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4720" y="4735440"/>
                    <a:ext cx="2719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duction Model of Electric Current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through a constant area pathway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393048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depends on potential difference between 2 regions &amp; how far apart those regions are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8240" y="3914280"/>
            <a:ext cx="420516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he cross-sectional area increases amount of charge that can flow through in a given time, for constant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200" y="5934240"/>
            <a:ext cx="8458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the relative ability to conduct charge is an intrinsic property of different material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43400" y="1209600"/>
            <a:ext cx="4524480" cy="2025720"/>
            <a:chOff x="4343400" y="1209600"/>
            <a:chExt cx="4524480" cy="2025720"/>
          </a:xfrm>
        </p:grpSpPr>
        <p:sp>
          <p:nvSpPr>
            <p:cNvPr id="63" name=""/>
            <p:cNvSpPr/>
            <p:nvPr/>
          </p:nvSpPr>
          <p:spPr>
            <a:xfrm>
              <a:off x="8131320" y="2000160"/>
              <a:ext cx="73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343400" y="1662120"/>
              <a:ext cx="3784680" cy="1573200"/>
              <a:chOff x="4343400" y="1662120"/>
              <a:chExt cx="3784680" cy="1573200"/>
            </a:xfrm>
          </p:grpSpPr>
          <p:sp>
            <p:nvSpPr>
              <p:cNvPr id="65" name=""/>
              <p:cNvSpPr/>
              <p:nvPr/>
            </p:nvSpPr>
            <p:spPr>
              <a:xfrm rot="16200000">
                <a:off x="5923800" y="535680"/>
                <a:ext cx="1077840" cy="3330720"/>
              </a:xfrm>
              <a:prstGeom prst="can">
                <a:avLst>
                  <a:gd name="adj" fmla="val 20495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03720" y="2871720"/>
                <a:ext cx="27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37360" y="2867040"/>
                <a:ext cx="4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3400" y="1971720"/>
                <a:ext cx="736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824440" y="12096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73920" y="1411200"/>
              <a:ext cx="804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411800" y="3591000"/>
            <a:ext cx="4503600" cy="1944360"/>
            <a:chOff x="4411800" y="3591000"/>
            <a:chExt cx="4503600" cy="1944360"/>
          </a:xfrm>
        </p:grpSpPr>
        <p:grpSp>
          <p:nvGrpSpPr>
            <p:cNvPr id="72" name=""/>
            <p:cNvGrpSpPr/>
            <p:nvPr/>
          </p:nvGrpSpPr>
          <p:grpSpPr>
            <a:xfrm>
              <a:off x="4411800" y="3962160"/>
              <a:ext cx="3783960" cy="1573200"/>
              <a:chOff x="4411800" y="3962160"/>
              <a:chExt cx="3783960" cy="1573200"/>
            </a:xfrm>
          </p:grpSpPr>
          <p:sp>
            <p:nvSpPr>
              <p:cNvPr id="73" name=""/>
              <p:cNvSpPr/>
              <p:nvPr/>
            </p:nvSpPr>
            <p:spPr>
              <a:xfrm rot="16200000">
                <a:off x="5991840" y="2835720"/>
                <a:ext cx="1077480" cy="3330360"/>
              </a:xfrm>
              <a:prstGeom prst="can">
                <a:avLst>
                  <a:gd name="adj" fmla="val 20495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71760" y="517176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05400" y="5167080"/>
                <a:ext cx="42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1800" y="4271760"/>
                <a:ext cx="736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6442200" y="3963960"/>
              <a:ext cx="560160" cy="1063800"/>
            </a:xfrm>
            <a:prstGeom prst="ellipse">
              <a:avLst/>
            </a:prstGeom>
            <a:solidFill>
              <a:srgbClr val="ff9999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40480" y="4305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48200" y="35910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7680" y="3792600"/>
              <a:ext cx="804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78840" y="4280040"/>
              <a:ext cx="73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duction of Electric Curren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charge flow (current) w/in a conductor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difference between 2 regions along the conducting pathway material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oss sectional area of the conducting pathway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conductor to conduct charg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{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du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gth of conducting pathway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uniform cylindrical conductor, combining these elements leads to the conduct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,      , is called the conductivity (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 is more commonly expressed as the “resistance” (R) of the conducting path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 is the “resistivity “ (in units of         or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0880" y="3606840"/>
          <a:ext cx="333684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0880" y="3606840"/>
                    <a:ext cx="33368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401920" y="4184640"/>
          <a:ext cx="453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1920" y="4184640"/>
                    <a:ext cx="453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84600" y="5465880"/>
          <a:ext cx="292392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4600" y="5465880"/>
                    <a:ext cx="292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172280" y="4157640"/>
          <a:ext cx="1189080" cy="73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72280" y="4157640"/>
                    <a:ext cx="11890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678640" y="6145200"/>
          <a:ext cx="56988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8640" y="6145200"/>
                    <a:ext cx="5698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661080" y="6356520"/>
          <a:ext cx="6811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61080" y="6356520"/>
                    <a:ext cx="6811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8520" y="3282840"/>
            <a:ext cx="7301160" cy="31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density of charge flow through a cylindrical region (area, A and length L) is related to the number of charge carriers (n) &amp; their average drift velocity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a 0.1A current flowing through a copper wi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n = 8.49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&amp; A = 1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6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urrent Density &amp; Drift Veloc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742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teady state uniformly distributed electric current, the current can be expressed in terms of its associated current density vector (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     is the area vector, perpendicular to the cross sectional area through which the current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349800" y="1641600"/>
          <a:ext cx="413856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9800" y="1641600"/>
                    <a:ext cx="413856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08040" y="4853160"/>
          <a:ext cx="3821040" cy="9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040" y="4853160"/>
                    <a:ext cx="38210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49520" y="2416320"/>
          <a:ext cx="47628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9520" y="2416320"/>
                    <a:ext cx="476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5361120" y="3652920"/>
            <a:ext cx="3563280" cy="2278800"/>
            <a:chOff x="5361120" y="3652920"/>
            <a:chExt cx="3563280" cy="2278800"/>
          </a:xfrm>
        </p:grpSpPr>
        <p:sp>
          <p:nvSpPr>
            <p:cNvPr id="106" name=""/>
            <p:cNvSpPr/>
            <p:nvPr/>
          </p:nvSpPr>
          <p:spPr>
            <a:xfrm>
              <a:off x="7965360" y="36529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7185960" y="4193280"/>
              <a:ext cx="1770840" cy="1705680"/>
            </a:xfrm>
            <a:prstGeom prst="can">
              <a:avLst>
                <a:gd name="adj" fmla="val 50000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6960" y="4021200"/>
              <a:ext cx="79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86040" y="4178160"/>
              <a:ext cx="708840" cy="1727280"/>
            </a:xfrm>
            <a:prstGeom prst="ellipse">
              <a:avLst/>
            </a:prstGeom>
            <a:solidFill>
              <a:srgbClr val="aee5f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05560" y="4748760"/>
              <a:ext cx="54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5080" y="5011920"/>
              <a:ext cx="8744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5361120" y="4606920"/>
            <a:ext cx="1310760" cy="76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61120" y="4606920"/>
                      <a:ext cx="1310760" cy="76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4" name=""/>
          <p:cNvGraphicFramePr/>
          <p:nvPr/>
        </p:nvGraphicFramePr>
        <p:xfrm>
          <a:off x="4797360" y="6058080"/>
          <a:ext cx="3187800" cy="80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7360" y="6058080"/>
                    <a:ext cx="3187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hm’s Law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89388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current can be re-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 = the potential difference across the conductiv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us, the current thr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ducting pathway can be described by dividing the potential across the pathway by the effective resistance of the path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resistance of a conducting pathway is defined as the potential difference divided by the current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atio, V/i, is a constant value for all values of V the conductor is said to be an “Ohmic” mater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/i = R =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{Ohm’s La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 is not constant, the conductor is non-Oh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m’s Law is more commonly expressed as: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 =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759720" y="668160"/>
          <a:ext cx="194940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9720" y="668160"/>
                    <a:ext cx="19494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432560" y="3832200"/>
          <a:ext cx="973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32200"/>
                    <a:ext cx="973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sistan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(R) of a substanc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ional area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ivi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of resistance are V/A, called ohm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V/A = 1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insic physical property, resis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pends on temperature.  Over a limited temperature range the temperature dependen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ductors: resistivity increases with 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mi-conductors: resistivity decreases with 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59240" y="1405080"/>
          <a:ext cx="178776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405080"/>
                    <a:ext cx="178776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187720" y="4332240"/>
          <a:ext cx="3984480" cy="6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7720" y="4332240"/>
                    <a:ext cx="39844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able of Selected Resistivities (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@ 20</a:t>
            </a:r>
            <a:r>
              <a:rPr b="0" lang="en-US" sz="2400" spc="-1" strike="noStrike" baseline="30000">
                <a:solidFill>
                  <a:srgbClr val="a50021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1036800"/>
          <a:ext cx="8543880" cy="4790880"/>
        </p:xfrm>
        <a:graphic>
          <a:graphicData uri="http://schemas.openxmlformats.org/drawingml/2006/table">
            <a:tbl>
              <a:tblPr/>
              <a:tblGrid>
                <a:gridCol w="1344600"/>
                <a:gridCol w="1433520"/>
                <a:gridCol w="1236960"/>
                <a:gridCol w="2016000"/>
                <a:gridCol w="1425600"/>
                <a:gridCol w="1087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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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il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59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arbo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raph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-60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.0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p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68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rmanium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lum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6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ilico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ung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6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la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.71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6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Quartz  (fus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lat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.6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39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d rubb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nga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8.2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rcu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8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17360" y="6299280"/>
            <a:ext cx="76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 reproduced from: http://hyperphysics.phy-astr.gs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lation between Current Density &amp; Resista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istivity of a conducting material, reflects the ability of the material to resist current flow and thus limit current density, for a given potential dif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/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he potential difference per unit 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-Obvious Con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eady state current flow, as the current density increases and surface area decrea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constan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/L must increas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→ V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 mus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12800" y="2454120"/>
          <a:ext cx="5694480" cy="9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54120"/>
                    <a:ext cx="569448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2T20:43:05Z</dcterms:modified>
  <cp:revision>64</cp:revision>
  <dc:subject/>
  <dc:title>Phy 211: General Physics I</dc:title>
</cp:coreProperties>
</file>