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0EBEB-5A4C-4325-92D4-B8BAF5E66D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current (DC): I = dq/dt = 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ing current (AC): I = varying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conduction through 2 layers of different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 (#conducting electrons/atom)x(density)x(avogadro’s number)/(molar m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resistivity: T can be expressed in either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or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+ (for conductors) &amp; - (for insulat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D996-2096-442F-B181-046B2DA36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800E-E466-4EE6-9DC5-27F7146F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D15F-6877-4D42-9157-804E60B20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43EE-7F25-4A1D-B425-7E43A4371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C6F7-7515-42FF-A267-2BABA1B6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98A0-FDE1-4732-9356-3C4505DE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8D43-5B65-4DAC-B9C9-8C6D1537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892C-3092-4F55-A11C-2739C02B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5914-EDF1-4D29-977C-B8F27F44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80A0-82CC-4A14-A087-83961467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A3BF-FB84-4245-8EC5-AC0B7053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5B00-C6A9-46D0-BF08-7F2EDED1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DD3B-752C-4B49-9501-39532AF3C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13: General Physics II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6: Electric 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ower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040" y="821880"/>
            <a:ext cx="8839080" cy="55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quires energy to “push” charge through an electrical device.  This should be obvious given that the charge flows from high potential (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o lower potential (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ergy must go somewhere if the charge flows at constant drift velocity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=0).  It is radiated out as heat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ergy transfer associated with moving a charge dq across a potential difference, V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ate of energy transfer, in Watts, is given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ing Ohm’s Law, the power can be alternatively expressed to describe “resistive” dissipation of energ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6120" y="4510080"/>
          <a:ext cx="336384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26120" y="4510080"/>
                    <a:ext cx="336384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80200" y="5911920"/>
          <a:ext cx="2295360" cy="94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80200" y="5911920"/>
                    <a:ext cx="229536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5043600" y="3592440"/>
          <a:ext cx="2989080" cy="461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43600" y="3592440"/>
                    <a:ext cx="298908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Electric Curren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933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426600" indent="-42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lectric potential causes electric charges to m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low of electric charge is called 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electric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1520" indent="-36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charge accelerates toward lower electric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1520" indent="-36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 charge accelerates toward higher electric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ate of flow of electric charge (i) through a conducting material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 units are coulombs per second (C/s), called amperes (A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1 C/s = 1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quantity of charge movement (q) is related to the electric current (i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y convention, electric current is defined as the flow of positive charge carriers flowing from high potential (+) to low potential (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613320" y="2790720"/>
          <a:ext cx="1037880" cy="7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3320" y="2790720"/>
                    <a:ext cx="103788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3384720" y="4735440"/>
          <a:ext cx="2719080" cy="11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84720" y="4735440"/>
                    <a:ext cx="271908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6656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onduction Model of Electric Current</a:t>
            </a:r>
            <a:br>
              <a:rPr sz="3200"/>
            </a:b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(through a constant area pathway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3930480" cy="18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ion depends on potential difference between 2 regions &amp; how far apart those regions are sepa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28240" y="3914280"/>
            <a:ext cx="420516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the cross-sectional area increases amount of charge that can flow through in a given time, for constant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1200" y="5934240"/>
            <a:ext cx="845820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course, the relative ability to conduct charge is an intrinsic property of different materials 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343400" y="1209600"/>
            <a:ext cx="4524480" cy="2025720"/>
            <a:chOff x="4343400" y="1209600"/>
            <a:chExt cx="4524480" cy="2025720"/>
          </a:xfrm>
        </p:grpSpPr>
        <p:sp>
          <p:nvSpPr>
            <p:cNvPr id="63" name=""/>
            <p:cNvSpPr/>
            <p:nvPr/>
          </p:nvSpPr>
          <p:spPr>
            <a:xfrm>
              <a:off x="8131320" y="2000160"/>
              <a:ext cx="736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4343400" y="1662120"/>
              <a:ext cx="3784680" cy="1573200"/>
              <a:chOff x="4343400" y="1662120"/>
              <a:chExt cx="3784680" cy="1573200"/>
            </a:xfrm>
          </p:grpSpPr>
          <p:sp>
            <p:nvSpPr>
              <p:cNvPr id="65" name=""/>
              <p:cNvSpPr/>
              <p:nvPr/>
            </p:nvSpPr>
            <p:spPr>
              <a:xfrm rot="16200000">
                <a:off x="5923800" y="535680"/>
                <a:ext cx="1077840" cy="3330720"/>
              </a:xfrm>
              <a:prstGeom prst="can">
                <a:avLst>
                  <a:gd name="adj" fmla="val 20495"/>
                </a:avLst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103720" y="2871720"/>
                <a:ext cx="2743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237360" y="2867040"/>
                <a:ext cx="42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343400" y="1971720"/>
                <a:ext cx="7365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5824440" y="1209600"/>
              <a:ext cx="54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73920" y="1411200"/>
              <a:ext cx="80460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4411800" y="3591000"/>
            <a:ext cx="4503600" cy="1944360"/>
            <a:chOff x="4411800" y="3591000"/>
            <a:chExt cx="4503600" cy="1944360"/>
          </a:xfrm>
        </p:grpSpPr>
        <p:grpSp>
          <p:nvGrpSpPr>
            <p:cNvPr id="72" name=""/>
            <p:cNvGrpSpPr/>
            <p:nvPr/>
          </p:nvGrpSpPr>
          <p:grpSpPr>
            <a:xfrm>
              <a:off x="4411800" y="3962160"/>
              <a:ext cx="3783960" cy="1573200"/>
              <a:chOff x="4411800" y="3962160"/>
              <a:chExt cx="3783960" cy="1573200"/>
            </a:xfrm>
          </p:grpSpPr>
          <p:sp>
            <p:nvSpPr>
              <p:cNvPr id="73" name=""/>
              <p:cNvSpPr/>
              <p:nvPr/>
            </p:nvSpPr>
            <p:spPr>
              <a:xfrm rot="16200000">
                <a:off x="5991840" y="2835720"/>
                <a:ext cx="1077480" cy="3330360"/>
              </a:xfrm>
              <a:prstGeom prst="can">
                <a:avLst>
                  <a:gd name="adj" fmla="val 20495"/>
                </a:avLst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171760" y="5171760"/>
                <a:ext cx="274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305400" y="5167080"/>
                <a:ext cx="423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1800" y="4271760"/>
                <a:ext cx="736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6442200" y="3963960"/>
              <a:ext cx="560160" cy="1063800"/>
            </a:xfrm>
            <a:prstGeom prst="ellipse">
              <a:avLst/>
            </a:prstGeom>
            <a:solidFill>
              <a:srgbClr val="ff9999"/>
            </a:solidFill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540480" y="43052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48200" y="3591000"/>
              <a:ext cx="54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97680" y="3792600"/>
              <a:ext cx="80460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178840" y="4280040"/>
              <a:ext cx="736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7152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onduction of Electric Current (cont.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872640"/>
            <a:ext cx="9144000" cy="544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-49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ate of charge flow (current) w/in a conductor depend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0960" indent="-420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tential difference between 2 regions along the conducting pathway material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0960" indent="-420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ross sectional area of the conducting pathway 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0960" indent="-420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bility of the conductor to conduct charge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{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ducti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0960" indent="-420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ngth of conducting pathway (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uniform cylindrical conductor, combining these elements leads to the conduction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0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quantity,      , is called the conductivity (g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ivity is more commonly expressed as the “resistance” (R) of the conducting pathw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r is the “resistivity “ (in units of         or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260880" y="3606840"/>
          <a:ext cx="333684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60880" y="3606840"/>
                    <a:ext cx="333684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2401920" y="4184640"/>
          <a:ext cx="453960" cy="63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01920" y="4184640"/>
                    <a:ext cx="45396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2784600" y="5465880"/>
          <a:ext cx="2923920" cy="81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84600" y="5465880"/>
                    <a:ext cx="29239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7172280" y="4157640"/>
          <a:ext cx="1189080" cy="739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72280" y="4157640"/>
                    <a:ext cx="118908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5678640" y="6145200"/>
          <a:ext cx="569880" cy="569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78640" y="6145200"/>
                    <a:ext cx="56988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6661080" y="6356520"/>
          <a:ext cx="681120" cy="30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661080" y="6356520"/>
                    <a:ext cx="6811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8520" y="3282840"/>
            <a:ext cx="7301160" cy="31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17320" indent="-5173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urrent density of charge flow through a cylindrical region (area, A and length L) is related to the number of charge carriers (n) &amp; their average drift velocity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rif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or a 0.1A current flowing through a copper wir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n = 8.49x10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8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-3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&amp; A = 1x10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-6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urrent Density &amp; Drift Velocit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86742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spcAft>
                <a:spcPts val="29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steady state uniformly distributed electric current, the current can be expressed in terms of its associated current density vector (J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      is the area vector, perpendicular to the cross sectional area through which the current 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349800" y="1641600"/>
          <a:ext cx="4138560" cy="106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9800" y="1641600"/>
                    <a:ext cx="4138560" cy="10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608040" y="4853160"/>
          <a:ext cx="3821040" cy="96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040" y="4853160"/>
                    <a:ext cx="3821040" cy="9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1649520" y="2416320"/>
          <a:ext cx="476280" cy="426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49520" y="2416320"/>
                    <a:ext cx="47628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5" name=""/>
          <p:cNvGrpSpPr/>
          <p:nvPr/>
        </p:nvGrpSpPr>
        <p:grpSpPr>
          <a:xfrm>
            <a:off x="5361120" y="3652920"/>
            <a:ext cx="3563280" cy="2278800"/>
            <a:chOff x="5361120" y="3652920"/>
            <a:chExt cx="3563280" cy="2278800"/>
          </a:xfrm>
        </p:grpSpPr>
        <p:sp>
          <p:nvSpPr>
            <p:cNvPr id="106" name=""/>
            <p:cNvSpPr/>
            <p:nvPr/>
          </p:nvSpPr>
          <p:spPr>
            <a:xfrm>
              <a:off x="7965360" y="3652920"/>
              <a:ext cx="46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6200000">
              <a:off x="7185960" y="4193280"/>
              <a:ext cx="1770840" cy="1705680"/>
            </a:xfrm>
            <a:prstGeom prst="can">
              <a:avLst>
                <a:gd name="adj" fmla="val 50000"/>
              </a:avLst>
            </a:prstGeom>
            <a:solidFill>
              <a:srgbClr val="ff99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716960" y="4021200"/>
              <a:ext cx="799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86040" y="4178160"/>
              <a:ext cx="708840" cy="1727280"/>
            </a:xfrm>
            <a:prstGeom prst="ellipse">
              <a:avLst/>
            </a:prstGeom>
            <a:solidFill>
              <a:srgbClr val="aee5f0"/>
            </a:solidFill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05560" y="4748760"/>
              <a:ext cx="54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15080" y="5011920"/>
              <a:ext cx="87444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2" name=""/>
            <p:cNvGraphicFramePr/>
            <p:nvPr/>
          </p:nvGraphicFramePr>
          <p:xfrm>
            <a:off x="5361120" y="4606920"/>
            <a:ext cx="1310760" cy="764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361120" y="4606920"/>
                      <a:ext cx="1310760" cy="76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14" name=""/>
          <p:cNvGraphicFramePr/>
          <p:nvPr/>
        </p:nvGraphicFramePr>
        <p:xfrm>
          <a:off x="4797360" y="6058080"/>
          <a:ext cx="3187800" cy="803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97360" y="6058080"/>
                    <a:ext cx="318780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Ohm’s Law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89388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ic current can be re-expressed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3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= V = the potential difference across the conductive path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us, the current thr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conducting pathway can be described by dividing the potential across the pathway by the effective resistance of the pathwa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3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3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resistance of a conducting pathway is defined as the potential difference divided by the current fl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3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ratio, V/i, is a constant value for all values of V the conductor is said to be an “Ohmic” materi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32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/i = R = cons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{Ohm’s La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R is not constant, the conductor is non-Oh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hm’s Law is more commonly expressed as: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V = 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759720" y="668160"/>
          <a:ext cx="1949400" cy="9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59720" y="668160"/>
                    <a:ext cx="1949400" cy="9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7432560" y="3832200"/>
          <a:ext cx="973080" cy="81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32560" y="3832200"/>
                    <a:ext cx="97308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Resistanc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istance (R) of a substance depend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gth (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sectional area 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ivity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its ar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s of resistance are V/A, called ohms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 V/A = 1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rinsic physical property, resistivity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depends on temperature.  Over a limited temperature range the temperature dependence is given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nductors: resistivity increases with T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emi-conductors: resistivity decreases with T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259240" y="1405080"/>
          <a:ext cx="1787760" cy="113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9240" y="1405080"/>
                    <a:ext cx="1787760" cy="113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2187720" y="4332240"/>
          <a:ext cx="3984480" cy="63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87720" y="4332240"/>
                    <a:ext cx="398448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able of Selected Resistivities (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@ 20</a:t>
            </a:r>
            <a:r>
              <a:rPr b="0" lang="en-US" sz="2400" spc="-1" strike="noStrike" baseline="30000">
                <a:solidFill>
                  <a:srgbClr val="a50021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52280" y="1036800"/>
          <a:ext cx="8543880" cy="4790880"/>
        </p:xfrm>
        <a:graphic>
          <a:graphicData uri="http://schemas.openxmlformats.org/drawingml/2006/table">
            <a:tbl>
              <a:tblPr/>
              <a:tblGrid>
                <a:gridCol w="1344600"/>
                <a:gridCol w="1433520"/>
                <a:gridCol w="1236960"/>
                <a:gridCol w="2016000"/>
                <a:gridCol w="1425600"/>
                <a:gridCol w="10872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Mate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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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o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Mate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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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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o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il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.59x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.00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Carbon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graphi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-60x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.0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Copp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.68x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.00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Germanium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.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lumin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.65x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.004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ilicon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1-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.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ungs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.6x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.00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Glas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Ir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.71x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.006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Quartz  (fused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7.5x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latin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0.6x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.0039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Hard rubb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angan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8.2x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.000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L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2x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00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Mercu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98x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.0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117360" y="6299280"/>
            <a:ext cx="768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able reproduced from: http://hyperphysics.phy-astr.gsu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375840"/>
            <a:ext cx="91440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Relation between Current Density &amp; Resistanc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istivity of a conducting material, reflects the ability of the material to resist current flow and thus limit current density, for a given potential differ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V/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the potential difference per unit leng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mi-Obvious Consequ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teady state current flow, as the current density increases and surface area decreas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=constant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V/L must increas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→ V will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→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R must in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612800" y="2454120"/>
          <a:ext cx="5694480" cy="9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2800" y="2454120"/>
                    <a:ext cx="5694480" cy="9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8-04-02T20:43:05Z</dcterms:modified>
  <cp:revision>64</cp:revision>
  <dc:subject/>
  <dc:title>Phy 211: General Physics I</dc:title>
</cp:coreProperties>
</file>