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83C-D3C5-45F2-836F-A5E12A57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189-7A3C-482F-99B2-1657E8EC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90E-8C0B-40FD-8E20-30CE7B8F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A6D-1F78-46A6-B925-E1F1F2BC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B5D-C60F-4554-9A45-E3258B05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7F2-5FDC-4CE4-BF18-57E52CF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65D-8594-41C1-A029-EA36D093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DEE-EA9C-483F-B49E-AC659D26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191-B857-4095-885A-F8DDCE2C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ABB-E70C-4BC8-BA97-3C76B21D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4C4-35C8-4002-82B3-29DC66BC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AF4-0734-49BB-B4EF-330AC25B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92C-09EB-4678-8D64-5E2C69776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3: General Physics I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5: Capac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2920" y="2373480"/>
            <a:ext cx="555768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acuum or air-filled capacitor: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~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ther materials: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allel plate capac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ylindrical capac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pherical capaci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apacitors &amp; Dielectric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400" y="842760"/>
            <a:ext cx="903924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e charge capacity of a capacitor depends on the material (or dielectric) or lack thereof between the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for any type of capacitor, the constant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replaced by an effective permittivity constant,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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19320" y="3684600"/>
          <a:ext cx="22129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9320" y="3684600"/>
                    <a:ext cx="22129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25640" y="4853160"/>
          <a:ext cx="300852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5640" y="4853160"/>
                    <a:ext cx="300852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900520" y="6006960"/>
          <a:ext cx="3882960" cy="87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0520" y="6006960"/>
                    <a:ext cx="3882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5951520" y="2549520"/>
            <a:ext cx="30211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806400"/>
            <a:ext cx="8929800" cy="462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charged conducting surfaces, with equal quantity but opposite sign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between the charged faces produces an electric field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potentia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 between the faces is related to the electric field between them (and vice ver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 at each face is proportional to the poten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rtionality constant (C) between q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is the capacitance 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of capacitance are C/V (called farads or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33680" y="2516040"/>
          <a:ext cx="3595680" cy="10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3680" y="2516040"/>
                    <a:ext cx="3595680" cy="10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889280" y="3797280"/>
          <a:ext cx="5227560" cy="8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9280" y="3797280"/>
                    <a:ext cx="522756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084400" y="4886280"/>
          <a:ext cx="580392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4400" y="4886280"/>
                    <a:ext cx="58039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pacitors as Differenti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potential difference across a capacitor, C, increases by a small amount, dV, a corresponding amount of charge, dq, accumulates on each fa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whe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V and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 V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V occurs over a small time increment, dt, the rate of charge into/out of the capacitor can be determined by dividing through by 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ntity, dq/dt, is referred to as the electric current and the change in charge is the area under the dq/dt vs t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30480" y="2193840"/>
          <a:ext cx="588636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2193840"/>
                    <a:ext cx="58863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92400" y="3841920"/>
          <a:ext cx="5486400" cy="84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3841920"/>
                    <a:ext cx="548640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08120" y="5472000"/>
          <a:ext cx="7710480" cy="97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120" y="5472000"/>
                    <a:ext cx="77104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arallel Plate 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880" y="1100160"/>
            <a:ext cx="648324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charged 2 parallel plates of equal area, evenly separated a distance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 related to the accumulated charge q and potential difference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ic field E between the plat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995720" y="2460240"/>
            <a:ext cx="3994200" cy="1025640"/>
          </a:xfrm>
          <a:prstGeom prst="cube">
            <a:avLst>
              <a:gd name="adj" fmla="val 91967"/>
            </a:avLst>
          </a:prstGeom>
          <a:solidFill>
            <a:srgbClr val="ffccff">
              <a:alpha val="48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6480720" y="2507040"/>
            <a:ext cx="3994200" cy="1023840"/>
          </a:xfrm>
          <a:prstGeom prst="cube">
            <a:avLst>
              <a:gd name="adj" fmla="val 91967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164440" y="38656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54920" y="124920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4800" y="4951440"/>
            <a:ext cx="1187280" cy="8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35920" y="493884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5800" y="2698920"/>
          <a:ext cx="5062680" cy="108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2698920"/>
                    <a:ext cx="506268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90520" y="3913200"/>
          <a:ext cx="6934320" cy="192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520" y="3913200"/>
                    <a:ext cx="6934320" cy="19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457880" y="5832360"/>
          <a:ext cx="2536560" cy="88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57880" y="5832360"/>
                    <a:ext cx="25365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ylindrical 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89388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concentric charged cylindrical plates of length L, with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 field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6760" y="2001960"/>
          <a:ext cx="46926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2001960"/>
                    <a:ext cx="4692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77840" y="2922480"/>
            <a:ext cx="48877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difference between the plat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81080" y="3693960"/>
          <a:ext cx="491148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693960"/>
                    <a:ext cx="49114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5253120" y="1619280"/>
            <a:ext cx="3890880" cy="3462480"/>
            <a:chOff x="5253120" y="1619280"/>
            <a:chExt cx="3890880" cy="3462480"/>
          </a:xfrm>
        </p:grpSpPr>
        <p:grpSp>
          <p:nvGrpSpPr>
            <p:cNvPr id="85" name=""/>
            <p:cNvGrpSpPr/>
            <p:nvPr/>
          </p:nvGrpSpPr>
          <p:grpSpPr>
            <a:xfrm>
              <a:off x="5253120" y="1619280"/>
              <a:ext cx="3890880" cy="2931840"/>
              <a:chOff x="5253120" y="1619280"/>
              <a:chExt cx="3890880" cy="2931840"/>
            </a:xfrm>
          </p:grpSpPr>
          <p:sp>
            <p:nvSpPr>
              <p:cNvPr id="86" name=""/>
              <p:cNvSpPr/>
              <p:nvPr/>
            </p:nvSpPr>
            <p:spPr>
              <a:xfrm rot="16200000">
                <a:off x="5732640" y="1139760"/>
                <a:ext cx="2931840" cy="3890880"/>
              </a:xfrm>
              <a:prstGeom prst="can">
                <a:avLst>
                  <a:gd name="adj" fmla="val 30402"/>
                </a:avLst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28000" y="1712520"/>
                <a:ext cx="1026720" cy="2716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798520" y="2607840"/>
                <a:ext cx="508680" cy="895320"/>
              </a:xfrm>
              <a:prstGeom prst="rect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25640" y="2622600"/>
                <a:ext cx="545400" cy="876240"/>
              </a:xfrm>
              <a:prstGeom prst="ellipse">
                <a:avLst/>
              </a:prstGeom>
              <a:solidFill>
                <a:srgbClr val="ff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10760" y="2622600"/>
                <a:ext cx="49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04640" y="3504600"/>
                <a:ext cx="49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6374880" y="23058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19760" y="3429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762880" y="1699920"/>
              <a:ext cx="29160" cy="134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9200" y="2144520"/>
              <a:ext cx="537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5594400" y="3011760"/>
              <a:ext cx="1944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42280" y="3024000"/>
              <a:ext cx="537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5792040" y="4685760"/>
              <a:ext cx="2871720" cy="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01280" y="4682880"/>
              <a:ext cx="53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0" name=""/>
          <p:cNvGraphicFramePr/>
          <p:nvPr/>
        </p:nvGraphicFramePr>
        <p:xfrm>
          <a:off x="3562200" y="5672160"/>
          <a:ext cx="2718000" cy="11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2200" y="5672160"/>
                    <a:ext cx="2718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herical Capaci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893880"/>
            <a:ext cx="883944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concentric charged cylindrical plates of length L, with radi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her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&lt;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 field between the pl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85920" y="2001960"/>
          <a:ext cx="26528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001960"/>
                    <a:ext cx="2652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77840" y="2922480"/>
            <a:ext cx="57402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tial difference between the plat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acita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92400" y="3427560"/>
          <a:ext cx="504648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2400" y="3427560"/>
                    <a:ext cx="504648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035160" y="5621400"/>
          <a:ext cx="542628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5160" y="5621400"/>
                    <a:ext cx="542628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6027840" y="1887480"/>
            <a:ext cx="2837880" cy="2684160"/>
            <a:chOff x="6027840" y="1887480"/>
            <a:chExt cx="2837880" cy="2684160"/>
          </a:xfrm>
        </p:grpSpPr>
        <p:sp>
          <p:nvSpPr>
            <p:cNvPr id="112" name=""/>
            <p:cNvSpPr/>
            <p:nvPr/>
          </p:nvSpPr>
          <p:spPr>
            <a:xfrm>
              <a:off x="6804720" y="2686320"/>
              <a:ext cx="1223640" cy="1161000"/>
            </a:xfrm>
            <a:prstGeom prst="ellipse">
              <a:avLst/>
            </a:prstGeom>
            <a:solidFill>
              <a:srgbClr val="ff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35040" y="1887480"/>
              <a:ext cx="8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7280" y="3024000"/>
              <a:ext cx="85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3720" y="2289600"/>
              <a:ext cx="615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055280" y="3277800"/>
              <a:ext cx="366840" cy="47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27840" y="1908360"/>
              <a:ext cx="2837880" cy="266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7371360" y="1937880"/>
              <a:ext cx="52560" cy="134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73440" y="3293640"/>
              <a:ext cx="615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Stored in a Capacito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1640" y="933480"/>
            <a:ext cx="863100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work to charge a capacitor, that work is stored as electrical potenti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potential energy stored in a capacitor can be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density, energy per unit volume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olume between the 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allel plate capacitor with plate area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paration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38040" y="1550880"/>
          <a:ext cx="8028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550880"/>
                    <a:ext cx="8028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278160" y="3003480"/>
          <a:ext cx="1763640" cy="5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8160" y="3003480"/>
                    <a:ext cx="176364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17880" y="3927600"/>
          <a:ext cx="266688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7880" y="3927600"/>
                    <a:ext cx="2666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577960" y="5649840"/>
          <a:ext cx="4394520" cy="1055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7960" y="5649840"/>
                    <a:ext cx="4394520" cy="10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pacitors in Parall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or more capacitors are connected in parallel, attached so that they share the same potential difference across their plates, the combined (equivalent) capacitance is addi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ach capacitor has certain amount of q at a given V and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9800" y="4735440"/>
          <a:ext cx="822960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735440"/>
                    <a:ext cx="822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41680" y="2119320"/>
          <a:ext cx="417816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1680" y="2119320"/>
                    <a:ext cx="41781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166680" y="2819520"/>
            <a:ext cx="8271000" cy="1096560"/>
            <a:chOff x="166680" y="2819520"/>
            <a:chExt cx="8271000" cy="1096560"/>
          </a:xfrm>
        </p:grpSpPr>
        <p:grpSp>
          <p:nvGrpSpPr>
            <p:cNvPr id="137" name=""/>
            <p:cNvGrpSpPr/>
            <p:nvPr/>
          </p:nvGrpSpPr>
          <p:grpSpPr>
            <a:xfrm>
              <a:off x="166680" y="2828880"/>
              <a:ext cx="4692600" cy="1087200"/>
              <a:chOff x="166680" y="2828880"/>
              <a:chExt cx="4692600" cy="10872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457200" y="2922480"/>
                <a:ext cx="686880" cy="915840"/>
                <a:chOff x="457200" y="2922480"/>
                <a:chExt cx="686880" cy="915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61880" y="3306600"/>
                  <a:ext cx="682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57200" y="345888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90200" y="347004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85520" y="292248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1306440" y="2923920"/>
                <a:ext cx="686880" cy="915840"/>
                <a:chOff x="1306440" y="2923920"/>
                <a:chExt cx="686880" cy="9158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311120" y="3308040"/>
                  <a:ext cx="682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306440" y="346032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639440" y="347148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34760" y="292392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971800" y="2927160"/>
                <a:ext cx="686880" cy="915840"/>
                <a:chOff x="2971800" y="2927160"/>
                <a:chExt cx="686880" cy="915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976480" y="3311280"/>
                  <a:ext cx="682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71800" y="346356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04800" y="347472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300120" y="292716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777600" y="3838320"/>
                <a:ext cx="342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2920" y="2919240"/>
                <a:ext cx="342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27320" y="3182760"/>
                <a:ext cx="83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6680" y="3404880"/>
                <a:ext cx="587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62080" y="3414600"/>
                <a:ext cx="587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01880" y="3433680"/>
                <a:ext cx="587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298584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01920" y="2828880"/>
                <a:ext cx="150840" cy="163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11640" y="3752640"/>
                <a:ext cx="150840" cy="163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394320" y="2819520"/>
              <a:ext cx="2043360" cy="1087560"/>
              <a:chOff x="6394320" y="2819520"/>
              <a:chExt cx="2043360" cy="1087560"/>
            </a:xfrm>
          </p:grpSpPr>
          <p:sp>
            <p:nvSpPr>
              <p:cNvPr id="163" name=""/>
              <p:cNvSpPr/>
              <p:nvPr/>
            </p:nvSpPr>
            <p:spPr>
              <a:xfrm>
                <a:off x="7605720" y="3159360"/>
                <a:ext cx="83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6564240" y="2917800"/>
                <a:ext cx="687600" cy="915840"/>
                <a:chOff x="6564240" y="2917800"/>
                <a:chExt cx="687600" cy="915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569280" y="3301920"/>
                  <a:ext cx="682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564240" y="3454200"/>
                  <a:ext cx="68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897600" y="346536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892920" y="2917800"/>
                  <a:ext cx="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6889680" y="290988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94320" y="3424320"/>
                <a:ext cx="79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e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80320" y="2819520"/>
                <a:ext cx="150840" cy="1634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99400" y="3834000"/>
                <a:ext cx="88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790040" y="3743280"/>
                <a:ext cx="150480" cy="163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4954680" y="3348000"/>
              <a:ext cx="105084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2127240" y="5497560"/>
          <a:ext cx="41274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7240" y="5497560"/>
                    <a:ext cx="4127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apacitors in Seri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or more capacitors are connected in series, attached end to end, the combined (equivalent) capacitanc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ific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total V across all of the capacitors is the sum of the potential across each individual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3376440"/>
            <a:ext cx="5576760" cy="3352680"/>
            <a:chOff x="0" y="3376440"/>
            <a:chExt cx="5576760" cy="3352680"/>
          </a:xfrm>
        </p:grpSpPr>
        <p:grpSp>
          <p:nvGrpSpPr>
            <p:cNvPr id="180" name=""/>
            <p:cNvGrpSpPr/>
            <p:nvPr/>
          </p:nvGrpSpPr>
          <p:grpSpPr>
            <a:xfrm>
              <a:off x="290520" y="3455640"/>
              <a:ext cx="686880" cy="915840"/>
              <a:chOff x="290520" y="3455640"/>
              <a:chExt cx="686880" cy="91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295200" y="3839760"/>
                <a:ext cx="682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0520" y="399204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3520" y="40032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8840" y="345564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91960" y="4356000"/>
              <a:ext cx="687600" cy="915840"/>
              <a:chOff x="291960" y="4356000"/>
              <a:chExt cx="687600" cy="915840"/>
            </a:xfrm>
          </p:grpSpPr>
          <p:sp>
            <p:nvSpPr>
              <p:cNvPr id="186" name=""/>
              <p:cNvSpPr/>
              <p:nvPr/>
            </p:nvSpPr>
            <p:spPr>
              <a:xfrm>
                <a:off x="297000" y="474012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1960" y="4892400"/>
                <a:ext cx="682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5320" y="490356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20640" y="43560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93760" y="5725800"/>
              <a:ext cx="686880" cy="915840"/>
              <a:chOff x="293760" y="5725800"/>
              <a:chExt cx="686880" cy="915840"/>
            </a:xfrm>
          </p:grpSpPr>
          <p:sp>
            <p:nvSpPr>
              <p:cNvPr id="191" name=""/>
              <p:cNvSpPr/>
              <p:nvPr/>
            </p:nvSpPr>
            <p:spPr>
              <a:xfrm>
                <a:off x="298440" y="6109920"/>
                <a:ext cx="682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3760" y="626220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6760" y="627336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2080" y="57258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608120" y="4806720"/>
              <a:ext cx="83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93840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60" y="4857480"/>
              <a:ext cx="587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60" y="6254640"/>
              <a:ext cx="58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450000" y="52142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70120" y="337644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93880" y="656568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45160" y="47574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703680" y="4516200"/>
              <a:ext cx="686880" cy="915840"/>
              <a:chOff x="3703680" y="4516200"/>
              <a:chExt cx="686880" cy="915840"/>
            </a:xfrm>
          </p:grpSpPr>
          <p:sp>
            <p:nvSpPr>
              <p:cNvPr id="204" name=""/>
              <p:cNvSpPr/>
              <p:nvPr/>
            </p:nvSpPr>
            <p:spPr>
              <a:xfrm>
                <a:off x="3708360" y="4900320"/>
                <a:ext cx="682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03680" y="5052600"/>
                <a:ext cx="682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36680" y="506376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32000" y="4516200"/>
                <a:ext cx="0" cy="36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4029120" y="4508280"/>
              <a:ext cx="8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33760" y="5022720"/>
              <a:ext cx="792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e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19760" y="441792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38480" y="5432040"/>
              <a:ext cx="8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9120" y="5341680"/>
              <a:ext cx="150840" cy="163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70200" y="5327280"/>
              <a:ext cx="0" cy="1146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6600" y="3452400"/>
              <a:ext cx="116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6646680"/>
              <a:ext cx="116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374920" y="4989240"/>
              <a:ext cx="105084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44640" y="3597120"/>
              <a:ext cx="0" cy="1038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"/>
          <p:cNvGraphicFramePr/>
          <p:nvPr/>
        </p:nvGraphicFramePr>
        <p:xfrm>
          <a:off x="3056040" y="1820880"/>
          <a:ext cx="400212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1820880"/>
                    <a:ext cx="40021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214720" y="3525840"/>
          <a:ext cx="497664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3525840"/>
                    <a:ext cx="49766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2182680" y="5656320"/>
          <a:ext cx="6704280" cy="90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82680" y="5656320"/>
                    <a:ext cx="67042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4-02T20:36:18Z</dcterms:modified>
  <cp:revision>59</cp:revision>
  <dc:subject/>
  <dc:title>Phy 211: General Physics I</dc:title>
</cp:coreProperties>
</file>