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9E2-CB24-4BF3-85B6-F4DA80EE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B25-C9ED-4535-AEE9-AE8E8C2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00D-9A6D-4AF7-A1B0-CD8D5C8B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AE5-C567-4654-B776-7ABAB713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7A0-99D0-4EF6-BFB7-42E1B312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078-D715-4440-8DA3-ABBB3B2A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A2E-C722-4789-9A05-9A2E93D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647-3BDD-499B-A80D-6A5D6CF1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226-603B-4394-84A4-5A1D362B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2A8-7F25-457F-98A3-19927AD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33A-0EB7-4189-9EEC-607B282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604-6847-49E5-9747-8485EAD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E50-6E0C-4071-922F-DC4F5920F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5: Capac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2920" y="2373480"/>
            <a:ext cx="55576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acuum or air-filled capacitor: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~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ther materials: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allel plate capac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ylindrical capac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herical capac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apacitors &amp; Dielectric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400" y="842760"/>
            <a:ext cx="903924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charge capacity of a capacitor depends on the material (or dielectric) or lack thereof between the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for any type of capacitor, the constan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placed by an effective permittivity constant,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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19320" y="3684600"/>
          <a:ext cx="22129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9320" y="3684600"/>
                    <a:ext cx="22129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25640" y="4853160"/>
          <a:ext cx="300852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5640" y="4853160"/>
                    <a:ext cx="30085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900520" y="6006960"/>
          <a:ext cx="388296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0520" y="6006960"/>
                    <a:ext cx="3882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5951520" y="2549520"/>
            <a:ext cx="30211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806400"/>
            <a:ext cx="8929800" cy="46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charged conducting surfaces, with equal quantity but opposite sign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between the charged faces produces an electric field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 between the faces is related to the electric field between them (and vice ve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 at each face is proportional to the poten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rtionality constant (C) between q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is the capacitance 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of capacitance are C/V (called farads or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33680" y="2516040"/>
          <a:ext cx="3595680" cy="10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2516040"/>
                    <a:ext cx="3595680" cy="10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889280" y="3797280"/>
          <a:ext cx="522756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9280" y="3797280"/>
                    <a:ext cx="522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084400" y="4886280"/>
          <a:ext cx="580392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4400" y="4886280"/>
                    <a:ext cx="58039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pacitors as Differenti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potential difference across a capacitor, C, increases by a small amount, dV, a corresponding amount of charge, dq, accumulates on each fa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V and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V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V occurs over a small time increment, dt, the rate of charge into/out of the capacitor can be determined by dividing through by 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, dq/dt, is referred to as the electric current and the change in charge is the area under the dq/dt vs t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30480" y="2193840"/>
          <a:ext cx="588636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2193840"/>
                    <a:ext cx="58863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92400" y="3841920"/>
          <a:ext cx="548640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3841920"/>
                    <a:ext cx="5486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08120" y="5472000"/>
          <a:ext cx="771048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120" y="5472000"/>
                    <a:ext cx="77104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arallel Plate 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880" y="1100160"/>
            <a:ext cx="64832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charged 2 parallel plates of equal area, evenly separated a distance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 related to the accumulated charge q and potential difference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E between the plat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995720" y="2460240"/>
            <a:ext cx="3994200" cy="1025640"/>
          </a:xfrm>
          <a:prstGeom prst="cube">
            <a:avLst>
              <a:gd name="adj" fmla="val 91967"/>
            </a:avLst>
          </a:prstGeom>
          <a:solidFill>
            <a:srgbClr val="ffccff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6480720" y="2507040"/>
            <a:ext cx="3994200" cy="1023840"/>
          </a:xfrm>
          <a:prstGeom prst="cube">
            <a:avLst>
              <a:gd name="adj" fmla="val 919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64440" y="38656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54920" y="12492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4800" y="4951440"/>
            <a:ext cx="1187280" cy="8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35920" y="49388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5800" y="2698920"/>
          <a:ext cx="5062680" cy="108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698920"/>
                    <a:ext cx="506268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0520" y="3913200"/>
          <a:ext cx="6934320" cy="192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520" y="3913200"/>
                    <a:ext cx="693432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457880" y="5832360"/>
          <a:ext cx="2536560" cy="88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5832360"/>
                    <a:ext cx="25365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ylindrical 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89388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concentric charged cylindrical plates of length L, with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 field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6760" y="2001960"/>
          <a:ext cx="46926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001960"/>
                    <a:ext cx="4692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77840" y="2922480"/>
            <a:ext cx="48877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difference between the plat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81080" y="3693960"/>
          <a:ext cx="491148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693960"/>
                    <a:ext cx="49114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5253120" y="1619280"/>
            <a:ext cx="3890880" cy="3462480"/>
            <a:chOff x="5253120" y="1619280"/>
            <a:chExt cx="3890880" cy="3462480"/>
          </a:xfrm>
        </p:grpSpPr>
        <p:grpSp>
          <p:nvGrpSpPr>
            <p:cNvPr id="85" name=""/>
            <p:cNvGrpSpPr/>
            <p:nvPr/>
          </p:nvGrpSpPr>
          <p:grpSpPr>
            <a:xfrm>
              <a:off x="5253120" y="1619280"/>
              <a:ext cx="3890880" cy="2931840"/>
              <a:chOff x="5253120" y="1619280"/>
              <a:chExt cx="3890880" cy="2931840"/>
            </a:xfrm>
          </p:grpSpPr>
          <p:sp>
            <p:nvSpPr>
              <p:cNvPr id="86" name=""/>
              <p:cNvSpPr/>
              <p:nvPr/>
            </p:nvSpPr>
            <p:spPr>
              <a:xfrm rot="16200000">
                <a:off x="5732640" y="1139760"/>
                <a:ext cx="2931840" cy="3890880"/>
              </a:xfrm>
              <a:prstGeom prst="can">
                <a:avLst>
                  <a:gd name="adj" fmla="val 30402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28000" y="1712520"/>
                <a:ext cx="1026720" cy="2716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798520" y="2607840"/>
                <a:ext cx="508680" cy="89532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25640" y="2622600"/>
                <a:ext cx="545400" cy="876240"/>
              </a:xfrm>
              <a:prstGeom prst="ellipse">
                <a:avLst/>
              </a:prstGeom>
              <a:solidFill>
                <a:srgbClr val="ff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10760" y="2622600"/>
                <a:ext cx="49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04640" y="3504600"/>
                <a:ext cx="49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6374880" y="2305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19760" y="3429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762880" y="1699920"/>
              <a:ext cx="29160" cy="134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9200" y="2144520"/>
              <a:ext cx="537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594400" y="3011760"/>
              <a:ext cx="1944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42280" y="3024000"/>
              <a:ext cx="537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792040" y="4685760"/>
              <a:ext cx="2871720" cy="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01280" y="4682880"/>
              <a:ext cx="5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3562200" y="5672160"/>
          <a:ext cx="271800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2200" y="5672160"/>
                    <a:ext cx="2718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89388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concentric charged cylindrical plates of length L, with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 field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85920" y="2001960"/>
          <a:ext cx="265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001960"/>
                    <a:ext cx="265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77840" y="2922480"/>
            <a:ext cx="57402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difference between the plat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2400" y="3427560"/>
          <a:ext cx="504648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3427560"/>
                    <a:ext cx="50464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35160" y="5621400"/>
          <a:ext cx="542628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5160" y="5621400"/>
                    <a:ext cx="54262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6027840" y="1887480"/>
            <a:ext cx="2837880" cy="2684160"/>
            <a:chOff x="6027840" y="1887480"/>
            <a:chExt cx="2837880" cy="2684160"/>
          </a:xfrm>
        </p:grpSpPr>
        <p:sp>
          <p:nvSpPr>
            <p:cNvPr id="112" name=""/>
            <p:cNvSpPr/>
            <p:nvPr/>
          </p:nvSpPr>
          <p:spPr>
            <a:xfrm>
              <a:off x="6804720" y="2686320"/>
              <a:ext cx="1223640" cy="1161000"/>
            </a:xfrm>
            <a:prstGeom prst="ellipse">
              <a:avLst/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5040" y="1887480"/>
              <a:ext cx="8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7280" y="3024000"/>
              <a:ext cx="8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3720" y="2289600"/>
              <a:ext cx="615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55280" y="3277800"/>
              <a:ext cx="366840" cy="4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7840" y="1908360"/>
              <a:ext cx="2837880" cy="266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7371360" y="1937880"/>
              <a:ext cx="52560" cy="13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3440" y="3293640"/>
              <a:ext cx="615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Stored in a Capacito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1640" y="933480"/>
            <a:ext cx="86310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work to charge a capacitor, that work is stored as electrical potenti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potential energy stored in a capacitor can be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density, energy per unit volume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olume between the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allel plate capacitor with plate area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paration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38040" y="1550880"/>
          <a:ext cx="8028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550880"/>
                    <a:ext cx="8028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278160" y="3003480"/>
          <a:ext cx="176364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8160" y="3003480"/>
                    <a:ext cx="17636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7880" y="3927600"/>
          <a:ext cx="26668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7880" y="3927600"/>
                    <a:ext cx="2666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577960" y="5649840"/>
          <a:ext cx="4394520" cy="105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7960" y="5649840"/>
                    <a:ext cx="43945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pacitors in Parall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or more capacitors are connected in parallel, attached so that they share the same potential difference across their plates, the combined (equivalent) capacitance is addi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ach capacitor has certain amount of q at a given V and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9800" y="4735440"/>
          <a:ext cx="822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735440"/>
                    <a:ext cx="822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41680" y="2119320"/>
          <a:ext cx="417816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2119320"/>
                    <a:ext cx="4178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166680" y="2819520"/>
            <a:ext cx="8271000" cy="1096560"/>
            <a:chOff x="166680" y="2819520"/>
            <a:chExt cx="8271000" cy="1096560"/>
          </a:xfrm>
        </p:grpSpPr>
        <p:grpSp>
          <p:nvGrpSpPr>
            <p:cNvPr id="137" name=""/>
            <p:cNvGrpSpPr/>
            <p:nvPr/>
          </p:nvGrpSpPr>
          <p:grpSpPr>
            <a:xfrm>
              <a:off x="166680" y="2828880"/>
              <a:ext cx="4692600" cy="1087200"/>
              <a:chOff x="166680" y="2828880"/>
              <a:chExt cx="4692600" cy="10872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57200" y="2922480"/>
                <a:ext cx="686880" cy="915840"/>
                <a:chOff x="457200" y="2922480"/>
                <a:chExt cx="686880" cy="915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61880" y="3306600"/>
                  <a:ext cx="682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57200" y="345888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90200" y="347004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85520" y="292248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306440" y="2923920"/>
                <a:ext cx="686880" cy="915840"/>
                <a:chOff x="1306440" y="2923920"/>
                <a:chExt cx="686880" cy="915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311120" y="3308040"/>
                  <a:ext cx="682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06440" y="346032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639440" y="347148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34760" y="292392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971800" y="2927160"/>
                <a:ext cx="686880" cy="915840"/>
                <a:chOff x="2971800" y="2927160"/>
                <a:chExt cx="686880" cy="915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976480" y="3311280"/>
                  <a:ext cx="682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71800" y="346356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04800" y="347472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00120" y="292716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777600" y="3838320"/>
                <a:ext cx="342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2920" y="2919240"/>
                <a:ext cx="342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27320" y="3182760"/>
                <a:ext cx="83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6680" y="3404880"/>
                <a:ext cx="587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62080" y="3414600"/>
                <a:ext cx="587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01880" y="3433680"/>
                <a:ext cx="587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29858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01920" y="2828880"/>
                <a:ext cx="150840" cy="163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11640" y="3752640"/>
                <a:ext cx="150840" cy="163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394320" y="2819520"/>
              <a:ext cx="2043360" cy="1087560"/>
              <a:chOff x="6394320" y="2819520"/>
              <a:chExt cx="2043360" cy="1087560"/>
            </a:xfrm>
          </p:grpSpPr>
          <p:sp>
            <p:nvSpPr>
              <p:cNvPr id="163" name=""/>
              <p:cNvSpPr/>
              <p:nvPr/>
            </p:nvSpPr>
            <p:spPr>
              <a:xfrm>
                <a:off x="7605720" y="3159360"/>
                <a:ext cx="83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6564240" y="2917800"/>
                <a:ext cx="687600" cy="915840"/>
                <a:chOff x="6564240" y="2917800"/>
                <a:chExt cx="687600" cy="915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569280" y="330192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564240" y="3454200"/>
                  <a:ext cx="68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897600" y="346536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892920" y="291780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6889680" y="290988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94320" y="3424320"/>
                <a:ext cx="79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e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80320" y="2819520"/>
                <a:ext cx="150840" cy="163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99400" y="383400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90040" y="3743280"/>
                <a:ext cx="150480" cy="163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954680" y="3348000"/>
              <a:ext cx="105084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2127240" y="5497560"/>
          <a:ext cx="41274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7240" y="5497560"/>
                    <a:ext cx="4127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apacitors in Seri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or more capacitors are connected in series, attached end to end, the combined (equivalent) capacitan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otal V across all of the capacitors is the sum of the potential across each individual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3376440"/>
            <a:ext cx="5576760" cy="3352680"/>
            <a:chOff x="0" y="3376440"/>
            <a:chExt cx="5576760" cy="3352680"/>
          </a:xfrm>
        </p:grpSpPr>
        <p:grpSp>
          <p:nvGrpSpPr>
            <p:cNvPr id="180" name=""/>
            <p:cNvGrpSpPr/>
            <p:nvPr/>
          </p:nvGrpSpPr>
          <p:grpSpPr>
            <a:xfrm>
              <a:off x="290520" y="3455640"/>
              <a:ext cx="686880" cy="915840"/>
              <a:chOff x="290520" y="3455640"/>
              <a:chExt cx="686880" cy="91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295200" y="3839760"/>
                <a:ext cx="682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0520" y="399204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3520" y="40032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8840" y="345564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1960" y="4356000"/>
              <a:ext cx="687600" cy="915840"/>
              <a:chOff x="291960" y="4356000"/>
              <a:chExt cx="687600" cy="915840"/>
            </a:xfrm>
          </p:grpSpPr>
          <p:sp>
            <p:nvSpPr>
              <p:cNvPr id="186" name=""/>
              <p:cNvSpPr/>
              <p:nvPr/>
            </p:nvSpPr>
            <p:spPr>
              <a:xfrm>
                <a:off x="297000" y="474012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1960" y="4892400"/>
                <a:ext cx="682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5320" y="490356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0640" y="43560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93760" y="5725800"/>
              <a:ext cx="686880" cy="915840"/>
              <a:chOff x="293760" y="5725800"/>
              <a:chExt cx="686880" cy="9158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8440" y="6109920"/>
                <a:ext cx="682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3760" y="626220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6760" y="627336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2080" y="57258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608120" y="4806720"/>
              <a:ext cx="8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93840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60" y="4857480"/>
              <a:ext cx="58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60" y="625464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450000" y="5214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70120" y="337644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3880" y="656568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45160" y="47574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703680" y="4516200"/>
              <a:ext cx="686880" cy="915840"/>
              <a:chOff x="3703680" y="4516200"/>
              <a:chExt cx="686880" cy="915840"/>
            </a:xfrm>
          </p:grpSpPr>
          <p:sp>
            <p:nvSpPr>
              <p:cNvPr id="204" name=""/>
              <p:cNvSpPr/>
              <p:nvPr/>
            </p:nvSpPr>
            <p:spPr>
              <a:xfrm>
                <a:off x="3708360" y="4900320"/>
                <a:ext cx="682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03680" y="505260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36680" y="506376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32000" y="45162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029120" y="4508280"/>
              <a:ext cx="8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33760" y="5022720"/>
              <a:ext cx="79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19760" y="441792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38480" y="5432040"/>
              <a:ext cx="8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9120" y="534168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70200" y="5327280"/>
              <a:ext cx="0" cy="1146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6600" y="3452400"/>
              <a:ext cx="116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6646680"/>
              <a:ext cx="116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74920" y="4989240"/>
              <a:ext cx="105084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44640" y="3597120"/>
              <a:ext cx="0" cy="1038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3056040" y="1820880"/>
          <a:ext cx="40021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1820880"/>
                    <a:ext cx="4002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214720" y="3525840"/>
          <a:ext cx="49766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3525840"/>
                    <a:ext cx="4976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182680" y="5656320"/>
          <a:ext cx="670428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2680" y="5656320"/>
                    <a:ext cx="670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2T20:36:18Z</dcterms:modified>
  <cp:revision>59</cp:revision>
  <dc:subject/>
  <dc:title>Phy 211: General Physics I</dc:title>
</cp:coreProperties>
</file>