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png" ContentType="image/png"/>
  <Override PartName="/ppt/media/image15.wmf" ContentType="image/x-wmf"/>
  <Override PartName="/ppt/media/image14.wmf" ContentType="image/x-wmf"/>
  <Override PartName="/ppt/media/image2.wmf" ContentType="image/x-wmf"/>
  <Override PartName="/ppt/media/image2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95E1-1B35-4E1D-B947-987A7C675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52280" y="36396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F61E-A0F3-41C7-934A-9E4A229B7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180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D8BF-6FDC-4D9E-8D51-E89A2E9F7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4100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3008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5228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4100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3008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3EA1-26D6-4816-8E91-02437FF74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1958-68AA-4B95-8716-075EF2F9D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37ED-5786-4E31-A09E-CFE708F90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D69E-A81A-4C51-BC4D-1E0F144D4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12F8-842D-4D15-BCB1-D1242B645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375840"/>
            <a:ext cx="8229600" cy="270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2794-365E-4E5A-B93D-8F3953E76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A490-DB64-4606-807F-C4D610AE3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180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F4DE-F3D6-441E-BAD0-36E5F06DC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5344-FC49-41D9-88DD-D104FDDA8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B3CD5-F501-433A-B36C-E5705DADDB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14560" cy="37152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114560" y="0"/>
            <a:ext cx="8029440" cy="36360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wmf"/><Relationship Id="rId1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5.wmf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8.wmf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wmf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Phy 213: General Physics III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37720" y="3886200"/>
            <a:ext cx="7543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24: Electric Potent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cture No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72520"/>
            <a:ext cx="7772400" cy="6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Electric Potential Energy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47240" y="914040"/>
            <a:ext cx="8839080" cy="550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522720" indent="-522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charge is in an electric field, the electric force exerted upon it, as it moves from one point (A) to another point (B) can do work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27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otal work performed to move a charge from point A to B in an electric field is th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ce the electric force is a conservative force, the work performed is equal to the difference in electric potential energy between points A &amp; B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: 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to 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s 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to 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the energy associated with the position of an object subject to an electric fo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units for 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re joules (J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electric potential energy a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∞ is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0 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2806560" y="1658880"/>
          <a:ext cx="3054600" cy="53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06560" y="1658880"/>
                    <a:ext cx="3054600" cy="53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" name=""/>
          <p:cNvGraphicFramePr/>
          <p:nvPr/>
        </p:nvGraphicFramePr>
        <p:xfrm>
          <a:off x="2193840" y="2921040"/>
          <a:ext cx="4727520" cy="63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93840" y="2921040"/>
                    <a:ext cx="4727520" cy="63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011400" y="4245120"/>
          <a:ext cx="1835280" cy="439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11400" y="4245120"/>
                    <a:ext cx="1835280" cy="43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Electric Potential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4160" y="882360"/>
            <a:ext cx="8906040" cy="550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lectric potential energy for a charge at a point in space can be expressed in per unit charge, this is the electric potential at this loc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is manner, V associated with a position can be expressed without concern for the specific charge pres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I units are joules/coulomb (J/C), called the volt (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work performed on an electric charge is related to the change in electric potential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) and its charge (q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ng W in terms of V we can combine them to obtain a relation between E and 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3722760" y="1425600"/>
          <a:ext cx="1150920" cy="80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22760" y="1425600"/>
                    <a:ext cx="1150920" cy="80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638360" y="3819600"/>
          <a:ext cx="1901880" cy="450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38360" y="3819600"/>
                    <a:ext cx="1901880" cy="45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5491080" y="3654360"/>
          <a:ext cx="1722600" cy="835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91080" y="3654360"/>
                    <a:ext cx="172260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5114880" y="5299200"/>
          <a:ext cx="1397160" cy="833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114880" y="5299200"/>
                    <a:ext cx="1397160" cy="83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372960" y="5288040"/>
          <a:ext cx="3691080" cy="869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72960" y="5288040"/>
                    <a:ext cx="3691080" cy="86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Potential due to a Point Charge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8520" y="103644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 a point charge, 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lectric field is radial from q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lectric potential a distance r from q 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66"/>
                </a:solidFill>
                <a:latin typeface="Arial"/>
              </a:rPr>
              <a:t>This relationship is extremely useful for evaluating more complex charge geometrie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501920" y="4792680"/>
          <a:ext cx="5287680" cy="91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01920" y="4792680"/>
                    <a:ext cx="5287680" cy="91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" name=""/>
          <p:cNvGraphicFramePr/>
          <p:nvPr/>
        </p:nvGraphicFramePr>
        <p:xfrm>
          <a:off x="5878440" y="3240000"/>
          <a:ext cx="2116080" cy="97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78440" y="3240000"/>
                    <a:ext cx="2116080" cy="9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1" name=""/>
          <p:cNvGrpSpPr/>
          <p:nvPr/>
        </p:nvGrpSpPr>
        <p:grpSpPr>
          <a:xfrm>
            <a:off x="3819600" y="993600"/>
            <a:ext cx="2979360" cy="2385720"/>
            <a:chOff x="3819600" y="993600"/>
            <a:chExt cx="2979360" cy="2385720"/>
          </a:xfrm>
        </p:grpSpPr>
        <p:sp>
          <p:nvSpPr>
            <p:cNvPr id="72" name=""/>
            <p:cNvSpPr/>
            <p:nvPr/>
          </p:nvSpPr>
          <p:spPr>
            <a:xfrm>
              <a:off x="5032440" y="2098080"/>
              <a:ext cx="209520" cy="176760"/>
            </a:xfrm>
            <a:prstGeom prst="ellipse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819600" y="993600"/>
              <a:ext cx="2612160" cy="2385720"/>
            </a:xfrm>
            <a:prstGeom prst="ellipse">
              <a:avLst/>
            </a:prstGeom>
            <a:noFill/>
            <a:ln cap="rnd" w="1908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127480" y="2184840"/>
              <a:ext cx="977400" cy="7894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607720" y="2286000"/>
              <a:ext cx="40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135040" y="1722960"/>
              <a:ext cx="40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167520" y="2840040"/>
              <a:ext cx="631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Potential due to a Charged Sphere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833040"/>
            <a:ext cx="9144000" cy="556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hollow conducting sphere with radius R &amp; charge, q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lectric field outside R i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lectric potential for points outside R i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lectric field inside the sphere i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lectric potential inside the sphere is constan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2730600" y="1290600"/>
            <a:ext cx="3371400" cy="1662120"/>
            <a:chOff x="2730600" y="1290600"/>
            <a:chExt cx="3371400" cy="1662120"/>
          </a:xfrm>
        </p:grpSpPr>
        <p:sp>
          <p:nvSpPr>
            <p:cNvPr id="81" name=""/>
            <p:cNvSpPr/>
            <p:nvPr/>
          </p:nvSpPr>
          <p:spPr>
            <a:xfrm>
              <a:off x="3270600" y="1802520"/>
              <a:ext cx="708840" cy="6490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730600" y="1290600"/>
              <a:ext cx="1798560" cy="1662120"/>
            </a:xfrm>
            <a:prstGeom prst="ellipse">
              <a:avLst/>
            </a:prstGeom>
            <a:noFill/>
            <a:ln cap="rnd" w="1908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630960" y="2132640"/>
              <a:ext cx="268560" cy="198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411360" y="2497680"/>
              <a:ext cx="31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747600" y="1550880"/>
              <a:ext cx="280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424760" y="1548000"/>
              <a:ext cx="16772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ff"/>
                  </a:solidFill>
                  <a:latin typeface="Arial"/>
                </a:rPr>
                <a:t>Gaussian sp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643200" y="1961640"/>
              <a:ext cx="280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3270600" y="2144160"/>
              <a:ext cx="354240" cy="7153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89" name=""/>
          <p:cNvGraphicFramePr/>
          <p:nvPr/>
        </p:nvGraphicFramePr>
        <p:xfrm>
          <a:off x="2654280" y="4076640"/>
          <a:ext cx="502452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54280" y="4076640"/>
                    <a:ext cx="502452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4262400" y="2851200"/>
          <a:ext cx="1698840" cy="849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62400" y="2851200"/>
                    <a:ext cx="1698840" cy="84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5032440" y="5081760"/>
          <a:ext cx="917640" cy="433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32440" y="5081760"/>
                    <a:ext cx="917640" cy="43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285840" y="5897520"/>
          <a:ext cx="8578800" cy="817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85840" y="5897520"/>
                    <a:ext cx="8578800" cy="81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Potential due to an Electric Dipole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6240" y="1036800"/>
            <a:ext cx="78836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 an electric dipole with charge separation d and dipole moment 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lectric field for a dipole i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otential decreases inversely with 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The image “http://hyperphysics.phy-astr.gsu.edu/hbase/electric/imgele/edip2.gif” cannot be displayed, because it contains errors."/>
          <p:cNvPicPr/>
          <p:nvPr/>
        </p:nvPicPr>
        <p:blipFill>
          <a:blip r:embed="rId1"/>
          <a:stretch/>
        </p:blipFill>
        <p:spPr>
          <a:xfrm>
            <a:off x="6026040" y="1359000"/>
            <a:ext cx="3117960" cy="3046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0" name=""/>
          <p:cNvGraphicFramePr/>
          <p:nvPr/>
        </p:nvGraphicFramePr>
        <p:xfrm>
          <a:off x="658800" y="2416320"/>
          <a:ext cx="2446200" cy="920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58800" y="2416320"/>
                    <a:ext cx="2446200" cy="92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635040" y="4132440"/>
          <a:ext cx="4456080" cy="1974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35040" y="4132440"/>
                    <a:ext cx="4456080" cy="197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Potential due to a Line of Charge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2280" y="836640"/>
            <a:ext cx="883944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n line of charge, of length L and charge densit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lectric field is described b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lectric potential 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5286240" y="2238480"/>
          <a:ext cx="3659400" cy="172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6240" y="2238480"/>
                    <a:ext cx="3659400" cy="172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1579680" y="4255920"/>
          <a:ext cx="6118200" cy="200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79680" y="4255920"/>
                    <a:ext cx="6118200" cy="200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0" name=""/>
          <p:cNvGrpSpPr/>
          <p:nvPr/>
        </p:nvGrpSpPr>
        <p:grpSpPr>
          <a:xfrm>
            <a:off x="477720" y="1125360"/>
            <a:ext cx="8419680" cy="1635120"/>
            <a:chOff x="477720" y="1125360"/>
            <a:chExt cx="8419680" cy="1635120"/>
          </a:xfrm>
        </p:grpSpPr>
        <p:grpSp>
          <p:nvGrpSpPr>
            <p:cNvPr id="111" name=""/>
            <p:cNvGrpSpPr/>
            <p:nvPr/>
          </p:nvGrpSpPr>
          <p:grpSpPr>
            <a:xfrm>
              <a:off x="488880" y="1441440"/>
              <a:ext cx="8408520" cy="398880"/>
              <a:chOff x="488880" y="1441440"/>
              <a:chExt cx="8408520" cy="398880"/>
            </a:xfrm>
          </p:grpSpPr>
          <p:sp>
            <p:nvSpPr>
              <p:cNvPr id="112" name=""/>
              <p:cNvSpPr/>
              <p:nvPr/>
            </p:nvSpPr>
            <p:spPr>
              <a:xfrm rot="16200000">
                <a:off x="4488480" y="-2505600"/>
                <a:ext cx="222120" cy="8221680"/>
              </a:xfrm>
              <a:prstGeom prst="can">
                <a:avLst>
                  <a:gd name="adj" fmla="val 2347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04440" y="1441440"/>
                <a:ext cx="829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+ + + + + + + + + + + + + + + + + + + + + + + + + + + + + + + + + + + + +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>
              <a:off x="4834080" y="1738440"/>
              <a:ext cx="0" cy="8316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978280" y="1641600"/>
              <a:ext cx="477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917960" y="2392200"/>
              <a:ext cx="476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554880" y="1144440"/>
              <a:ext cx="406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77720" y="1716120"/>
              <a:ext cx="34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462880" y="1758960"/>
              <a:ext cx="34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987480" y="1766880"/>
              <a:ext cx="3835440" cy="736560"/>
            </a:xfrm>
            <a:prstGeom prst="line">
              <a:avLst/>
            </a:prstGeom>
            <a:ln cap="rnd" w="28440">
              <a:solidFill>
                <a:srgbClr val="0000ff"/>
              </a:solidFill>
              <a:custDash>
                <a:ds d="100000" sp="1000"/>
              </a:custDash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503440" y="2038320"/>
              <a:ext cx="476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886280" y="1832040"/>
              <a:ext cx="477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74800" y="1511280"/>
              <a:ext cx="204840" cy="231840"/>
            </a:xfrm>
            <a:prstGeom prst="rect">
              <a:avLst/>
            </a:prstGeom>
            <a:solidFill>
              <a:srgbClr val="ff0066">
                <a:alpha val="68000"/>
              </a:srgbClr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97040" y="1125360"/>
              <a:ext cx="477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q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Potential due to a Charged Disc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526760" y="1230480"/>
            <a:ext cx="7488360" cy="50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lectric potential due to a thin ring of charge, dq at point P 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lectric potential at point P 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938240" y="1919160"/>
          <a:ext cx="6777000" cy="110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38240" y="1919160"/>
                    <a:ext cx="6777000" cy="110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2004840" y="5167440"/>
          <a:ext cx="7139160" cy="1090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04840" y="5167440"/>
                    <a:ext cx="7139160" cy="109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31" name=""/>
          <p:cNvGrpSpPr/>
          <p:nvPr/>
        </p:nvGrpSpPr>
        <p:grpSpPr>
          <a:xfrm>
            <a:off x="156960" y="2146320"/>
            <a:ext cx="6922800" cy="5333040"/>
            <a:chOff x="156960" y="2146320"/>
            <a:chExt cx="6922800" cy="5333040"/>
          </a:xfrm>
        </p:grpSpPr>
        <p:grpSp>
          <p:nvGrpSpPr>
            <p:cNvPr id="132" name=""/>
            <p:cNvGrpSpPr/>
            <p:nvPr/>
          </p:nvGrpSpPr>
          <p:grpSpPr>
            <a:xfrm>
              <a:off x="156960" y="2146320"/>
              <a:ext cx="5131800" cy="3859200"/>
              <a:chOff x="156960" y="2146320"/>
              <a:chExt cx="5131800" cy="3859200"/>
            </a:xfrm>
          </p:grpSpPr>
          <p:sp>
            <p:nvSpPr>
              <p:cNvPr id="133" name=""/>
              <p:cNvSpPr/>
              <p:nvPr/>
            </p:nvSpPr>
            <p:spPr>
              <a:xfrm rot="5400000">
                <a:off x="-1101600" y="3404880"/>
                <a:ext cx="3859200" cy="1341720"/>
              </a:xfrm>
              <a:prstGeom prst="can">
                <a:avLst>
                  <a:gd name="adj" fmla="val 50000"/>
                </a:avLst>
              </a:prstGeom>
              <a:solidFill>
                <a:srgbClr val="bbe0e3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206720" y="4064400"/>
                <a:ext cx="4082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048680" y="3024720"/>
                <a:ext cx="286560" cy="20520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6" name=""/>
            <p:cNvSpPr/>
            <p:nvPr/>
          </p:nvSpPr>
          <p:spPr>
            <a:xfrm>
              <a:off x="5149440" y="407016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800440" y="40068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 flipV="1">
              <a:off x="1031040" y="2425680"/>
              <a:ext cx="174600" cy="16236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057320" y="252720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1061280" y="4078080"/>
              <a:ext cx="144360" cy="490320"/>
            </a:xfrm>
            <a:prstGeom prst="line">
              <a:avLst/>
            </a:prstGeom>
            <a:ln w="28440">
              <a:solidFill>
                <a:srgbClr val="0033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087200" y="4174920"/>
              <a:ext cx="36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179360" y="3041640"/>
              <a:ext cx="5047920" cy="124236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683800" y="307152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44" name=""/>
            <p:cNvGraphicFramePr/>
            <p:nvPr/>
          </p:nvGraphicFramePr>
          <p:xfrm>
            <a:off x="5130360" y="3490920"/>
            <a:ext cx="366480" cy="3963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45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130360" y="3490920"/>
                      <a:ext cx="366480" cy="396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6" name=""/>
            <p:cNvSpPr/>
            <p:nvPr/>
          </p:nvSpPr>
          <p:spPr>
            <a:xfrm>
              <a:off x="3668400" y="3641400"/>
              <a:ext cx="345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rot="14217000">
              <a:off x="3295080" y="4430160"/>
              <a:ext cx="3906720" cy="1827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652" y="6375"/>
                  </a:moveTo>
                  <a:arcTo wR="10800" hR="10800" stAng="-1451368" swAng="1090379"/>
                  <a:lnTo>
                    <a:pt x="10800" y="10800"/>
                  </a:lnTo>
                  <a:close/>
                </a:path>
                <a:path fill="none" w="21600" h="21600">
                  <a:moveTo>
                    <a:pt x="20652" y="6375"/>
                  </a:moveTo>
                  <a:arcTo wR="10800" hR="10800" stAng="-1451368" swAng="1090379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28600" y="375840"/>
            <a:ext cx="86868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Potential between  2 Parallel Charged Plate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52280" y="964800"/>
            <a:ext cx="5848560" cy="582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oppositely charged conducting plates, with charge densit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lectric field between the plates is consta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rresponding electric potential is linear between the pla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1986120" y="2968560"/>
          <a:ext cx="2482560" cy="87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6120" y="2968560"/>
                    <a:ext cx="2482560" cy="87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2" name=""/>
          <p:cNvGrpSpPr/>
          <p:nvPr/>
        </p:nvGrpSpPr>
        <p:grpSpPr>
          <a:xfrm>
            <a:off x="6375240" y="1087200"/>
            <a:ext cx="2509920" cy="4330800"/>
            <a:chOff x="6375240" y="1087200"/>
            <a:chExt cx="2509920" cy="4330800"/>
          </a:xfrm>
        </p:grpSpPr>
        <p:sp>
          <p:nvSpPr>
            <p:cNvPr id="153" name=""/>
            <p:cNvSpPr/>
            <p:nvPr/>
          </p:nvSpPr>
          <p:spPr>
            <a:xfrm rot="16200000">
              <a:off x="4890960" y="2571480"/>
              <a:ext cx="3994200" cy="1025640"/>
            </a:xfrm>
            <a:prstGeom prst="cube">
              <a:avLst>
                <a:gd name="adj" fmla="val 91967"/>
              </a:avLst>
            </a:prstGeom>
            <a:solidFill>
              <a:srgbClr val="bbe0e3">
                <a:alpha val="48000"/>
              </a:srgbClr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rot="16200000">
              <a:off x="6376320" y="2618640"/>
              <a:ext cx="3993840" cy="1023840"/>
            </a:xfrm>
            <a:prstGeom prst="cube">
              <a:avLst>
                <a:gd name="adj" fmla="val 91967"/>
              </a:avLst>
            </a:prstGeom>
            <a:solidFill>
              <a:srgbClr val="ddc1d7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843600" y="1301760"/>
              <a:ext cx="59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+q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790040" y="4336920"/>
              <a:ext cx="59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Arial"/>
                </a:rPr>
                <a:t>-q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520040" y="5062680"/>
              <a:ext cx="1187280" cy="81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931160" y="5049720"/>
              <a:ext cx="51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59" name=""/>
          <p:cNvGraphicFramePr/>
          <p:nvPr/>
        </p:nvGraphicFramePr>
        <p:xfrm>
          <a:off x="1230480" y="4599000"/>
          <a:ext cx="4678200" cy="1111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30480" y="4599000"/>
                    <a:ext cx="4678200" cy="111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1:09:15Z</dcterms:created>
  <dc:creator>Tony Zable</dc:creator>
  <dc:description/>
  <dc:language>en-US</dc:language>
  <cp:lastModifiedBy>pccuser</cp:lastModifiedBy>
  <dcterms:modified xsi:type="dcterms:W3CDTF">2008-04-02T20:32:15Z</dcterms:modified>
  <cp:revision>59</cp:revision>
  <dc:subject/>
  <dc:title>Phy 211: General Physics I</dc:title>
</cp:coreProperties>
</file>