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5D2F-D15F-40E9-8A98-38D3147B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E68D-E6C2-415B-9D98-D78805EA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3EB-6CFE-4DF3-921D-B110AEC7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DC5-941E-468B-A633-B7C4F3A4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BCC-F0B1-4927-A6D0-1DC2EDC9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97C-91AE-4F64-9DCF-80BFAF81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ACD-B4F1-4504-B12E-81B6CBD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FE4-FCF5-4185-A423-2D8E3CF4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3739-6E61-49F2-8F5A-66C4C413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0E6-1FEE-4D20-A2A1-019DFB27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BFB-8F30-40BE-A576-9D0BAE15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F3A-2FA5-4B34-B485-7D16991E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F9D8-850D-4FE7-B9A2-EF72E3185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4: Electric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240" y="914040"/>
            <a:ext cx="8839080" cy="55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harge is in an electric field, the electric force exerted upon it, as it moves from one point (A) to another point (B) can do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ork performed to move a charge from point A to B in an electric field i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electric force is a conservative force, the work performed is equal to the difference in electric potential energy between points A &amp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nergy associated with the position of an object subject to an electric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s for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joules (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ectric potential energy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∞ i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806560" y="1658880"/>
          <a:ext cx="30546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6560" y="1658880"/>
                    <a:ext cx="3054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93840" y="2921040"/>
          <a:ext cx="4727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3840" y="2921040"/>
                    <a:ext cx="4727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011400" y="4245120"/>
          <a:ext cx="1835280" cy="43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400" y="4245120"/>
                    <a:ext cx="18352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Potentia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60" y="882360"/>
            <a:ext cx="8906040" cy="55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energy for a charge at a point in space can be expressed in per unit charge, this is the electric potential at this lo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manner, V associated with a position can be expressed without concern for the specific charg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are joules/coulomb (J/C), called the volt (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on an electric charge is related to the change in electric potential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) and its charge (q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ng W in terms of V we can combine them to obtain a relation between E and 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22760" y="1425600"/>
          <a:ext cx="11509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2760" y="1425600"/>
                    <a:ext cx="11509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638360" y="3819600"/>
          <a:ext cx="1901880" cy="45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8360" y="3819600"/>
                    <a:ext cx="19018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491080" y="3654360"/>
          <a:ext cx="172260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1080" y="3654360"/>
                    <a:ext cx="1722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114880" y="5299200"/>
          <a:ext cx="1397160" cy="83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14880" y="5299200"/>
                    <a:ext cx="13971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72960" y="5288040"/>
          <a:ext cx="3691080" cy="86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2960" y="5288040"/>
                    <a:ext cx="369108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Point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20" y="10364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point charge,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radial from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a distance r from q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his relationship is extremely useful for evaluating more complex charge geometr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1920" y="4792680"/>
          <a:ext cx="528768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4792680"/>
                    <a:ext cx="5287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78440" y="3240000"/>
          <a:ext cx="211608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8440" y="3240000"/>
                    <a:ext cx="2116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"/>
          <p:cNvGrpSpPr/>
          <p:nvPr/>
        </p:nvGrpSpPr>
        <p:grpSpPr>
          <a:xfrm>
            <a:off x="3819600" y="993600"/>
            <a:ext cx="2979360" cy="2385720"/>
            <a:chOff x="3819600" y="993600"/>
            <a:chExt cx="2979360" cy="2385720"/>
          </a:xfrm>
        </p:grpSpPr>
        <p:sp>
          <p:nvSpPr>
            <p:cNvPr id="72" name=""/>
            <p:cNvSpPr/>
            <p:nvPr/>
          </p:nvSpPr>
          <p:spPr>
            <a:xfrm>
              <a:off x="5032440" y="2098080"/>
              <a:ext cx="209520" cy="17676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19600" y="993600"/>
              <a:ext cx="2612160" cy="23857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27480" y="2184840"/>
              <a:ext cx="977400" cy="78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07720" y="228600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35040" y="1722960"/>
              <a:ext cx="40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67520" y="2840040"/>
              <a:ext cx="63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Charged Sphe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3040"/>
            <a:ext cx="9144000" cy="55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hollow conducting sphere with radius R &amp; charge, 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outside R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for points outside R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field inside the spher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potential inside the sphere is cons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30600" y="1290600"/>
            <a:ext cx="3371400" cy="1662120"/>
            <a:chOff x="2730600" y="1290600"/>
            <a:chExt cx="3371400" cy="1662120"/>
          </a:xfrm>
        </p:grpSpPr>
        <p:sp>
          <p:nvSpPr>
            <p:cNvPr id="81" name=""/>
            <p:cNvSpPr/>
            <p:nvPr/>
          </p:nvSpPr>
          <p:spPr>
            <a:xfrm>
              <a:off x="3270600" y="1802520"/>
              <a:ext cx="708840" cy="64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30600" y="1290600"/>
              <a:ext cx="1798560" cy="1662120"/>
            </a:xfrm>
            <a:prstGeom prst="ellipse">
              <a:avLst/>
            </a:prstGeom>
            <a:noFill/>
            <a:ln cap="rnd" w="1908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30960" y="2132640"/>
              <a:ext cx="268560" cy="19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11360" y="249768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47600" y="155088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24760" y="1548000"/>
              <a:ext cx="167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ff"/>
                  </a:solidFill>
                  <a:latin typeface="Arial"/>
                </a:rPr>
                <a:t>Gaussian sp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43200" y="1961640"/>
              <a:ext cx="28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270600" y="2144160"/>
              <a:ext cx="354240" cy="715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" name=""/>
          <p:cNvGraphicFramePr/>
          <p:nvPr/>
        </p:nvGraphicFramePr>
        <p:xfrm>
          <a:off x="2654280" y="4076640"/>
          <a:ext cx="50245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4280" y="4076640"/>
                    <a:ext cx="50245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262400" y="2851200"/>
          <a:ext cx="169884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2851200"/>
                    <a:ext cx="16988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032440" y="5081760"/>
          <a:ext cx="917640" cy="43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2440" y="5081760"/>
                    <a:ext cx="91764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85840" y="5897520"/>
          <a:ext cx="85788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5840" y="5897520"/>
                    <a:ext cx="85788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n Electric Dip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40" y="1036800"/>
            <a:ext cx="7883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n electric dipole with charge separation d and dipole momen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for a dipole 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ecreases inversely with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The image “http://hyperphysics.phy-astr.gsu.edu/hbase/electric/imgele/edip2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26040" y="1359000"/>
            <a:ext cx="3117960" cy="30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58800" y="2416320"/>
          <a:ext cx="2446200" cy="92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" y="2416320"/>
                    <a:ext cx="244620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35040" y="4132440"/>
          <a:ext cx="4456080" cy="1974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5040" y="4132440"/>
                    <a:ext cx="4456080" cy="19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Line of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836640"/>
            <a:ext cx="88394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line of charge, of length L and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is describ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86240" y="2238480"/>
          <a:ext cx="365940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238480"/>
                    <a:ext cx="365940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79680" y="4255920"/>
          <a:ext cx="6118200" cy="200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9680" y="4255920"/>
                    <a:ext cx="611820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477720" y="1125360"/>
            <a:ext cx="8419680" cy="1635120"/>
            <a:chOff x="477720" y="1125360"/>
            <a:chExt cx="8419680" cy="1635120"/>
          </a:xfrm>
        </p:grpSpPr>
        <p:grpSp>
          <p:nvGrpSpPr>
            <p:cNvPr id="111" name=""/>
            <p:cNvGrpSpPr/>
            <p:nvPr/>
          </p:nvGrpSpPr>
          <p:grpSpPr>
            <a:xfrm>
              <a:off x="488880" y="1441440"/>
              <a:ext cx="8408520" cy="398880"/>
              <a:chOff x="488880" y="1441440"/>
              <a:chExt cx="8408520" cy="398880"/>
            </a:xfrm>
          </p:grpSpPr>
          <p:sp>
            <p:nvSpPr>
              <p:cNvPr id="112" name=""/>
              <p:cNvSpPr/>
              <p:nvPr/>
            </p:nvSpPr>
            <p:spPr>
              <a:xfrm rot="16200000">
                <a:off x="4488480" y="-2505600"/>
                <a:ext cx="222120" cy="8221680"/>
              </a:xfrm>
              <a:prstGeom prst="can">
                <a:avLst>
                  <a:gd name="adj" fmla="val 234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4440" y="1441440"/>
                <a:ext cx="829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 + + + + + + + + + + + + + + + + + + + + + + + + + + + + + + + + + + + +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834080" y="1738440"/>
              <a:ext cx="0" cy="83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8280" y="164160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7960" y="239220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4880" y="11444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720" y="171612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2880" y="1758960"/>
              <a:ext cx="3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7480" y="1766880"/>
              <a:ext cx="3835440" cy="73656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03440" y="20383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6280" y="183204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4800" y="1511280"/>
              <a:ext cx="204840" cy="231840"/>
            </a:xfrm>
            <a:prstGeom prst="rect">
              <a:avLst/>
            </a:prstGeom>
            <a:solidFill>
              <a:srgbClr val="ff0066">
                <a:alpha val="6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040" y="1125360"/>
              <a:ext cx="47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due to a Charged Disc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6760" y="1230480"/>
            <a:ext cx="748836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due to a thin ring of charge, dq at point 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at point P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38240" y="1919160"/>
          <a:ext cx="677700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919160"/>
                    <a:ext cx="67770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004840" y="5167440"/>
          <a:ext cx="7139160" cy="10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4840" y="5167440"/>
                    <a:ext cx="7139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156960" y="2146320"/>
            <a:ext cx="6922800" cy="5333040"/>
            <a:chOff x="156960" y="2146320"/>
            <a:chExt cx="6922800" cy="5333040"/>
          </a:xfrm>
        </p:grpSpPr>
        <p:grpSp>
          <p:nvGrpSpPr>
            <p:cNvPr id="132" name=""/>
            <p:cNvGrpSpPr/>
            <p:nvPr/>
          </p:nvGrpSpPr>
          <p:grpSpPr>
            <a:xfrm>
              <a:off x="156960" y="2146320"/>
              <a:ext cx="5131800" cy="3859200"/>
              <a:chOff x="156960" y="2146320"/>
              <a:chExt cx="5131800" cy="385920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-1101600" y="3404880"/>
                <a:ext cx="3859200" cy="1341720"/>
              </a:xfrm>
              <a:prstGeom prst="can">
                <a:avLst>
                  <a:gd name="adj" fmla="val 50000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06720" y="4064400"/>
                <a:ext cx="4082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48680" y="3024720"/>
                <a:ext cx="286560" cy="205200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149440" y="4070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0440" y="4006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1031040" y="2425680"/>
              <a:ext cx="174600" cy="162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57320" y="2527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061280" y="4078080"/>
              <a:ext cx="144360" cy="490320"/>
            </a:xfrm>
            <a:prstGeom prst="line">
              <a:avLst/>
            </a:prstGeom>
            <a:ln w="28440">
              <a:solidFill>
                <a:srgbClr val="00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87200" y="4174920"/>
              <a:ext cx="36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9360" y="3041640"/>
              <a:ext cx="5047920" cy="12423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3800" y="30715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5130360" y="3490920"/>
            <a:ext cx="366480" cy="396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30360" y="3490920"/>
                      <a:ext cx="366480" cy="39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3668400" y="3641400"/>
              <a:ext cx="34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217000">
              <a:off x="3295080" y="4430160"/>
              <a:ext cx="3906720" cy="18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52" y="6375"/>
                  </a:moveTo>
                  <a:arcTo wR="10800" hR="10800" stAng="-1451368" swAng="109037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52" y="6375"/>
                  </a:moveTo>
                  <a:arcTo wR="10800" hR="10800" stAng="-1451368" swAng="109037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75840"/>
            <a:ext cx="86868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tential between  2 Parallel Charged Plat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64800"/>
            <a:ext cx="584856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ppositely charged conducting plates, with charge dens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between the plates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 electric potential is linear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986120" y="2968560"/>
          <a:ext cx="248256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968560"/>
                    <a:ext cx="2482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375240" y="1087200"/>
            <a:ext cx="2509920" cy="4330800"/>
            <a:chOff x="6375240" y="1087200"/>
            <a:chExt cx="2509920" cy="4330800"/>
          </a:xfrm>
        </p:grpSpPr>
        <p:sp>
          <p:nvSpPr>
            <p:cNvPr id="153" name=""/>
            <p:cNvSpPr/>
            <p:nvPr/>
          </p:nvSpPr>
          <p:spPr>
            <a:xfrm rot="16200000">
              <a:off x="4890960" y="2571480"/>
              <a:ext cx="3994200" cy="1025640"/>
            </a:xfrm>
            <a:prstGeom prst="cube">
              <a:avLst>
                <a:gd name="adj" fmla="val 91967"/>
              </a:avLst>
            </a:prstGeom>
            <a:solidFill>
              <a:srgbClr val="bbe0e3">
                <a:alpha val="48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6376320" y="2618640"/>
              <a:ext cx="3993840" cy="1023840"/>
            </a:xfrm>
            <a:prstGeom prst="cube">
              <a:avLst>
                <a:gd name="adj" fmla="val 91967"/>
              </a:avLst>
            </a:prstGeom>
            <a:solidFill>
              <a:srgbClr val="ddc1d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43600" y="13017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+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90040" y="433692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Arial"/>
                </a:rPr>
                <a:t>-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20040" y="5062680"/>
              <a:ext cx="11872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31160" y="504972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"/>
          <p:cNvGraphicFramePr/>
          <p:nvPr/>
        </p:nvGraphicFramePr>
        <p:xfrm>
          <a:off x="1230480" y="4599000"/>
          <a:ext cx="4678200" cy="11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0480" y="4599000"/>
                    <a:ext cx="46782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32:15Z</dcterms:modified>
  <cp:revision>59</cp:revision>
  <dc:subject/>
  <dc:title>Phy 211: General Physics I</dc:title>
</cp:coreProperties>
</file>