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6A994C-FCA5-45DE-B0DC-E9E7DA059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electric flux as a way of counting E field lines (or arrows) that pass through an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1) point charge 2) line of charge 3) parallel plate capac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FC9-1C2D-4DC3-8A65-3C2FC9AE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386-CBD3-45E2-8750-F75D60B7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628-4830-4336-B5AF-8CDCEF14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EBC-F6F4-4D6A-8F84-684D39B9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5BD-3F50-4A0D-8AC7-C3544BF1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41C-5A7D-425B-BC5E-44219DCA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C72-B5AA-452A-B1B0-947A98FC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4E0-FB9F-40CE-B96A-2678F85B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F89-049E-45D2-B634-FD2499D3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EE4C-51FB-40E8-909F-4868F8B9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6EE-7086-4FA6-B1FF-EA266E2A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B14-AF92-439C-80A2-F5E31F5A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9BDD-2A93-48FC-9365-E9BE1240D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3: Gauss’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pplication:  2 Parallel Charged Plat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280" y="964800"/>
            <a:ext cx="584856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ppositely charged conducting plates, with charge dens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charges draw toward each other on the inner face of each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the electric field within the plates, apply a Gaussian “pill-box” to one of the 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ux through the pill-box surfa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315120" y="1087200"/>
            <a:ext cx="2569680" cy="4040280"/>
            <a:chOff x="6315120" y="1087200"/>
            <a:chExt cx="2569680" cy="4040280"/>
          </a:xfrm>
        </p:grpSpPr>
        <p:sp>
          <p:nvSpPr>
            <p:cNvPr id="210" name=""/>
            <p:cNvSpPr/>
            <p:nvPr/>
          </p:nvSpPr>
          <p:spPr>
            <a:xfrm rot="16200000">
              <a:off x="6244560" y="2731320"/>
              <a:ext cx="1289880" cy="428400"/>
            </a:xfrm>
            <a:prstGeom prst="ellipse">
              <a:avLst/>
            </a:prstGeom>
            <a:solidFill>
              <a:srgbClr val="ddc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6375240" y="2617920"/>
              <a:ext cx="3994560" cy="1024200"/>
            </a:xfrm>
            <a:prstGeom prst="cube">
              <a:avLst>
                <a:gd name="adj" fmla="val 91967"/>
              </a:avLst>
            </a:prstGeom>
            <a:solidFill>
              <a:srgbClr val="ddc1d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890960" y="2571840"/>
              <a:ext cx="3994200" cy="1024560"/>
            </a:xfrm>
            <a:prstGeom prst="cube">
              <a:avLst>
                <a:gd name="adj" fmla="val 91967"/>
              </a:avLst>
            </a:prstGeom>
            <a:solidFill>
              <a:srgbClr val="bbe0e3">
                <a:alpha val="48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42880" y="1301760"/>
              <a:ext cx="59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+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75280" y="4250160"/>
              <a:ext cx="5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-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6243840" y="2459880"/>
              <a:ext cx="1291680" cy="970560"/>
            </a:xfrm>
            <a:prstGeom prst="can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15120" y="3639600"/>
              <a:ext cx="12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Gaussian “pill-box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7" name=""/>
          <p:cNvGraphicFramePr/>
          <p:nvPr/>
        </p:nvGraphicFramePr>
        <p:xfrm>
          <a:off x="1174680" y="4594320"/>
          <a:ext cx="5353200" cy="8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4594320"/>
                    <a:ext cx="53532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179360" y="5776920"/>
          <a:ext cx="6624720" cy="9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9360" y="5776920"/>
                    <a:ext cx="662472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quences of Gauss’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 flux is a conserved quantity for an enclosed electric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e electric field inside a charged solid conductor is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field inside a charged hollow conductor or non-conductor is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eometrical symmetries can make the calculation of an electric field less cumbersome even for complicated char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Flux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120" y="830160"/>
            <a:ext cx="8839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electric field passing through a region in space. 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ic fl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s the scalar product of the average electric field vector and the normal area vector for the region, 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ept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electric flux represents the flow of electric field lines (normal) through a region of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637000" y="2548080"/>
          <a:ext cx="548640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7000" y="2548080"/>
                    <a:ext cx="54864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581040" y="4519800"/>
            <a:ext cx="2720880" cy="2130120"/>
            <a:chOff x="581040" y="4519800"/>
            <a:chExt cx="2720880" cy="2130120"/>
          </a:xfrm>
        </p:grpSpPr>
        <p:sp>
          <p:nvSpPr>
            <p:cNvPr id="57" name=""/>
            <p:cNvSpPr/>
            <p:nvPr/>
          </p:nvSpPr>
          <p:spPr>
            <a:xfrm rot="20696400">
              <a:off x="1450800" y="4546440"/>
              <a:ext cx="480960" cy="20764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98600" y="5011560"/>
              <a:ext cx="757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1040" y="500832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27040" y="517968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0120" y="517680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77800" y="543384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1160" y="5430600"/>
              <a:ext cx="75744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60600" y="5830560"/>
              <a:ext cx="757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3320" y="5827680"/>
              <a:ext cx="75744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16040" y="6032160"/>
              <a:ext cx="757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8480" y="602928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09480" y="562752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2560" y="562428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03160" y="622440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76240" y="622116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73000" y="636084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55440" y="6367320"/>
              <a:ext cx="75744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74720" y="487836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0560" y="487512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66880" y="5055840"/>
              <a:ext cx="757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82720" y="505296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5160" y="530064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81000" y="529740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76400" y="5697360"/>
              <a:ext cx="757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92240" y="569412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6000" y="608940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50920" y="589572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09800" y="5494320"/>
              <a:ext cx="757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25640" y="549108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36880" y="6270480"/>
              <a:ext cx="75708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27160" y="6087960"/>
              <a:ext cx="75708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14200" y="6271920"/>
              <a:ext cx="757440" cy="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12760" y="5892480"/>
              <a:ext cx="7574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0" name=""/>
            <p:cNvGraphicFramePr/>
            <p:nvPr/>
          </p:nvGraphicFramePr>
          <p:xfrm>
            <a:off x="2817720" y="4792320"/>
            <a:ext cx="484200" cy="77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7720" y="4792320"/>
                      <a:ext cx="484200" cy="77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2" name=""/>
          <p:cNvGrpSpPr/>
          <p:nvPr/>
        </p:nvGrpSpPr>
        <p:grpSpPr>
          <a:xfrm>
            <a:off x="5159520" y="4510080"/>
            <a:ext cx="3471480" cy="2131200"/>
            <a:chOff x="5159520" y="4510080"/>
            <a:chExt cx="3471480" cy="2131200"/>
          </a:xfrm>
        </p:grpSpPr>
        <p:sp>
          <p:nvSpPr>
            <p:cNvPr id="93" name=""/>
            <p:cNvSpPr/>
            <p:nvPr/>
          </p:nvSpPr>
          <p:spPr>
            <a:xfrm rot="20121600">
              <a:off x="5570280" y="4558680"/>
              <a:ext cx="480960" cy="20764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889600" y="5585760"/>
              <a:ext cx="1576440" cy="972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7553160" y="5459400"/>
            <a:ext cx="1077840" cy="984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53160" y="5459400"/>
                      <a:ext cx="1077840" cy="98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 flipV="1">
              <a:off x="5898960" y="5033880"/>
              <a:ext cx="1252800" cy="552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7245360" y="4510080"/>
            <a:ext cx="533160" cy="711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245360" y="4510080"/>
                      <a:ext cx="53316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6467400" y="5229000"/>
              <a:ext cx="35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35920" y="5419440"/>
              <a:ext cx="17712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4560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auss’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00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’ Law is a fundamental law of nature relating electric charge to electric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Gauss’ Law, the total electric flux through any closed (“Gaussian”) surface is equal to the enclosed charge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nclo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ivided by the permittivity of free spa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’ Law can be used to determine the electric field (E) for many physical orientations (distributions) of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nsequences of Gauss’ Law provide insights that are not necessarily obvious when applying Coulomb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76320" y="2779560"/>
          <a:ext cx="3556080" cy="8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6320" y="2779560"/>
                    <a:ext cx="3556080" cy="8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996920" y="3656160"/>
          <a:ext cx="3614760" cy="95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96920" y="3656160"/>
                    <a:ext cx="3614760" cy="95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auss’ Law for a Point Charg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520" y="10368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point charge,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ropriate “gaussian” surface for a point charge is a sphere, radius r, centered on the charge, since all E fields will be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lux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Gauss’ Law yields 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513240" y="4357800"/>
          <a:ext cx="3413160" cy="68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3240" y="4357800"/>
                    <a:ext cx="341316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074600" y="5711760"/>
          <a:ext cx="70088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4600" y="5711760"/>
                    <a:ext cx="70088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62840" y="1973160"/>
            <a:ext cx="171360" cy="152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2120" y="1020600"/>
            <a:ext cx="2133720" cy="2057400"/>
          </a:xfrm>
          <a:prstGeom prst="ellipse">
            <a:avLst/>
          </a:prstGeom>
          <a:noFill/>
          <a:ln cap="rnd" w="1908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0600" y="2048040"/>
            <a:ext cx="798480" cy="6807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32640" y="213516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46720" y="164952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99160" y="2940120"/>
            <a:ext cx="198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Gaussian 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herical Symmetry: Charged Spher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885600"/>
            <a:ext cx="9144000" cy="61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ical symmetry can be exploited for any spherical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hollow conducting sphere, radius R &amp; charge q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ux through a “gaussian” spher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Gauss’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 &gt; 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 &lt; 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730600" y="1663560"/>
            <a:ext cx="3371400" cy="1662120"/>
            <a:chOff x="2730600" y="1663560"/>
            <a:chExt cx="3371400" cy="1662120"/>
          </a:xfrm>
        </p:grpSpPr>
        <p:sp>
          <p:nvSpPr>
            <p:cNvPr id="123" name=""/>
            <p:cNvSpPr/>
            <p:nvPr/>
          </p:nvSpPr>
          <p:spPr>
            <a:xfrm>
              <a:off x="3270600" y="2175480"/>
              <a:ext cx="708840" cy="649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30600" y="1663560"/>
              <a:ext cx="1798560" cy="1662120"/>
            </a:xfrm>
            <a:prstGeom prst="ellipse">
              <a:avLst/>
            </a:prstGeom>
            <a:noFill/>
            <a:ln cap="rnd" w="1908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30960" y="2505600"/>
              <a:ext cx="268560" cy="19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11360" y="287064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47600" y="1923840"/>
              <a:ext cx="28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24760" y="1920960"/>
              <a:ext cx="167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ff"/>
                  </a:solidFill>
                  <a:latin typeface="Arial"/>
                </a:rPr>
                <a:t>Gaussian sp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43200" y="2334600"/>
              <a:ext cx="28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270600" y="2517120"/>
              <a:ext cx="354240" cy="715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1" name=""/>
          <p:cNvGraphicFramePr/>
          <p:nvPr/>
        </p:nvGraphicFramePr>
        <p:xfrm>
          <a:off x="6108840" y="3246480"/>
          <a:ext cx="3035160" cy="6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08840" y="3246480"/>
                    <a:ext cx="303516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700440" y="3914640"/>
          <a:ext cx="520236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0440" y="3914640"/>
                    <a:ext cx="52023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122560" y="4710240"/>
          <a:ext cx="189864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2560" y="4710240"/>
                    <a:ext cx="18986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035080" y="5541840"/>
          <a:ext cx="448632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35080" y="5541840"/>
                    <a:ext cx="44863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649920" y="5732640"/>
            <a:ext cx="2060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nside a hollow conductor, E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herical Symmetry: Charged Sphere (2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833040"/>
            <a:ext cx="914400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olid non-conducting sphere with radius R &amp; uniform charge density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Gauss’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 &gt; 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 &lt; 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Inside a uniformly charged insulator, 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895480" y="1247760"/>
            <a:ext cx="2979360" cy="2009160"/>
            <a:chOff x="2895480" y="1247760"/>
            <a:chExt cx="2979360" cy="2009160"/>
          </a:xfrm>
        </p:grpSpPr>
        <p:sp>
          <p:nvSpPr>
            <p:cNvPr id="143" name=""/>
            <p:cNvSpPr/>
            <p:nvPr/>
          </p:nvSpPr>
          <p:spPr>
            <a:xfrm>
              <a:off x="3454920" y="1799640"/>
              <a:ext cx="732240" cy="7009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95480" y="1247760"/>
              <a:ext cx="1860840" cy="1792080"/>
            </a:xfrm>
            <a:prstGeom prst="ellipse">
              <a:avLst/>
            </a:prstGeom>
            <a:noFill/>
            <a:ln cap="rnd" w="1908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27160" y="2154960"/>
              <a:ext cx="277920" cy="21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00360" y="2547720"/>
              <a:ext cx="32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47760" y="152820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40360" y="2919600"/>
              <a:ext cx="17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ff"/>
                  </a:solidFill>
                  <a:latin typeface="Arial"/>
                </a:rPr>
                <a:t>Gaussian sp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39760" y="197064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453480" y="2168640"/>
              <a:ext cx="366480" cy="771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1" name=""/>
          <p:cNvGraphicFramePr/>
          <p:nvPr/>
        </p:nvGraphicFramePr>
        <p:xfrm>
          <a:off x="3754440" y="3232080"/>
          <a:ext cx="520236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4440" y="3232080"/>
                    <a:ext cx="520236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233440" y="3975120"/>
          <a:ext cx="497052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3440" y="3975120"/>
                    <a:ext cx="497052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228760" y="4898880"/>
          <a:ext cx="45450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8760" y="4898880"/>
                    <a:ext cx="4545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herical Symmetry: Charged Spheres (3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833040"/>
            <a:ext cx="914400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2 concentric hollow conducting spheres with radi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harg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Gauss’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 &l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r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 &gt;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{opposite charge subtract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84600" y="1816200"/>
            <a:ext cx="733680" cy="699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8880" y="1521000"/>
            <a:ext cx="1368360" cy="1326960"/>
          </a:xfrm>
          <a:prstGeom prst="ellipse">
            <a:avLst/>
          </a:prstGeom>
          <a:noFill/>
          <a:ln cap="rnd" w="1908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7920" y="2171880"/>
            <a:ext cx="277560" cy="214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30760" y="2478240"/>
            <a:ext cx="663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97400" y="21970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57760" y="125244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Gaussian 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13280" y="1916280"/>
            <a:ext cx="654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584240" y="2184480"/>
            <a:ext cx="366840" cy="7714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683160" y="3232080"/>
          <a:ext cx="5202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3160" y="3232080"/>
                    <a:ext cx="5202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884320" y="5022720"/>
          <a:ext cx="3397320" cy="8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84320" y="5022720"/>
                    <a:ext cx="339732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043520" y="1270080"/>
            <a:ext cx="1820880" cy="17748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70320" y="2176560"/>
            <a:ext cx="673200" cy="1173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08520" y="2486160"/>
            <a:ext cx="66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1589040"/>
            <a:ext cx="654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16160" y="4137120"/>
          <a:ext cx="2521080" cy="82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6160" y="4137120"/>
                    <a:ext cx="252108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2124000" y="5830920"/>
          <a:ext cx="3541680" cy="89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5830920"/>
                    <a:ext cx="35416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pplication: Line of Charg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836640"/>
            <a:ext cx="88394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lindrical symmetry is useful for evaluating a “line of charge” as well as charged cylindrical sh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n infinitely long line of charge, charge dens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ux through each of the 3 surface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Gauss’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8880" y="2075040"/>
            <a:ext cx="8408520" cy="2338920"/>
            <a:chOff x="488880" y="2075040"/>
            <a:chExt cx="8408520" cy="2338920"/>
          </a:xfrm>
        </p:grpSpPr>
        <p:grpSp>
          <p:nvGrpSpPr>
            <p:cNvPr id="182" name=""/>
            <p:cNvGrpSpPr/>
            <p:nvPr/>
          </p:nvGrpSpPr>
          <p:grpSpPr>
            <a:xfrm>
              <a:off x="488880" y="2850480"/>
              <a:ext cx="8408520" cy="703800"/>
              <a:chOff x="488880" y="2850480"/>
              <a:chExt cx="8408520" cy="703800"/>
            </a:xfrm>
          </p:grpSpPr>
          <p:sp>
            <p:nvSpPr>
              <p:cNvPr id="183" name=""/>
              <p:cNvSpPr/>
              <p:nvPr/>
            </p:nvSpPr>
            <p:spPr>
              <a:xfrm rot="16200000">
                <a:off x="4491000" y="-1100520"/>
                <a:ext cx="217080" cy="8221680"/>
              </a:xfrm>
              <a:prstGeom prst="can">
                <a:avLst>
                  <a:gd name="adj" fmla="val 234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04440" y="2850480"/>
                <a:ext cx="82929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 + + + + + + + + + + + + + + + + + + + + + + + + + + + + + + + + + + + + +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834440" y="3141000"/>
              <a:ext cx="0" cy="81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34440" y="332424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12040" y="404568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465400" y="2571120"/>
              <a:ext cx="40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04400" y="330012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4353120" y="1333080"/>
              <a:ext cx="1882080" cy="3365280"/>
            </a:xfrm>
            <a:prstGeom prst="can">
              <a:avLst>
                <a:gd name="adj" fmla="val 25000"/>
              </a:avLst>
            </a:prstGeom>
            <a:noFill/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10040" y="4065840"/>
              <a:ext cx="25408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2" name=""/>
          <p:cNvGraphicFramePr/>
          <p:nvPr/>
        </p:nvGraphicFramePr>
        <p:xfrm>
          <a:off x="2017800" y="4737240"/>
          <a:ext cx="56307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7800" y="4737240"/>
                    <a:ext cx="56307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840120" y="5865840"/>
          <a:ext cx="149544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0120" y="5865840"/>
                    <a:ext cx="149544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lanar Symmetry:  A Charged Shee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aussian “pill-box” is an appropriate Gaussian surface for evaluating a charged flat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uniformly charged flat sheet with a surface charge densit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ux through the pill-box surfac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ric 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52760" y="2962440"/>
            <a:ext cx="6183360" cy="1392120"/>
            <a:chOff x="2552760" y="2962440"/>
            <a:chExt cx="6183360" cy="1392120"/>
          </a:xfrm>
        </p:grpSpPr>
        <p:sp>
          <p:nvSpPr>
            <p:cNvPr id="199" name=""/>
            <p:cNvSpPr/>
            <p:nvPr/>
          </p:nvSpPr>
          <p:spPr>
            <a:xfrm>
              <a:off x="4702320" y="3268800"/>
              <a:ext cx="1392480" cy="479160"/>
            </a:xfrm>
            <a:prstGeom prst="ellipse">
              <a:avLst/>
            </a:prstGeom>
            <a:solidFill>
              <a:srgbClr val="ddc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52760" y="2962440"/>
              <a:ext cx="6183360" cy="1392120"/>
            </a:xfrm>
            <a:prstGeom prst="cube">
              <a:avLst>
                <a:gd name="adj" fmla="val 91967"/>
              </a:avLst>
            </a:prstGeom>
            <a:solidFill>
              <a:srgbClr val="bbe0e3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02320" y="2963880"/>
              <a:ext cx="1393920" cy="1085760"/>
            </a:xfrm>
            <a:prstGeom prst="can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37640" y="3079800"/>
              <a:ext cx="139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ff"/>
                  </a:solidFill>
                  <a:latin typeface="Arial"/>
                </a:rPr>
                <a:t>Gaussian “pill-box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3" name=""/>
          <p:cNvGraphicFramePr/>
          <p:nvPr/>
        </p:nvGraphicFramePr>
        <p:xfrm>
          <a:off x="695160" y="4950000"/>
          <a:ext cx="805356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4950000"/>
                    <a:ext cx="80535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5560" y="5848200"/>
          <a:ext cx="7883640" cy="100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560" y="5848200"/>
                    <a:ext cx="788364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4-01T16:53:28Z</dcterms:modified>
  <cp:revision>67</cp:revision>
  <dc:subject/>
  <dc:title>Phy 211: General Physics I</dc:title>
</cp:coreProperties>
</file>