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7CFBE-9D6D-4699-AEC8-268158DA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3 or mor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3EA-DF74-4888-B83E-6A16825E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8A1-6E91-4A34-A1A7-8D51E13D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908E-7433-4F9B-984F-1A1AF65B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080-25BC-47E1-9B89-4FD65A95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545-A1B4-4008-BBD0-5F0C1914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CE0-952E-4C63-98D4-D58F9BDB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3B7-A1D8-438C-B563-31E9F267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ACA-DAA9-4A22-AE52-D7CA84C7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39A-B7C8-4B51-902E-26341C83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E96-54BC-48AD-ABD2-B89CB318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B0F-D5A3-45C1-9C6F-CE0C05FE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3C6-3DFD-41BF-8207-D54B2FB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5BD-692F-44D7-A659-560222080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2: Electr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Dipole in an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pole located within an     field will tend to align itself in the direction of the field vector, this rotation is a result of the torque exerted on the dipole by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rques exerted on the dipo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torque on the dipo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4857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energy, U, for the dipol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7040" y="2738520"/>
          <a:ext cx="784224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2738520"/>
                    <a:ext cx="784224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797200" y="4792680"/>
          <a:ext cx="280188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7200" y="4792680"/>
                    <a:ext cx="28018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906560" y="5802480"/>
          <a:ext cx="4532400" cy="642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6560" y="5802480"/>
                    <a:ext cx="4532400" cy="64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"/>
          <p:cNvGrpSpPr/>
          <p:nvPr/>
        </p:nvGrpSpPr>
        <p:grpSpPr>
          <a:xfrm>
            <a:off x="6916680" y="4290840"/>
            <a:ext cx="1832760" cy="1964160"/>
            <a:chOff x="6916680" y="4290840"/>
            <a:chExt cx="1832760" cy="1964160"/>
          </a:xfrm>
        </p:grpSpPr>
        <p:sp>
          <p:nvSpPr>
            <p:cNvPr id="175" name=""/>
            <p:cNvSpPr/>
            <p:nvPr/>
          </p:nvSpPr>
          <p:spPr>
            <a:xfrm flipV="1">
              <a:off x="7640280" y="5188680"/>
              <a:ext cx="1019160" cy="307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633440" y="4290840"/>
              <a:ext cx="18360" cy="120024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7156080" y="4715280"/>
            <a:ext cx="370800" cy="51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56080" y="4715280"/>
                      <a:ext cx="370800" cy="51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8138520" y="5306400"/>
            <a:ext cx="344520" cy="514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138520" y="5306400"/>
                      <a:ext cx="344520" cy="5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7840800" y="4686480"/>
            <a:ext cx="401040" cy="562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0800" y="4686480"/>
                      <a:ext cx="401040" cy="56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7346880" y="5107320"/>
              <a:ext cx="663120" cy="48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04320" y="5485680"/>
              <a:ext cx="427680" cy="586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532640" y="5588280"/>
              <a:ext cx="283320" cy="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816320" y="5460840"/>
              <a:ext cx="72720" cy="12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00240" y="5452200"/>
              <a:ext cx="0" cy="17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500240" y="5289840"/>
              <a:ext cx="121680" cy="15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9" name=""/>
            <p:cNvGraphicFramePr/>
            <p:nvPr/>
          </p:nvGraphicFramePr>
          <p:xfrm>
            <a:off x="6916680" y="5365080"/>
            <a:ext cx="441720" cy="541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16680" y="5365080"/>
                      <a:ext cx="44172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 flipH="1" rot="5933400">
              <a:off x="7080480" y="4604040"/>
              <a:ext cx="165420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78" y="1018"/>
                  </a:moveTo>
                  <a:arcTo wR="10800" hR="10800" stAng="-3895226" swAng="3895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78" y="1018"/>
                  </a:moveTo>
                  <a:arcTo wR="10800" hR="10800" stAng="-3895226" swAng="3895226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356520" y="1938240"/>
            <a:ext cx="2025360" cy="1320480"/>
            <a:chOff x="6356520" y="1938240"/>
            <a:chExt cx="2025360" cy="1320480"/>
          </a:xfrm>
        </p:grpSpPr>
        <p:sp>
          <p:nvSpPr>
            <p:cNvPr id="193" name=""/>
            <p:cNvSpPr/>
            <p:nvPr/>
          </p:nvSpPr>
          <p:spPr>
            <a:xfrm flipV="1">
              <a:off x="6726240" y="194472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996240" y="1955160"/>
              <a:ext cx="0" cy="13035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283520" y="194940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570800" y="194472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842240" y="193824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112240" y="194940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381880" y="1944720"/>
              <a:ext cx="0" cy="13032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72480" y="2643120"/>
              <a:ext cx="244440" cy="24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23240" y="2422440"/>
              <a:ext cx="245880" cy="24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58080" y="2325600"/>
              <a:ext cx="4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80320" y="2509560"/>
              <a:ext cx="4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356520" y="2261880"/>
            <a:ext cx="306360" cy="500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56520" y="2261880"/>
                      <a:ext cx="306360" cy="5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 flipV="1">
              <a:off x="7234200" y="2550600"/>
              <a:ext cx="701640" cy="196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7564320" y="2611440"/>
            <a:ext cx="308160" cy="53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564320" y="2611440"/>
                      <a:ext cx="30816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9" name=""/>
          <p:cNvGraphicFramePr/>
          <p:nvPr/>
        </p:nvGraphicFramePr>
        <p:xfrm>
          <a:off x="4308480" y="969840"/>
          <a:ext cx="287280" cy="460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08480" y="969840"/>
                    <a:ext cx="287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3660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0360" y="1033200"/>
            <a:ext cx="883944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ector field associated with the presence of electric charge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ctric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is the influence of electric charge on space (or the medium)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rection of the electric field is determined by the direction of electric force on a positive “test” charge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s of electric field are N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for a point char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524640" y="5157720"/>
          <a:ext cx="2254320" cy="10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5157720"/>
                    <a:ext cx="2254320" cy="10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168800" y="3714840"/>
          <a:ext cx="122220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8800" y="3714840"/>
                    <a:ext cx="122220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L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of a charge to influence other charges in its vicinity its electr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 a vector proper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s due to multiple charges ad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eld line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originate at +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rminate at -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an electric field vector (at a point in space) is the direction of electric force that would be exerted by on a positive charge at that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23920" y="4285800"/>
            <a:ext cx="2362680" cy="2209680"/>
            <a:chOff x="4723920" y="4285800"/>
            <a:chExt cx="2362680" cy="2209680"/>
          </a:xfrm>
        </p:grpSpPr>
        <p:sp>
          <p:nvSpPr>
            <p:cNvPr id="61" name=""/>
            <p:cNvSpPr/>
            <p:nvPr/>
          </p:nvSpPr>
          <p:spPr>
            <a:xfrm>
              <a:off x="5667480" y="5138640"/>
              <a:ext cx="533160" cy="5335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943600" y="4285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324480" y="5427720"/>
              <a:ext cx="7621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43600" y="5733360"/>
              <a:ext cx="144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723920" y="5426280"/>
              <a:ext cx="76212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76920" y="50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087880" y="4528440"/>
              <a:ext cx="49068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261840" y="4649400"/>
              <a:ext cx="582840" cy="49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30520" y="5671440"/>
              <a:ext cx="49068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038560" y="5699880"/>
              <a:ext cx="5846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447920" y="4285800"/>
            <a:ext cx="2361960" cy="2209680"/>
            <a:chOff x="1447920" y="4285800"/>
            <a:chExt cx="2361960" cy="2209680"/>
          </a:xfrm>
        </p:grpSpPr>
        <p:sp>
          <p:nvSpPr>
            <p:cNvPr id="72" name=""/>
            <p:cNvSpPr/>
            <p:nvPr/>
          </p:nvSpPr>
          <p:spPr>
            <a:xfrm>
              <a:off x="2390760" y="5124600"/>
              <a:ext cx="533520" cy="5331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66880" y="428580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5427720"/>
              <a:ext cx="761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666520" y="5733360"/>
              <a:ext cx="18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1447920" y="5426280"/>
              <a:ext cx="7617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67080" y="513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1811160" y="4528440"/>
              <a:ext cx="49104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5120" y="4649400"/>
              <a:ext cx="582840" cy="49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54160" y="5671440"/>
              <a:ext cx="491040" cy="58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761840" y="5699880"/>
              <a:ext cx="5846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Point Charge in an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105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(magnitude) for a point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d as a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-point charge can be treated as a point charge as well, when the separation distance is much greater than the radius of the charged object, i.e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bjec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&lt; r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for fin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ing the point charg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electric field vectors for individual charges are additive, treat small charge elements within a continuous charge distribution as individual point charges (dq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52720" y="1711440"/>
          <a:ext cx="227340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1711440"/>
                    <a:ext cx="22734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70040" y="5450040"/>
          <a:ext cx="7281720" cy="10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5450040"/>
                    <a:ext cx="72817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7192800" y="839880"/>
          <a:ext cx="1722600" cy="88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92800" y="839880"/>
                    <a:ext cx="17226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Point Charge in an Electr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ting on a point charge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an electric field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rection of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 the direction of E for positiv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opposite E for negativ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805360" y="1639800"/>
          <a:ext cx="16844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5360" y="1639800"/>
                    <a:ext cx="16844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(due to an electric dipol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dipole consists of 2 identical but opposite sign electric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lines emanate from the positive pole and terminate at the negative po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learly the electric field is a complicated function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In gene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ip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    ax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The image “http://hyperphysics.phy-astr.gsu.edu/hbase/electric/imgele/edip2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006880" y="2575080"/>
            <a:ext cx="4137120" cy="37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958680" y="2962440"/>
          <a:ext cx="386424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8680" y="2962440"/>
                    <a:ext cx="386424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7160" y="5207040"/>
          <a:ext cx="7692840" cy="169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7160" y="5207040"/>
                    <a:ext cx="7692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73680" y="4782960"/>
          <a:ext cx="20808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3680" y="4782960"/>
                    <a:ext cx="208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192640" y="3065400"/>
          <a:ext cx="27468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92640" y="3065400"/>
                    <a:ext cx="2746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V="1">
            <a:off x="5630760" y="3003480"/>
            <a:ext cx="0" cy="59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145360" y="3598920"/>
            <a:ext cx="0" cy="1582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59920" y="4381560"/>
          <a:ext cx="450720" cy="768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59920" y="4381560"/>
                    <a:ext cx="45072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line of charge (length, L) with a continuous, uniform charge dens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at position, R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(due to a line of charg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76320" y="3570120"/>
          <a:ext cx="704052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3570120"/>
                    <a:ext cx="704052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001960" y="5629320"/>
          <a:ext cx="184284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1960" y="5629320"/>
                    <a:ext cx="1842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4267080" y="1494000"/>
            <a:ext cx="4778640" cy="2017440"/>
            <a:chOff x="4267080" y="1494000"/>
            <a:chExt cx="4778640" cy="2017440"/>
          </a:xfrm>
        </p:grpSpPr>
        <p:grpSp>
          <p:nvGrpSpPr>
            <p:cNvPr id="116" name=""/>
            <p:cNvGrpSpPr/>
            <p:nvPr/>
          </p:nvGrpSpPr>
          <p:grpSpPr>
            <a:xfrm>
              <a:off x="4411800" y="1795320"/>
              <a:ext cx="4633920" cy="398880"/>
              <a:chOff x="4411800" y="1795320"/>
              <a:chExt cx="4633920" cy="398880"/>
            </a:xfrm>
          </p:grpSpPr>
          <p:sp>
            <p:nvSpPr>
              <p:cNvPr id="117" name=""/>
              <p:cNvSpPr/>
              <p:nvPr/>
            </p:nvSpPr>
            <p:spPr>
              <a:xfrm rot="16200000">
                <a:off x="6540480" y="-268560"/>
                <a:ext cx="273240" cy="4530960"/>
              </a:xfrm>
              <a:prstGeom prst="can">
                <a:avLst>
                  <a:gd name="adj" fmla="val 23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475520" y="1795320"/>
                <a:ext cx="457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+ + + + + + + + + + + + + + + + + + 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6664320" y="2160720"/>
              <a:ext cx="0" cy="10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4320" y="2389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524640" y="2808360"/>
              <a:ext cx="46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02320" y="2131920"/>
              <a:ext cx="18889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6400" y="24843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43440" y="20462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4680" y="149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14760" y="1862280"/>
              <a:ext cx="266760" cy="253800"/>
            </a:xfrm>
            <a:prstGeom prst="rect">
              <a:avLst/>
            </a:prstGeom>
            <a:solidFill>
              <a:srgbClr val="ffcccc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04120" y="154944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6807240" y="2952720"/>
            <a:ext cx="1036440" cy="558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7240" y="2952720"/>
                      <a:ext cx="103644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6194520" y="256716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0200600">
              <a:off x="6386040" y="2753280"/>
              <a:ext cx="481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8626320" y="2205000"/>
            <a:ext cx="406440" cy="563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626320" y="2205000"/>
                      <a:ext cx="406440" cy="5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4267080" y="2158920"/>
            <a:ext cx="355680" cy="598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67080" y="2158920"/>
                      <a:ext cx="355680" cy="5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The Derivation: Line of Charge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following ident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for the electric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0080" y="2395440"/>
          <a:ext cx="8924760" cy="42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2395440"/>
                    <a:ext cx="892476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31960" y="1414440"/>
          <a:ext cx="704376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1414440"/>
                    <a:ext cx="7043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ield (due to a flat disc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charged disc of uniform charge, dq can be defined by: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q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2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d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at P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62040" y="2365200"/>
          <a:ext cx="7570800" cy="19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365200"/>
                    <a:ext cx="757080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747960" y="5281560"/>
          <a:ext cx="5167440" cy="13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47960" y="5281560"/>
                    <a:ext cx="51674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" name=""/>
          <p:cNvGrpSpPr/>
          <p:nvPr/>
        </p:nvGrpSpPr>
        <p:grpSpPr>
          <a:xfrm>
            <a:off x="200160" y="2766960"/>
            <a:ext cx="7877520" cy="3859200"/>
            <a:chOff x="200160" y="2766960"/>
            <a:chExt cx="7877520" cy="3859200"/>
          </a:xfrm>
        </p:grpSpPr>
        <p:grpSp>
          <p:nvGrpSpPr>
            <p:cNvPr id="149" name=""/>
            <p:cNvGrpSpPr/>
            <p:nvPr/>
          </p:nvGrpSpPr>
          <p:grpSpPr>
            <a:xfrm>
              <a:off x="200160" y="2766960"/>
              <a:ext cx="5132160" cy="3859200"/>
              <a:chOff x="200160" y="2766960"/>
              <a:chExt cx="5132160" cy="3859200"/>
            </a:xfrm>
          </p:grpSpPr>
          <p:sp>
            <p:nvSpPr>
              <p:cNvPr id="150" name=""/>
              <p:cNvSpPr/>
              <p:nvPr/>
            </p:nvSpPr>
            <p:spPr>
              <a:xfrm rot="5400000">
                <a:off x="-1058400" y="4025520"/>
                <a:ext cx="3859200" cy="1342080"/>
              </a:xfrm>
              <a:prstGeom prst="can">
                <a:avLst>
                  <a:gd name="adj" fmla="val 50000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49560" y="4685040"/>
                <a:ext cx="408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091520" y="3645360"/>
                <a:ext cx="286560" cy="205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151600" y="4336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3640" y="43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074600" y="3045960"/>
              <a:ext cx="174600" cy="1623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00520" y="3147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104840" y="4699080"/>
              <a:ext cx="144360" cy="490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6880" y="46116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249560" y="4344480"/>
              <a:ext cx="5472000" cy="135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24200" y="5221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72280" y="4678200"/>
              <a:ext cx="7110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6115320" y="4263840"/>
            <a:ext cx="433080" cy="69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15320" y="4263840"/>
                      <a:ext cx="43308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3724560" y="4630680"/>
              <a:ext cx="3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558400">
              <a:off x="4017240" y="4080240"/>
              <a:ext cx="3907440" cy="182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52" y="6375"/>
                  </a:moveTo>
                  <a:arcTo wR="10800" hR="10800" stAng="-1451368" swAng="1090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52" y="6375"/>
                  </a:moveTo>
                  <a:arcTo wR="10800" hR="10800" stAng="-1451368" swAng="1090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10T18:05:32Z</dcterms:modified>
  <cp:revision>87</cp:revision>
  <dc:subject/>
  <dc:title>Phy 211: General Physics I</dc:title>
</cp:coreProperties>
</file>