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26.png" ContentType="image/png"/>
  <Override PartName="/ppt/media/image5.wmf" ContentType="image/x-wmf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9A68B-A6A9-4F59-B655-839675D3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with H atom (1 p &amp; 1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506-0B4B-4383-AD9D-0ED38A33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D41-8DBA-424E-8A14-52116F8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4E2-E417-4031-83FA-AE186DE2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E44-7D4E-405B-91F6-D7D76422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C9C-40BB-4C65-9B06-5E3E5B8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931-B5B1-4026-9CFE-A30889E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847-0DED-481C-A53F-F3BB3CA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E1B-4904-4534-8F7C-12415A02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BF5-495B-4947-8F67-0ED75DB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D7-4899-4051-9D2E-A494BCC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605-3914-44D1-B314-87C67AF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CBF-1562-426F-8A66-AE4D397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447-8982-4E46-AE1F-79FF5AF4F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1: Electric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Energy vs Distance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for 1 proton &amp; 1 electr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 flipV="1">
            <a:off x="5398560" y="2263320"/>
            <a:ext cx="552600" cy="6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27417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dius of Hydro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Tale of 2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omb’s Law is structurally similar to another familiar force law, Newton’s Law of Gravi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a coincidence… eh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cteristics of Newton’s Universal Law of Grav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ways attractive between 2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roportional to the magnitude of each mass in the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versely proportional to the square of the separatio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is the Universal Gravitation Constant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=6.773x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-1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kg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 Newton’s Universal Law of Gravitation pre-dates Coulomb’s Law by several deca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9360" y="2049480"/>
          <a:ext cx="22464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2049480"/>
                    <a:ext cx="22464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702320" y="2065320"/>
          <a:ext cx="249696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2320" y="2065320"/>
                    <a:ext cx="24969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1287000" y="4579920"/>
            <a:ext cx="5505840" cy="864000"/>
            <a:chOff x="1287000" y="4579920"/>
            <a:chExt cx="5505840" cy="864000"/>
          </a:xfrm>
        </p:grpSpPr>
        <p:grpSp>
          <p:nvGrpSpPr>
            <p:cNvPr id="197" name=""/>
            <p:cNvGrpSpPr/>
            <p:nvPr/>
          </p:nvGrpSpPr>
          <p:grpSpPr>
            <a:xfrm>
              <a:off x="2130480" y="4910040"/>
              <a:ext cx="652320" cy="517320"/>
              <a:chOff x="2130480" y="4910040"/>
              <a:chExt cx="652320" cy="517320"/>
            </a:xfrm>
          </p:grpSpPr>
          <p:sp>
            <p:nvSpPr>
              <p:cNvPr id="198" name=""/>
              <p:cNvSpPr/>
              <p:nvPr/>
            </p:nvSpPr>
            <p:spPr>
              <a:xfrm>
                <a:off x="2206440" y="494640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30480" y="4910040"/>
                <a:ext cx="652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H="1">
              <a:off x="2771280" y="5221440"/>
              <a:ext cx="2584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1" name=""/>
            <p:cNvGraphicFramePr/>
            <p:nvPr/>
          </p:nvGraphicFramePr>
          <p:xfrm>
            <a:off x="3919680" y="4830840"/>
            <a:ext cx="264960" cy="36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19680" y="4830840"/>
                      <a:ext cx="2649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5970600" y="518472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159600" y="4579920"/>
            <a:ext cx="461880" cy="66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9600" y="4579920"/>
                      <a:ext cx="4618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6" name=""/>
            <p:cNvGrpSpPr/>
            <p:nvPr/>
          </p:nvGrpSpPr>
          <p:grpSpPr>
            <a:xfrm>
              <a:off x="5351400" y="4933800"/>
              <a:ext cx="652320" cy="510120"/>
              <a:chOff x="5351400" y="4933800"/>
              <a:chExt cx="652320" cy="510120"/>
            </a:xfrm>
          </p:grpSpPr>
          <p:sp>
            <p:nvSpPr>
              <p:cNvPr id="207" name=""/>
              <p:cNvSpPr/>
              <p:nvPr/>
            </p:nvSpPr>
            <p:spPr>
              <a:xfrm>
                <a:off x="5427360" y="4959000"/>
                <a:ext cx="51120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51400" y="4933800"/>
                <a:ext cx="652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1287000" y="521640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1476360" y="4611600"/>
            <a:ext cx="461880" cy="66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76360" y="4611600"/>
                      <a:ext cx="4618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9360" y="1254240"/>
            <a:ext cx="4892760" cy="3190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00520" y="3049560"/>
            <a:ext cx="5038560" cy="3598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vitational Force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 1 kg mass due to a point mass earth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357440" y="5210280"/>
            <a:ext cx="8794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07040" y="54943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41880" y="428004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km above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4789440"/>
            <a:ext cx="541440" cy="23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11440" y="1452240"/>
            <a:ext cx="92736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5200" y="2027160"/>
            <a:ext cx="13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1800" y="4649760"/>
            <a:ext cx="2027520" cy="1839960"/>
          </a:xfrm>
          <a:prstGeom prst="ellipse">
            <a:avLst/>
          </a:prstGeom>
          <a:solidFill>
            <a:srgbClr val="bbe0e3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00320" y="5508720"/>
            <a:ext cx="1094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9800" y="4676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41640" y="60721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arth as a point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39920" y="4910040"/>
            <a:ext cx="1092240" cy="65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24240" y="4780080"/>
            <a:ext cx="164880" cy="1760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40160" y="465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2320" y="5127480"/>
            <a:ext cx="4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429920" y="5616720"/>
            <a:ext cx="825480" cy="60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4760" y="1387440"/>
            <a:ext cx="290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Gravitational force at the surface of the earth is nearly constant over 30 k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760" y="1152360"/>
            <a:ext cx="5019480" cy="338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073400" y="2849400"/>
            <a:ext cx="4946760" cy="3664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vitational Potential Energy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 1 kg mass due to a point mass earth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70520" y="4608360"/>
            <a:ext cx="534960" cy="84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72200" y="425916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46800" y="4340160"/>
            <a:ext cx="14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km above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185320" y="3470400"/>
            <a:ext cx="541080" cy="83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45000" y="1585800"/>
            <a:ext cx="927000" cy="74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98760" y="216072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4649760"/>
            <a:ext cx="2027520" cy="1839960"/>
          </a:xfrm>
          <a:prstGeom prst="ellipse">
            <a:avLst/>
          </a:prstGeom>
          <a:solidFill>
            <a:srgbClr val="cc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0320" y="5508720"/>
            <a:ext cx="1094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09800" y="4676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41640" y="60721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arth as a point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339920" y="4910040"/>
            <a:ext cx="1092240" cy="65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24240" y="4780080"/>
            <a:ext cx="164880" cy="1760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40160" y="465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2320" y="5127480"/>
            <a:ext cx="4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429920" y="5616720"/>
            <a:ext cx="825480" cy="60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23040" y="142884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Gravitational Potential Energy is nearly linear from the surface of the earth to over 30 k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9680" y="367020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=294 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3367080"/>
            <a:ext cx="3789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68720" y="5624640"/>
            <a:ext cx="3789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48440" y="3336840"/>
            <a:ext cx="1800" cy="22417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37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" y="861840"/>
            <a:ext cx="901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insic property of fundamental matter, i.e. protons &amp;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charge is the coulomb (C)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rived from the base SI unit of electric current the amp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types (polarities)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(+): e.g. protons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(-): e.g. electrons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&amp; molecules have no net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 # of protons &amp;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&amp; electrons have the same magnitude but opposit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charges attrac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2320920"/>
          <a:ext cx="667548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20920"/>
                    <a:ext cx="667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ors &amp; Insul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2376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duc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erials that allow the movement of electric charge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will repel itself pushing all excess charge to the surface of the 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quilibrium conditions, all excess charge resides along the surface of the 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lectric charge flows along a conductor (i.e. electricity) it flows along the su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ink about the implicatio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inside a conductor is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sul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erials that do not allow the flow of electric charge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will remain fixed (or sta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can be inside an insulator or along its surface and does not have to be uniform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inside insulator depends on orientation and quantity of exces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rge Quantization &amp; Conserv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harg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ary unit of charge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= 1.602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net charge for any matt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the number of elementary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harg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known process that can change the charge of something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ny process the total net charge must remain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During “beta” decay, a neutron splits into a proton &amp; an electr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9760" y="5607000"/>
          <a:ext cx="294984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9760" y="5607000"/>
                    <a:ext cx="294984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41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 between electric charge pairs is referred to as electric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the electric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the magnitude of each charge in the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ly proportional to the square of the separation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opposite sign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ike sign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13200" y="5694480"/>
            <a:ext cx="652680" cy="581400"/>
            <a:chOff x="4813200" y="5694480"/>
            <a:chExt cx="652680" cy="581400"/>
          </a:xfrm>
        </p:grpSpPr>
        <p:sp>
          <p:nvSpPr>
            <p:cNvPr id="65" name=""/>
            <p:cNvSpPr/>
            <p:nvPr/>
          </p:nvSpPr>
          <p:spPr>
            <a:xfrm>
              <a:off x="4889520" y="5786280"/>
              <a:ext cx="511200" cy="4813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3200" y="569448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H="1">
            <a:off x="5446800" y="6049800"/>
            <a:ext cx="822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653080" y="5400720"/>
          <a:ext cx="43020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5400720"/>
                    <a:ext cx="430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H="1">
            <a:off x="7505640" y="6048360"/>
            <a:ext cx="822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743960" y="5398920"/>
          <a:ext cx="4302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3960" y="5398920"/>
                    <a:ext cx="430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4811760" y="4483080"/>
            <a:ext cx="4150800" cy="880920"/>
            <a:chOff x="4811760" y="4483080"/>
            <a:chExt cx="4150800" cy="880920"/>
          </a:xfrm>
        </p:grpSpPr>
        <p:grpSp>
          <p:nvGrpSpPr>
            <p:cNvPr id="74" name=""/>
            <p:cNvGrpSpPr/>
            <p:nvPr/>
          </p:nvGrpSpPr>
          <p:grpSpPr>
            <a:xfrm>
              <a:off x="4811760" y="4870440"/>
              <a:ext cx="652320" cy="480960"/>
              <a:chOff x="4811760" y="4870440"/>
              <a:chExt cx="652320" cy="48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887720" y="48704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11760" y="48895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310240" y="4883040"/>
              <a:ext cx="652320" cy="480960"/>
              <a:chOff x="8310240" y="4883040"/>
              <a:chExt cx="652320" cy="480960"/>
            </a:xfrm>
          </p:grpSpPr>
          <p:sp>
            <p:nvSpPr>
              <p:cNvPr id="78" name=""/>
              <p:cNvSpPr/>
              <p:nvPr/>
            </p:nvSpPr>
            <p:spPr>
              <a:xfrm>
                <a:off x="8386200" y="48830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10240" y="49021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5444640" y="5133960"/>
              <a:ext cx="821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5651280" y="4484520"/>
            <a:ext cx="429840" cy="66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51280" y="4484520"/>
                      <a:ext cx="42984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 flipH="1">
              <a:off x="7503480" y="5132160"/>
              <a:ext cx="821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742160" y="4483080"/>
            <a:ext cx="429840" cy="66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2160" y="4483080"/>
                      <a:ext cx="42984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8299440" y="5705640"/>
            <a:ext cx="652320" cy="581400"/>
            <a:chOff x="8299440" y="5705640"/>
            <a:chExt cx="652320" cy="581400"/>
          </a:xfrm>
        </p:grpSpPr>
        <p:sp>
          <p:nvSpPr>
            <p:cNvPr id="87" name=""/>
            <p:cNvSpPr/>
            <p:nvPr/>
          </p:nvSpPr>
          <p:spPr>
            <a:xfrm>
              <a:off x="8375400" y="5797440"/>
              <a:ext cx="510840" cy="4813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99440" y="5705640"/>
              <a:ext cx="6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79360" y="4932360"/>
            <a:ext cx="3978360" cy="925560"/>
            <a:chOff x="279360" y="4932360"/>
            <a:chExt cx="3978360" cy="925560"/>
          </a:xfrm>
        </p:grpSpPr>
        <p:grpSp>
          <p:nvGrpSpPr>
            <p:cNvPr id="90" name=""/>
            <p:cNvGrpSpPr/>
            <p:nvPr/>
          </p:nvGrpSpPr>
          <p:grpSpPr>
            <a:xfrm>
              <a:off x="1071720" y="5376960"/>
              <a:ext cx="652320" cy="480960"/>
              <a:chOff x="1071720" y="5376960"/>
              <a:chExt cx="652320" cy="480960"/>
            </a:xfrm>
          </p:grpSpPr>
          <p:sp>
            <p:nvSpPr>
              <p:cNvPr id="91" name=""/>
              <p:cNvSpPr/>
              <p:nvPr/>
            </p:nvSpPr>
            <p:spPr>
              <a:xfrm>
                <a:off x="1147680" y="537696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1720" y="539604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279360" y="564048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485640" y="4991040"/>
            <a:ext cx="430200" cy="66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5640" y="499104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 flipH="1">
              <a:off x="3435480" y="558180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3673440" y="4932360"/>
            <a:ext cx="430200" cy="66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73440" y="493236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" name=""/>
            <p:cNvGrpSpPr/>
            <p:nvPr/>
          </p:nvGrpSpPr>
          <p:grpSpPr>
            <a:xfrm>
              <a:off x="2805120" y="5259240"/>
              <a:ext cx="652320" cy="581400"/>
              <a:chOff x="2805120" y="5259240"/>
              <a:chExt cx="652320" cy="581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881080" y="535104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05120" y="525924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ulomb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360" y="921960"/>
            <a:ext cx="8839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active/repulsive force between charges is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ic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remember forces are vecto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electric force between 2 point charges can be determined by Coulomb’s La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8.99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oulomb’s consta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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alled the “permittivity” consta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the separation distance between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magnitudes of the point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rted on a charge is along the line of separation between the charges (   ) and is determined by the sign of the charges when     originates from the opposit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8920" y="5618160"/>
          <a:ext cx="209376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5618160"/>
                    <a:ext cx="209376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131920" y="2297160"/>
          <a:ext cx="439740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1920" y="2297160"/>
                    <a:ext cx="4397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252960" y="4973760"/>
          <a:ext cx="1854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2960" y="4973760"/>
                    <a:ext cx="185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76280" y="5237280"/>
          <a:ext cx="22716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6280" y="5237280"/>
                    <a:ext cx="227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466560" y="5670720"/>
            <a:ext cx="4662360" cy="869760"/>
            <a:chOff x="466560" y="5670720"/>
            <a:chExt cx="4662360" cy="869760"/>
          </a:xfrm>
        </p:grpSpPr>
        <p:grpSp>
          <p:nvGrpSpPr>
            <p:cNvPr id="113" name=""/>
            <p:cNvGrpSpPr/>
            <p:nvPr/>
          </p:nvGrpSpPr>
          <p:grpSpPr>
            <a:xfrm>
              <a:off x="466560" y="6059520"/>
              <a:ext cx="652680" cy="480960"/>
              <a:chOff x="466560" y="6059520"/>
              <a:chExt cx="652680" cy="480960"/>
            </a:xfrm>
          </p:grpSpPr>
          <p:sp>
            <p:nvSpPr>
              <p:cNvPr id="114" name=""/>
              <p:cNvSpPr/>
              <p:nvPr/>
            </p:nvSpPr>
            <p:spPr>
              <a:xfrm>
                <a:off x="542880" y="605952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6560" y="6078600"/>
                <a:ext cx="6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1107720" y="6311880"/>
              <a:ext cx="2584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074680" y="5761080"/>
            <a:ext cx="297000" cy="463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74680" y="5761080"/>
                      <a:ext cx="29700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4306320" y="627552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511520" y="5670720"/>
            <a:ext cx="430200" cy="66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11520" y="567072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"/>
            <p:cNvGrpSpPr/>
            <p:nvPr/>
          </p:nvGrpSpPr>
          <p:grpSpPr>
            <a:xfrm>
              <a:off x="3687840" y="5931000"/>
              <a:ext cx="652320" cy="581400"/>
              <a:chOff x="3687840" y="5931000"/>
              <a:chExt cx="652320" cy="581400"/>
            </a:xfrm>
          </p:grpSpPr>
          <p:sp>
            <p:nvSpPr>
              <p:cNvPr id="123" name=""/>
              <p:cNvSpPr/>
              <p:nvPr/>
            </p:nvSpPr>
            <p:spPr>
              <a:xfrm>
                <a:off x="3763800" y="602280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87840" y="593100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 flipH="1" flipV="1">
            <a:off x="6616440" y="285732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28954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e most common form of the eq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Vector Nature of Electr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electric charge interacts with multiple charges, the electric force vector between each charge adds independently as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92320" y="4908600"/>
          <a:ext cx="576108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4908600"/>
                    <a:ext cx="576108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52520" y="2489040"/>
            <a:ext cx="6411960" cy="3524760"/>
            <a:chOff x="452520" y="2489040"/>
            <a:chExt cx="6411960" cy="3524760"/>
          </a:xfrm>
        </p:grpSpPr>
        <p:grpSp>
          <p:nvGrpSpPr>
            <p:cNvPr id="132" name=""/>
            <p:cNvGrpSpPr/>
            <p:nvPr/>
          </p:nvGrpSpPr>
          <p:grpSpPr>
            <a:xfrm>
              <a:off x="1681560" y="2960640"/>
              <a:ext cx="652320" cy="480960"/>
              <a:chOff x="1681560" y="2960640"/>
              <a:chExt cx="652320" cy="480960"/>
            </a:xfrm>
          </p:grpSpPr>
          <p:sp>
            <p:nvSpPr>
              <p:cNvPr id="133" name=""/>
              <p:cNvSpPr/>
              <p:nvPr/>
            </p:nvSpPr>
            <p:spPr>
              <a:xfrm>
                <a:off x="1757520" y="29606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81560" y="29797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2005200" y="3519360"/>
              <a:ext cx="0" cy="80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2087640" y="3576600"/>
            <a:ext cx="2205360" cy="91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87640" y="3576600"/>
                      <a:ext cx="22053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1716480" y="5524200"/>
              <a:ext cx="510840" cy="4809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40160" y="5432400"/>
              <a:ext cx="6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51040" y="3371760"/>
              <a:ext cx="852480" cy="60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212160" y="2979720"/>
              <a:ext cx="652320" cy="480960"/>
              <a:chOff x="6212160" y="2979720"/>
              <a:chExt cx="652320" cy="480960"/>
            </a:xfrm>
          </p:grpSpPr>
          <p:sp>
            <p:nvSpPr>
              <p:cNvPr id="142" name=""/>
              <p:cNvSpPr/>
              <p:nvPr/>
            </p:nvSpPr>
            <p:spPr>
              <a:xfrm>
                <a:off x="6288480" y="297972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12160" y="299880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350800" y="3230280"/>
              <a:ext cx="822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2621160" y="2489040"/>
            <a:ext cx="2200320" cy="93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21160" y="2489040"/>
                      <a:ext cx="220032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452520" y="3592440"/>
            <a:ext cx="709920" cy="67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2520" y="3592440"/>
                      <a:ext cx="70992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6291360" y="253368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7920" y="553572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0920" y="261288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ectric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49240"/>
            <a:ext cx="8839440" cy="59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roton and electron separated by 1.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ic force exerted on the electron by the pro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 would it take to move the electron halfway to the proton?  Assume the proton is f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energy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ce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conservative force, W performed at the expense of the electric potential energy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41400" y="2374920"/>
          <a:ext cx="34862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2374920"/>
                    <a:ext cx="34862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2376360" y="1274760"/>
            <a:ext cx="3978000" cy="770400"/>
            <a:chOff x="2376360" y="1274760"/>
            <a:chExt cx="3978000" cy="770400"/>
          </a:xfrm>
        </p:grpSpPr>
        <p:grpSp>
          <p:nvGrpSpPr>
            <p:cNvPr id="157" name=""/>
            <p:cNvGrpSpPr/>
            <p:nvPr/>
          </p:nvGrpSpPr>
          <p:grpSpPr>
            <a:xfrm>
              <a:off x="3168360" y="1549440"/>
              <a:ext cx="652680" cy="480960"/>
              <a:chOff x="3168360" y="1549440"/>
              <a:chExt cx="652680" cy="480960"/>
            </a:xfrm>
          </p:grpSpPr>
          <p:sp>
            <p:nvSpPr>
              <p:cNvPr id="158" name=""/>
              <p:cNvSpPr/>
              <p:nvPr/>
            </p:nvSpPr>
            <p:spPr>
              <a:xfrm>
                <a:off x="3244680" y="154944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68360" y="1568520"/>
                <a:ext cx="6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2376360" y="181296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2660400" y="1282680"/>
            <a:ext cx="35244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0400" y="1282680"/>
                      <a:ext cx="352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 flipH="1">
              <a:off x="5531760" y="178596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902120" y="1463760"/>
              <a:ext cx="652320" cy="581400"/>
              <a:chOff x="4902120" y="1463760"/>
              <a:chExt cx="652320" cy="581400"/>
            </a:xfrm>
          </p:grpSpPr>
          <p:sp>
            <p:nvSpPr>
              <p:cNvPr id="165" name=""/>
              <p:cNvSpPr/>
              <p:nvPr/>
            </p:nvSpPr>
            <p:spPr>
              <a:xfrm>
                <a:off x="4978080" y="155556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2120" y="146376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5786280" y="1274760"/>
            <a:ext cx="35244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86280" y="1274760"/>
                      <a:ext cx="352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9" name=""/>
          <p:cNvGraphicFramePr/>
          <p:nvPr/>
        </p:nvGraphicFramePr>
        <p:xfrm>
          <a:off x="434880" y="3921120"/>
          <a:ext cx="19288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880" y="3921120"/>
                    <a:ext cx="1928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838600" y="3738600"/>
          <a:ext cx="6205320" cy="19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8600" y="3738600"/>
                    <a:ext cx="620532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322360" y="4168800"/>
            <a:ext cx="3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924600" y="6259680"/>
          <a:ext cx="131436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4600" y="6259680"/>
                    <a:ext cx="13143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79760" y="1143000"/>
          <a:ext cx="37476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79760" y="1143000"/>
                    <a:ext cx="374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13120" y="1138320"/>
          <a:ext cx="392400" cy="46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3120" y="1138320"/>
                    <a:ext cx="392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899320" y="2454120"/>
          <a:ext cx="206676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99320" y="2454120"/>
                    <a:ext cx="2066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orce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n electron due to a single prot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21752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5528880" y="1871280"/>
            <a:ext cx="552600" cy="6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9800" y="23493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dius of Hydro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3T19:52:38Z</dcterms:modified>
  <cp:revision>85</cp:revision>
  <dc:subject/>
  <dc:title>Phy 211: General Physics I</dc:title>
</cp:coreProperties>
</file>