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1.wmf" ContentType="image/x-wmf"/>
  <Override PartName="/ppt/media/image26.png" ContentType="image/png"/>
  <Override PartName="/ppt/media/image5.wmf" ContentType="image/x-wmf"/>
  <Override PartName="/ppt/media/image28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1.wmf" ContentType="image/x-wmf"/>
  <Override PartName="/ppt/media/image6.wmf" ContentType="image/x-wmf"/>
  <Override PartName="/ppt/media/image32.png" ContentType="image/pn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18.wmf" ContentType="image/x-wmf"/>
  <Override PartName="/ppt/media/image10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5D4C7-BA42-42DD-841A-8FB1F8531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 with H atom (1 p &amp; 1 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3 or more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8CC-FA07-4B13-9631-D489AE69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DAC-85D5-4EA4-AF2C-F722F106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358-5699-4765-A898-0DAF6515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A18-373E-4652-86C9-F09662784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628-16D8-4B15-B8D8-AF404A5D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025E-F134-4A78-9B51-0286E4CC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CC4-017B-46A8-A985-BDC40B79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8FF-D189-47B3-B5EC-669BCDBD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89F-45A1-4AF3-991B-A2EC0BD0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805-61ED-42BB-BBDA-F3130A11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FF0-EAAE-4B83-8B31-9A3E8C7C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A4D-3F1E-4F02-9CA9-546E55D1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29DD-556C-42AE-8EED-A13ABBECF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1: Electric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7584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Energy vs Distance 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(for 1 proton &amp; 1 electron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 flipV="1">
            <a:off x="5398560" y="2263320"/>
            <a:ext cx="552600" cy="6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19840" y="2741760"/>
            <a:ext cx="16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dius of Hydroge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Tale of 2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omb’s Law is structurally similar to another familiar force law, Newton’s Law of Gravit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at a coincidence… eh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acteristics of Newton’s Universal Law of Grav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lways attractive between 2 m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proportional to the magnitude of each mass in the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inversely proportional to the square of the separation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is the Universal Gravitation Constant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=6.773x10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-1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/kg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 Newton’s Universal Law of Gravitation pre-dates Coulomb’s Law by several decad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49360" y="2049480"/>
          <a:ext cx="224640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9360" y="2049480"/>
                    <a:ext cx="22464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702320" y="2065320"/>
          <a:ext cx="2496960" cy="9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2320" y="2065320"/>
                    <a:ext cx="24969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"/>
          <p:cNvGrpSpPr/>
          <p:nvPr/>
        </p:nvGrpSpPr>
        <p:grpSpPr>
          <a:xfrm>
            <a:off x="1287000" y="4579920"/>
            <a:ext cx="5505840" cy="864000"/>
            <a:chOff x="1287000" y="4579920"/>
            <a:chExt cx="5505840" cy="864000"/>
          </a:xfrm>
        </p:grpSpPr>
        <p:grpSp>
          <p:nvGrpSpPr>
            <p:cNvPr id="197" name=""/>
            <p:cNvGrpSpPr/>
            <p:nvPr/>
          </p:nvGrpSpPr>
          <p:grpSpPr>
            <a:xfrm>
              <a:off x="2130480" y="4910040"/>
              <a:ext cx="652320" cy="517320"/>
              <a:chOff x="2130480" y="4910040"/>
              <a:chExt cx="652320" cy="517320"/>
            </a:xfrm>
          </p:grpSpPr>
          <p:sp>
            <p:nvSpPr>
              <p:cNvPr id="198" name=""/>
              <p:cNvSpPr/>
              <p:nvPr/>
            </p:nvSpPr>
            <p:spPr>
              <a:xfrm>
                <a:off x="2206440" y="4946400"/>
                <a:ext cx="51084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30480" y="4910040"/>
                <a:ext cx="652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 flipH="1">
              <a:off x="2771280" y="5221440"/>
              <a:ext cx="2584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1" name=""/>
            <p:cNvGraphicFramePr/>
            <p:nvPr/>
          </p:nvGraphicFramePr>
          <p:xfrm>
            <a:off x="3919680" y="4830840"/>
            <a:ext cx="264960" cy="363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19680" y="4830840"/>
                      <a:ext cx="26496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 flipH="1">
              <a:off x="5970600" y="5184720"/>
              <a:ext cx="822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4" name=""/>
            <p:cNvGraphicFramePr/>
            <p:nvPr/>
          </p:nvGraphicFramePr>
          <p:xfrm>
            <a:off x="6159600" y="4579920"/>
            <a:ext cx="461880" cy="662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9600" y="4579920"/>
                      <a:ext cx="46188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6" name=""/>
            <p:cNvGrpSpPr/>
            <p:nvPr/>
          </p:nvGrpSpPr>
          <p:grpSpPr>
            <a:xfrm>
              <a:off x="5351400" y="4933800"/>
              <a:ext cx="652320" cy="510120"/>
              <a:chOff x="5351400" y="4933800"/>
              <a:chExt cx="652320" cy="510120"/>
            </a:xfrm>
          </p:grpSpPr>
          <p:sp>
            <p:nvSpPr>
              <p:cNvPr id="207" name=""/>
              <p:cNvSpPr/>
              <p:nvPr/>
            </p:nvSpPr>
            <p:spPr>
              <a:xfrm>
                <a:off x="5427360" y="4959000"/>
                <a:ext cx="511200" cy="48132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51400" y="4933800"/>
                <a:ext cx="652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flipH="1">
              <a:off x="1287000" y="5216400"/>
              <a:ext cx="822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0" name=""/>
            <p:cNvGraphicFramePr/>
            <p:nvPr/>
          </p:nvGraphicFramePr>
          <p:xfrm>
            <a:off x="1476360" y="4611600"/>
            <a:ext cx="461880" cy="66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476360" y="4611600"/>
                      <a:ext cx="46188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79360" y="1254240"/>
            <a:ext cx="4892760" cy="31906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800520" y="3049560"/>
            <a:ext cx="5038560" cy="3598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9240" y="43668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avitational Force vs Distance </a:t>
            </a:r>
            <a:br>
              <a:rPr sz="3200"/>
            </a:b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(exerted on a 1 kg mass due to a point mass earth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357440" y="5210280"/>
            <a:ext cx="87948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07040" y="549432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41880" y="428004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km above 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4789440"/>
            <a:ext cx="541440" cy="23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511440" y="1452240"/>
            <a:ext cx="927360" cy="749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65200" y="2027160"/>
            <a:ext cx="13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1800" y="4649760"/>
            <a:ext cx="2027520" cy="1839960"/>
          </a:xfrm>
          <a:prstGeom prst="ellipse">
            <a:avLst/>
          </a:prstGeom>
          <a:solidFill>
            <a:srgbClr val="bbe0e3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00320" y="5508720"/>
            <a:ext cx="10944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09800" y="46767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41640" y="6072120"/>
            <a:ext cx="121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arth as a point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339920" y="4910040"/>
            <a:ext cx="1092240" cy="65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24240" y="4780080"/>
            <a:ext cx="164880" cy="176040"/>
          </a:xfrm>
          <a:prstGeom prst="ellipse">
            <a:avLst/>
          </a:prstGeom>
          <a:solidFill>
            <a:srgbClr val="ff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40160" y="46530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22320" y="5127480"/>
            <a:ext cx="4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429920" y="5616720"/>
            <a:ext cx="825480" cy="606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84760" y="1387440"/>
            <a:ext cx="290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The Gravitational force at the surface of the earth is nearly constant over 30 km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760" y="1152360"/>
            <a:ext cx="5019480" cy="3381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073400" y="2849400"/>
            <a:ext cx="4946760" cy="36640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9240" y="43668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avitational Potential Energy vs Distance </a:t>
            </a:r>
            <a:br>
              <a:rPr sz="3200"/>
            </a:b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(exerted on a 1 kg mass due to a point mass earth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970520" y="4608360"/>
            <a:ext cx="534960" cy="847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72200" y="425916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46800" y="4340160"/>
            <a:ext cx="14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km above 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185320" y="3470400"/>
            <a:ext cx="541080" cy="830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645000" y="1585800"/>
            <a:ext cx="927000" cy="74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98760" y="216072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1800" y="4649760"/>
            <a:ext cx="2027520" cy="1839960"/>
          </a:xfrm>
          <a:prstGeom prst="ellipse">
            <a:avLst/>
          </a:prstGeom>
          <a:solidFill>
            <a:srgbClr val="ccffff"/>
          </a:solidFill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00320" y="5508720"/>
            <a:ext cx="10944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09800" y="46767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41640" y="6072120"/>
            <a:ext cx="121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arth as a point m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339920" y="4910040"/>
            <a:ext cx="1092240" cy="65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24240" y="4780080"/>
            <a:ext cx="164880" cy="176040"/>
          </a:xfrm>
          <a:prstGeom prst="ellipse">
            <a:avLst/>
          </a:prstGeom>
          <a:solidFill>
            <a:srgbClr val="ff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40160" y="465300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2320" y="5127480"/>
            <a:ext cx="4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1429920" y="5616720"/>
            <a:ext cx="825480" cy="606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23040" y="1428840"/>
            <a:ext cx="34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The Gravitational Potential Energy is nearly linear from the surface of the earth to over 30 km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9680" y="367020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=294 k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48200" y="3367080"/>
            <a:ext cx="378936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68720" y="5624640"/>
            <a:ext cx="378936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48440" y="3336840"/>
            <a:ext cx="1800" cy="2241720"/>
          </a:xfrm>
          <a:prstGeom prst="line">
            <a:avLst/>
          </a:prstGeom>
          <a:ln cap="rnd" w="1908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376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" y="861840"/>
            <a:ext cx="9010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insic property of fundamental matter, i.e. protons &amp;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 of charge is the coulomb (C)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rived from the base SI unit of electric current the ampe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 types (polarities) of char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(+): e.g. protons 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+1.602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(-): e.g. electrons 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.602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&amp; molecules have no net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 # of protons &amp;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ns &amp; electrons have the same magnitude but opposite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ies of char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charges repel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charges attract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066680" y="2320920"/>
          <a:ext cx="6675480" cy="8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320920"/>
                    <a:ext cx="667548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ductors &amp; Insula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92376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3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onduc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erials that allow the movement of electric charge throug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charge will repel itself pushing all excess charge to the surface of the 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equilibrium conditions, all excess charge resides along the surface of the 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lectric charge flows along a conductor (i.e. electricity) it flows along the surfa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hink about the implication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field inside a conductor is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sul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erials that do not allow the flow of electric charge throug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charge will remain fixed (or sta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charge can be inside an insulator or along its surface and does not have to be uniformly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0520" indent="-37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charge inside insulator depends on orientation and quantity of excess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arge Quantization &amp; Conserv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 charg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mentary unit of charge: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 = 1.602 x 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net charge for any matt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 =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N is the number of elementary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 charg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known process that can change the charge of something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any process the total net charge must remain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During “beta” decay, a neutron splits into a proton &amp; an electr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09760" y="5607000"/>
          <a:ext cx="2949840" cy="10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9760" y="5607000"/>
                    <a:ext cx="294984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41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 between electric charge pairs is referred to as electric force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the electric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873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the magnitude of each charge in the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873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ly proportional to the square of the separation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87360"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ttr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opposite sign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5640" indent="-38736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ul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like sign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813200" y="5694480"/>
            <a:ext cx="652680" cy="581400"/>
            <a:chOff x="4813200" y="5694480"/>
            <a:chExt cx="652680" cy="581400"/>
          </a:xfrm>
        </p:grpSpPr>
        <p:sp>
          <p:nvSpPr>
            <p:cNvPr id="65" name=""/>
            <p:cNvSpPr/>
            <p:nvPr/>
          </p:nvSpPr>
          <p:spPr>
            <a:xfrm>
              <a:off x="4889520" y="5786280"/>
              <a:ext cx="511200" cy="4813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13200" y="5694480"/>
              <a:ext cx="6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 flipH="1">
            <a:off x="5446800" y="6049800"/>
            <a:ext cx="822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653080" y="5400720"/>
          <a:ext cx="43020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3080" y="5400720"/>
                    <a:ext cx="4302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 flipH="1">
            <a:off x="7505640" y="6048360"/>
            <a:ext cx="8222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743960" y="5398920"/>
          <a:ext cx="43020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3960" y="5398920"/>
                    <a:ext cx="4302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"/>
          <p:cNvGrpSpPr/>
          <p:nvPr/>
        </p:nvGrpSpPr>
        <p:grpSpPr>
          <a:xfrm>
            <a:off x="4811760" y="4483080"/>
            <a:ext cx="4150800" cy="880920"/>
            <a:chOff x="4811760" y="4483080"/>
            <a:chExt cx="4150800" cy="880920"/>
          </a:xfrm>
        </p:grpSpPr>
        <p:grpSp>
          <p:nvGrpSpPr>
            <p:cNvPr id="74" name=""/>
            <p:cNvGrpSpPr/>
            <p:nvPr/>
          </p:nvGrpSpPr>
          <p:grpSpPr>
            <a:xfrm>
              <a:off x="4811760" y="4870440"/>
              <a:ext cx="652320" cy="480960"/>
              <a:chOff x="4811760" y="4870440"/>
              <a:chExt cx="652320" cy="480960"/>
            </a:xfrm>
          </p:grpSpPr>
          <p:sp>
            <p:nvSpPr>
              <p:cNvPr id="75" name=""/>
              <p:cNvSpPr/>
              <p:nvPr/>
            </p:nvSpPr>
            <p:spPr>
              <a:xfrm>
                <a:off x="4887720" y="4870440"/>
                <a:ext cx="51084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11760" y="4889520"/>
                <a:ext cx="65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8310240" y="4883040"/>
              <a:ext cx="652320" cy="480960"/>
              <a:chOff x="8310240" y="4883040"/>
              <a:chExt cx="652320" cy="480960"/>
            </a:xfrm>
          </p:grpSpPr>
          <p:sp>
            <p:nvSpPr>
              <p:cNvPr id="78" name=""/>
              <p:cNvSpPr/>
              <p:nvPr/>
            </p:nvSpPr>
            <p:spPr>
              <a:xfrm>
                <a:off x="8386200" y="4883040"/>
                <a:ext cx="51084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10240" y="4902120"/>
                <a:ext cx="65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H="1">
              <a:off x="5444640" y="5133960"/>
              <a:ext cx="821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5651280" y="4484520"/>
            <a:ext cx="429840" cy="66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51280" y="4484520"/>
                      <a:ext cx="42984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 flipH="1">
              <a:off x="7503480" y="5132160"/>
              <a:ext cx="821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7742160" y="4483080"/>
            <a:ext cx="429840" cy="662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2160" y="4483080"/>
                      <a:ext cx="42984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6" name=""/>
          <p:cNvGrpSpPr/>
          <p:nvPr/>
        </p:nvGrpSpPr>
        <p:grpSpPr>
          <a:xfrm>
            <a:off x="8299440" y="5705640"/>
            <a:ext cx="652320" cy="581400"/>
            <a:chOff x="8299440" y="5705640"/>
            <a:chExt cx="652320" cy="581400"/>
          </a:xfrm>
        </p:grpSpPr>
        <p:sp>
          <p:nvSpPr>
            <p:cNvPr id="87" name=""/>
            <p:cNvSpPr/>
            <p:nvPr/>
          </p:nvSpPr>
          <p:spPr>
            <a:xfrm>
              <a:off x="8375400" y="5797440"/>
              <a:ext cx="510840" cy="48132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99440" y="5705640"/>
              <a:ext cx="6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79360" y="4932360"/>
            <a:ext cx="3978360" cy="925560"/>
            <a:chOff x="279360" y="4932360"/>
            <a:chExt cx="3978360" cy="925560"/>
          </a:xfrm>
        </p:grpSpPr>
        <p:grpSp>
          <p:nvGrpSpPr>
            <p:cNvPr id="90" name=""/>
            <p:cNvGrpSpPr/>
            <p:nvPr/>
          </p:nvGrpSpPr>
          <p:grpSpPr>
            <a:xfrm>
              <a:off x="1071720" y="5376960"/>
              <a:ext cx="652320" cy="480960"/>
              <a:chOff x="1071720" y="5376960"/>
              <a:chExt cx="652320" cy="480960"/>
            </a:xfrm>
          </p:grpSpPr>
          <p:sp>
            <p:nvSpPr>
              <p:cNvPr id="91" name=""/>
              <p:cNvSpPr/>
              <p:nvPr/>
            </p:nvSpPr>
            <p:spPr>
              <a:xfrm>
                <a:off x="1147680" y="5376960"/>
                <a:ext cx="51084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1720" y="5396040"/>
                <a:ext cx="65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>
              <a:off x="279360" y="5640480"/>
              <a:ext cx="822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485640" y="4991040"/>
            <a:ext cx="430200" cy="66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85640" y="4991040"/>
                      <a:ext cx="43020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 flipH="1">
              <a:off x="3435480" y="5581800"/>
              <a:ext cx="822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3673440" y="4932360"/>
            <a:ext cx="430200" cy="66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73440" y="4932360"/>
                      <a:ext cx="43020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9" name=""/>
            <p:cNvGrpSpPr/>
            <p:nvPr/>
          </p:nvGrpSpPr>
          <p:grpSpPr>
            <a:xfrm>
              <a:off x="2805120" y="5259240"/>
              <a:ext cx="652320" cy="581400"/>
              <a:chOff x="2805120" y="5259240"/>
              <a:chExt cx="652320" cy="581400"/>
            </a:xfrm>
          </p:grpSpPr>
          <p:sp>
            <p:nvSpPr>
              <p:cNvPr id="100" name=""/>
              <p:cNvSpPr/>
              <p:nvPr/>
            </p:nvSpPr>
            <p:spPr>
              <a:xfrm>
                <a:off x="2881080" y="5351040"/>
                <a:ext cx="510840" cy="48132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805120" y="5259240"/>
                <a:ext cx="652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90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ulomb’s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360" y="921960"/>
            <a:ext cx="883944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active/repulsive force between charges is call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ic 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(remember forces are vector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he electric force between 2 point charges can be determined by Coulomb’s La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8.99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Coulomb’s constan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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called the “permittivity” constan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is the separation distance between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e magnitudes of the point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 of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erted on a charge is along the line of separation between the charges (   ) and is determined by the sign of the charges when     originates from the opposite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38920" y="5618160"/>
          <a:ext cx="2093760" cy="102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8920" y="5618160"/>
                    <a:ext cx="209376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131920" y="2297160"/>
          <a:ext cx="4397400" cy="97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1920" y="2297160"/>
                    <a:ext cx="43974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252960" y="4973760"/>
          <a:ext cx="18540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52960" y="4973760"/>
                    <a:ext cx="1854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376280" y="5237280"/>
          <a:ext cx="227160" cy="3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6280" y="5237280"/>
                    <a:ext cx="227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"/>
          <p:cNvGrpSpPr/>
          <p:nvPr/>
        </p:nvGrpSpPr>
        <p:grpSpPr>
          <a:xfrm>
            <a:off x="466560" y="5670720"/>
            <a:ext cx="4662360" cy="869760"/>
            <a:chOff x="466560" y="5670720"/>
            <a:chExt cx="4662360" cy="869760"/>
          </a:xfrm>
        </p:grpSpPr>
        <p:grpSp>
          <p:nvGrpSpPr>
            <p:cNvPr id="113" name=""/>
            <p:cNvGrpSpPr/>
            <p:nvPr/>
          </p:nvGrpSpPr>
          <p:grpSpPr>
            <a:xfrm>
              <a:off x="466560" y="6059520"/>
              <a:ext cx="652680" cy="480960"/>
              <a:chOff x="466560" y="6059520"/>
              <a:chExt cx="652680" cy="480960"/>
            </a:xfrm>
          </p:grpSpPr>
          <p:sp>
            <p:nvSpPr>
              <p:cNvPr id="114" name=""/>
              <p:cNvSpPr/>
              <p:nvPr/>
            </p:nvSpPr>
            <p:spPr>
              <a:xfrm>
                <a:off x="542880" y="6059520"/>
                <a:ext cx="51120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6560" y="6078600"/>
                <a:ext cx="6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1107720" y="6311880"/>
              <a:ext cx="2584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2074680" y="5761080"/>
            <a:ext cx="297000" cy="463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074680" y="5761080"/>
                      <a:ext cx="297000" cy="46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 flipH="1">
              <a:off x="4306320" y="6275520"/>
              <a:ext cx="822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4511520" y="5670720"/>
            <a:ext cx="430200" cy="662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511520" y="5670720"/>
                      <a:ext cx="43020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2" name=""/>
            <p:cNvGrpSpPr/>
            <p:nvPr/>
          </p:nvGrpSpPr>
          <p:grpSpPr>
            <a:xfrm>
              <a:off x="3687840" y="5931000"/>
              <a:ext cx="652320" cy="581400"/>
              <a:chOff x="3687840" y="5931000"/>
              <a:chExt cx="652320" cy="581400"/>
            </a:xfrm>
          </p:grpSpPr>
          <p:sp>
            <p:nvSpPr>
              <p:cNvPr id="123" name=""/>
              <p:cNvSpPr/>
              <p:nvPr/>
            </p:nvSpPr>
            <p:spPr>
              <a:xfrm>
                <a:off x="3763800" y="6022800"/>
                <a:ext cx="510840" cy="48132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87840" y="5931000"/>
                <a:ext cx="652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 flipH="1" flipV="1">
            <a:off x="6616440" y="2857320"/>
            <a:ext cx="6858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77040" y="28954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he most common form of the eq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Vector Nature of Electric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electric charge interacts with multiple charges, the electric force vector between each charge adds independently as ve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992320" y="4908600"/>
          <a:ext cx="576108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2320" y="4908600"/>
                    <a:ext cx="576108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452520" y="2489040"/>
            <a:ext cx="6411960" cy="3524760"/>
            <a:chOff x="452520" y="2489040"/>
            <a:chExt cx="6411960" cy="3524760"/>
          </a:xfrm>
        </p:grpSpPr>
        <p:grpSp>
          <p:nvGrpSpPr>
            <p:cNvPr id="132" name=""/>
            <p:cNvGrpSpPr/>
            <p:nvPr/>
          </p:nvGrpSpPr>
          <p:grpSpPr>
            <a:xfrm>
              <a:off x="1681560" y="2960640"/>
              <a:ext cx="652320" cy="480960"/>
              <a:chOff x="1681560" y="2960640"/>
              <a:chExt cx="652320" cy="480960"/>
            </a:xfrm>
          </p:grpSpPr>
          <p:sp>
            <p:nvSpPr>
              <p:cNvPr id="133" name=""/>
              <p:cNvSpPr/>
              <p:nvPr/>
            </p:nvSpPr>
            <p:spPr>
              <a:xfrm>
                <a:off x="1757520" y="2960640"/>
                <a:ext cx="51084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81560" y="2979720"/>
                <a:ext cx="65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V="1">
              <a:off x="2005200" y="3519360"/>
              <a:ext cx="0" cy="806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2087640" y="3576600"/>
            <a:ext cx="2205360" cy="911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87640" y="3576600"/>
                      <a:ext cx="220536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1716480" y="5524200"/>
              <a:ext cx="510840" cy="4809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40160" y="5432400"/>
              <a:ext cx="65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851040" y="3371760"/>
              <a:ext cx="852480" cy="60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6212160" y="2979720"/>
              <a:ext cx="652320" cy="480960"/>
              <a:chOff x="6212160" y="2979720"/>
              <a:chExt cx="652320" cy="480960"/>
            </a:xfrm>
          </p:grpSpPr>
          <p:sp>
            <p:nvSpPr>
              <p:cNvPr id="142" name=""/>
              <p:cNvSpPr/>
              <p:nvPr/>
            </p:nvSpPr>
            <p:spPr>
              <a:xfrm>
                <a:off x="6288480" y="2979720"/>
                <a:ext cx="51120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212160" y="2998800"/>
                <a:ext cx="65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H="1">
              <a:off x="2350800" y="3230280"/>
              <a:ext cx="822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5" name=""/>
            <p:cNvGraphicFramePr/>
            <p:nvPr/>
          </p:nvGraphicFramePr>
          <p:xfrm>
            <a:off x="2621160" y="2489040"/>
            <a:ext cx="2200320" cy="930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21160" y="2489040"/>
                      <a:ext cx="2200320" cy="93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"/>
            <p:cNvGraphicFramePr/>
            <p:nvPr/>
          </p:nvGraphicFramePr>
          <p:xfrm>
            <a:off x="452520" y="3592440"/>
            <a:ext cx="709920" cy="67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2520" y="3592440"/>
                      <a:ext cx="709920" cy="67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9" name=""/>
          <p:cNvSpPr/>
          <p:nvPr/>
        </p:nvSpPr>
        <p:spPr>
          <a:xfrm>
            <a:off x="6291360" y="2533680"/>
            <a:ext cx="57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77920" y="5535720"/>
            <a:ext cx="57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20920" y="2612880"/>
            <a:ext cx="57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Electric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849240"/>
            <a:ext cx="8839440" cy="59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proton and electron separated by 1.0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lectric force exerted on the electron by the pro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work would it take to move the electron halfway to the proton?  Assume the proton is fix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energy 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nce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a conservative force, W performed at the expense of the electric potential energy,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841400" y="2374920"/>
          <a:ext cx="3486240" cy="9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2374920"/>
                    <a:ext cx="34862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2376360" y="1274760"/>
            <a:ext cx="3978000" cy="770400"/>
            <a:chOff x="2376360" y="1274760"/>
            <a:chExt cx="3978000" cy="770400"/>
          </a:xfrm>
        </p:grpSpPr>
        <p:grpSp>
          <p:nvGrpSpPr>
            <p:cNvPr id="157" name=""/>
            <p:cNvGrpSpPr/>
            <p:nvPr/>
          </p:nvGrpSpPr>
          <p:grpSpPr>
            <a:xfrm>
              <a:off x="3168360" y="1549440"/>
              <a:ext cx="652680" cy="480960"/>
              <a:chOff x="3168360" y="1549440"/>
              <a:chExt cx="652680" cy="480960"/>
            </a:xfrm>
          </p:grpSpPr>
          <p:sp>
            <p:nvSpPr>
              <p:cNvPr id="158" name=""/>
              <p:cNvSpPr/>
              <p:nvPr/>
            </p:nvSpPr>
            <p:spPr>
              <a:xfrm>
                <a:off x="3244680" y="1549440"/>
                <a:ext cx="511200" cy="48096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68360" y="1568520"/>
                <a:ext cx="6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flipH="1">
              <a:off x="2376360" y="1812960"/>
              <a:ext cx="8222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2660400" y="1282680"/>
            <a:ext cx="352440" cy="54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0400" y="1282680"/>
                      <a:ext cx="35244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 flipH="1">
              <a:off x="5531760" y="1785960"/>
              <a:ext cx="822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4902120" y="1463760"/>
              <a:ext cx="652320" cy="581400"/>
              <a:chOff x="4902120" y="1463760"/>
              <a:chExt cx="652320" cy="581400"/>
            </a:xfrm>
          </p:grpSpPr>
          <p:sp>
            <p:nvSpPr>
              <p:cNvPr id="165" name=""/>
              <p:cNvSpPr/>
              <p:nvPr/>
            </p:nvSpPr>
            <p:spPr>
              <a:xfrm>
                <a:off x="4978080" y="1555560"/>
                <a:ext cx="510840" cy="48132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02120" y="1463760"/>
                <a:ext cx="652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67" name=""/>
            <p:cNvGraphicFramePr/>
            <p:nvPr/>
          </p:nvGraphicFramePr>
          <p:xfrm>
            <a:off x="5786280" y="1274760"/>
            <a:ext cx="352440" cy="54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86280" y="1274760"/>
                      <a:ext cx="35244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9" name=""/>
          <p:cNvGraphicFramePr/>
          <p:nvPr/>
        </p:nvGraphicFramePr>
        <p:xfrm>
          <a:off x="434880" y="3921120"/>
          <a:ext cx="1928880" cy="509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880" y="3921120"/>
                    <a:ext cx="192888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2838600" y="3738600"/>
          <a:ext cx="6205320" cy="192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8600" y="3738600"/>
                    <a:ext cx="620532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322360" y="4168800"/>
            <a:ext cx="397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924600" y="6259680"/>
          <a:ext cx="1314360" cy="399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24600" y="6259680"/>
                    <a:ext cx="13143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479760" y="1143000"/>
          <a:ext cx="374760" cy="476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79760" y="1143000"/>
                    <a:ext cx="3747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713120" y="1138320"/>
          <a:ext cx="392400" cy="468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713120" y="1138320"/>
                    <a:ext cx="3924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899320" y="2454120"/>
          <a:ext cx="2066760" cy="787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99320" y="2454120"/>
                    <a:ext cx="20667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9240" y="43668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Force vs Distance </a:t>
            </a:r>
            <a:br>
              <a:rPr sz="3200"/>
            </a:b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(exerted on an electron due to a single proton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217520"/>
            <a:ext cx="9144000" cy="5475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 flipV="1">
            <a:off x="5528880" y="1871280"/>
            <a:ext cx="552600" cy="6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49800" y="2349360"/>
            <a:ext cx="167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dius of Hydroge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4-03T19:52:38Z</dcterms:modified>
  <cp:revision>85</cp:revision>
  <dc:subject/>
  <dc:title>Phy 211: General Physics I</dc:title>
</cp:coreProperties>
</file>