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C4D-2AAB-4743-8989-13D425AC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8C4-5398-4E75-8B62-A900020D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27F-09B9-4BA8-AA9A-EEC3C5FA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0A34-ECFF-4A1E-9AFB-49F1B2E0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74C0-D9DB-4E0C-9BA7-6CC0EDEB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B0E-549E-4A46-B722-9CD87F86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EEB0-6972-48F2-BCF9-B45EF8B9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F5F4-6189-4DEB-A963-F99EC9CE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A68-4F86-4ADB-BC5A-1997A014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923-E404-4CC3-B6A4-6ED1AEB4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B981-58D4-481C-B173-8404065A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5FA-38EB-4E29-9204-591AC670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9FCD-81D4-4626-A5DE-8EC503412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2: General Physics I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: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Scalar (Dot) Produc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vectors                    can be multiplied to product a scalar resultant, called the scalar (or Dot)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the magnitudes of the ve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s the angle between vector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vector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properties of scalar produ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Example: The scalar product of the vectors of force and displacement is used to calculate work performed by the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473880" y="1698480"/>
          <a:ext cx="23367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3880" y="1698480"/>
                    <a:ext cx="23367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286000" y="990720"/>
          <a:ext cx="157176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990720"/>
                    <a:ext cx="15717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073480" y="3343320"/>
          <a:ext cx="251460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3480" y="3343320"/>
                    <a:ext cx="2514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592600" y="4214880"/>
          <a:ext cx="150516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92600" y="4214880"/>
                    <a:ext cx="15051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597640" y="4584600"/>
          <a:ext cx="126828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97640" y="4584600"/>
                    <a:ext cx="12682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635800" y="4924440"/>
          <a:ext cx="292716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5800" y="4924440"/>
                    <a:ext cx="29271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ory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eb Links &amp; Referen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12T16:45:26Z</dcterms:modified>
  <cp:revision>22</cp:revision>
  <dc:subject/>
  <dc:title>Phy 211: General Physics I</dc:title>
</cp:coreProperties>
</file>