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7C8-DF33-46FC-B41D-420454DA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4BD-7A12-4FDA-8A1D-617E2ACD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9662-A438-4250-A07A-5B9C6193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2D0-B8DF-4F28-9747-46653EDD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275-9D8D-41ED-B0FD-733F29F1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3528-5F8D-40A5-A94F-23C9E96E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085-332A-49EE-BECE-A36C7922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2AC-5039-453C-9387-49583D4E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6DF-7733-4F58-81EB-DF194E36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9DD-5855-4A67-B3EB-2AE9760A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7DE-BE26-443C-A38C-0D9E4283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022-0F00-41B9-87F3-B4476ADA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8F90-7695-42E7-8A37-733A5A879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: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Scalar (Dot) Produc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vectors                    can be multiplied to product a scalar resultant, called the scalar (or Dot)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the magnitudes of the ve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s the angle between vector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vector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properties of scalar 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Example: The scalar product of the vectors of force and displacement is used to calculate work performed by the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473880" y="1698480"/>
          <a:ext cx="233676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3880" y="1698480"/>
                    <a:ext cx="233676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286000" y="990720"/>
          <a:ext cx="157176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990720"/>
                    <a:ext cx="1571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073480" y="3343320"/>
          <a:ext cx="251460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3480" y="3343320"/>
                    <a:ext cx="25146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592600" y="4214880"/>
          <a:ext cx="150516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92600" y="4214880"/>
                    <a:ext cx="150516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597640" y="4584600"/>
          <a:ext cx="1268280" cy="412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97640" y="4584600"/>
                    <a:ext cx="12682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635800" y="4924440"/>
          <a:ext cx="292716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5800" y="4924440"/>
                    <a:ext cx="29271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ory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eb Links &amp; Referen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12T16:45:26Z</dcterms:modified>
  <cp:revision>22</cp:revision>
  <dc:subject/>
  <dc:title>Phy 211: General Physics I</dc:title>
</cp:coreProperties>
</file>