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2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03059-E47C-489A-8D47-7CAEE8C77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one wavelength difference between the center of the slits produces constructive inter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ater, n = 1,33 so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(3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)/1.33 = 2.3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 (or 75% of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ertain type of glass, n= 1.6 so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(3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)/1.6 m/s = 1.88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 (63% of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ransparency affect the wavelength of a light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F16-0CB1-41B1-9B32-6A192D3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6EB-E3FD-4DAC-A52D-CBB1A891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5AF-54BB-476D-A082-1D871DD3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FB6-676B-4C55-B439-FE602E6C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474-AE3B-40C7-8A8B-7140A768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922-801D-46A5-8EF2-AA1147E1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C3C-7CDD-4757-8A9B-36384536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545-4B83-4EAA-A76D-1481451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02F-B017-40F2-8313-2AB45B2D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533-7C03-4A68-8736-C9B48EDE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A27-7F0A-4A43-8A16-8200721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BF7-620E-4761-A773-B84EC00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68AC-56AD-4E2E-8AC7-4F6290473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icro.magnet.fsu.edu/primer/java/refraction/refractionangles/index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micro.magnet.fsu.edu/primer/java/diffraction/basicdiffraction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5: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7840" y="3741840"/>
            <a:ext cx="8763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creen is placed in front of the double slits an interference pattern is observed. The pattern is produced by the constructive and destructive interference between the light from each s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&gt;&gt;a and D&gt;&gt;d, t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f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nsity Maxim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nsity Minim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m is the “order” of the maximum (or minimum)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 = 0, 1, 2,… et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164200" y="1282680"/>
            <a:ext cx="3801960" cy="2527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120" y="375840"/>
            <a:ext cx="8962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Young’s Experiment &amp; Double Slit Interfere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552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slit interference occurs when 2 diffracted light wave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65280" y="1630440"/>
            <a:ext cx="3813120" cy="213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2751120" y="5075280"/>
          <a:ext cx="233856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1120" y="5075280"/>
                    <a:ext cx="23385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89200" y="5734080"/>
          <a:ext cx="3092400" cy="5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9200" y="5734080"/>
                    <a:ext cx="3092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8064360" y="5162400"/>
          <a:ext cx="960480" cy="75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64360" y="5162400"/>
                    <a:ext cx="9604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6845400" y="4737240"/>
            <a:ext cx="0" cy="330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5400" y="5778360"/>
            <a:ext cx="0" cy="20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51520" y="4501800"/>
            <a:ext cx="1006560" cy="600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864480" y="4711680"/>
            <a:ext cx="1609560" cy="102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826320" y="5448240"/>
            <a:ext cx="1197000" cy="6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0600" y="5083200"/>
            <a:ext cx="412920" cy="371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873480" y="5457960"/>
            <a:ext cx="422280" cy="26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9319800">
            <a:off x="7101360" y="4716000"/>
            <a:ext cx="1632240" cy="94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86" y="89"/>
                </a:moveTo>
                <a:arcTo wR="10800" hR="10800" stAng="-4957671" swAng="3919363"/>
                <a:lnTo>
                  <a:pt x="10800" y="10800"/>
                </a:lnTo>
                <a:close/>
              </a:path>
              <a:path fill="none" w="21600" h="21600">
                <a:moveTo>
                  <a:pt x="12186" y="89"/>
                </a:moveTo>
                <a:arcTo wR="10800" hR="10800" stAng="-4957671" swAng="3919363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12160" y="4417920"/>
            <a:ext cx="5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99440" y="472284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91280" y="5092560"/>
            <a:ext cx="549360" cy="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91280" y="5746680"/>
            <a:ext cx="549360" cy="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51560" y="5086440"/>
            <a:ext cx="0" cy="666720"/>
          </a:xfrm>
          <a:prstGeom prst="line">
            <a:avLst/>
          </a:prstGeom>
          <a:ln w="936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84800" y="520524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1436200">
            <a:off x="7310520" y="5057280"/>
            <a:ext cx="609480" cy="70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08" y="3445"/>
                </a:moveTo>
                <a:arcTo wR="10800" hR="10800" stAng="-2575611" swAng="2825291"/>
                <a:lnTo>
                  <a:pt x="10800" y="10800"/>
                </a:lnTo>
                <a:close/>
              </a:path>
              <a:path fill="none" w="21600" h="21600">
                <a:moveTo>
                  <a:pt x="18708" y="3445"/>
                </a:moveTo>
                <a:arcTo wR="10800" hR="10800" stAng="-2575611" swAng="2825291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18560" y="5078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5400" y="5137200"/>
            <a:ext cx="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188120" y="2145960"/>
            <a:ext cx="1320840" cy="8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88120" y="2107800"/>
            <a:ext cx="1295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91440" y="17272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17000" y="2260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877080" y="5092560"/>
            <a:ext cx="777960" cy="6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1436200">
            <a:off x="6802560" y="4739760"/>
            <a:ext cx="609480" cy="70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08" y="3445"/>
                </a:moveTo>
                <a:arcTo wR="10800" hR="10800" stAng="-2575611" swAng="2825291"/>
                <a:lnTo>
                  <a:pt x="10800" y="10800"/>
                </a:lnTo>
                <a:close/>
              </a:path>
              <a:path fill="none" w="21600" h="21600">
                <a:moveTo>
                  <a:pt x="18708" y="3445"/>
                </a:moveTo>
                <a:arcTo wR="10800" hR="10800" stAng="-2575611" swAng="2825291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85040" y="47228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in Film Interfere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interference occurs when light is incident on a thin film and the following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wave reflects from the outer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wave passes through the film and reflects off the inner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479840" y="3024360"/>
            <a:ext cx="4473720" cy="3298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35080" y="2952720"/>
            <a:ext cx="4055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Thin Film Interfere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7840" y="1346040"/>
            <a:ext cx="4833720" cy="4815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03800" y="1338120"/>
            <a:ext cx="36608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86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in Film Interference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200" y="515880"/>
            <a:ext cx="5181480" cy="62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going wave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structively interfere when the reflected rays are out of phase by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going waves will destructively interfere when the reflected rays are in phase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wave reflects off a surface where               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lected wave will under go a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as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velength of the incident wave, the thickness of the film and the indices of refraction all determine the characteristics of the reflected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g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g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l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l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nstru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estru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g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l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l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g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nstru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estru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415880" y="2631960"/>
          <a:ext cx="197352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2631960"/>
                    <a:ext cx="19735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565360" y="5095800"/>
          <a:ext cx="30686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5095800"/>
                    <a:ext cx="3068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571840" y="5388120"/>
          <a:ext cx="3679560" cy="40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1840" y="5388120"/>
                    <a:ext cx="367956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5397480" y="836640"/>
            <a:ext cx="3657600" cy="4365720"/>
            <a:chOff x="5397480" y="836640"/>
            <a:chExt cx="3657600" cy="4365720"/>
          </a:xfrm>
        </p:grpSpPr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5397480" y="836640"/>
              <a:ext cx="365760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500240" y="1038240"/>
              <a:ext cx="217080" cy="41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1960" y="885240"/>
              <a:ext cx="2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5" name=""/>
          <p:cNvGraphicFramePr/>
          <p:nvPr/>
        </p:nvGraphicFramePr>
        <p:xfrm>
          <a:off x="2558880" y="5929200"/>
          <a:ext cx="3729240" cy="41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8880" y="5929200"/>
                    <a:ext cx="3729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552760" y="6276960"/>
          <a:ext cx="3095640" cy="371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52760" y="6276960"/>
                    <a:ext cx="3095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ave Properties of L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107720"/>
            <a:ext cx="883944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is a transverse traveling electrical disturbance (wav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is a small subset of energy referred to as electro-magnetic (EM) radiation.  EM radiation propagates through space via oscillations of the electrical properties of space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M waves, and the corresponding photons, travel through empty space at the same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EM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c = 2.998x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of light is a product of the wavelength &amp; frequency of the wa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 = 2.998x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velength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tial distance from crest to crest, in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quency (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oscillations per unit time, in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Light Transmission through Transparent Media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ncident light travels through a transparent medium other than vacuum (or ai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ve frequency remain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velength shortens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eed slows down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ion of the wavefronts bend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86120" y="3025800"/>
            <a:ext cx="6986520" cy="3483000"/>
            <a:chOff x="1986120" y="3025800"/>
            <a:chExt cx="6986520" cy="3483000"/>
          </a:xfrm>
        </p:grpSpPr>
        <p:sp>
          <p:nvSpPr>
            <p:cNvPr id="57" name=""/>
            <p:cNvSpPr/>
            <p:nvPr/>
          </p:nvSpPr>
          <p:spPr>
            <a:xfrm>
              <a:off x="1986120" y="4753080"/>
              <a:ext cx="6108480" cy="1755720"/>
            </a:xfrm>
            <a:prstGeom prst="rect">
              <a:avLst/>
            </a:prstGeom>
            <a:solidFill>
              <a:srgbClr val="ccffff">
                <a:alpha val="4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19640" y="3435480"/>
              <a:ext cx="1773000" cy="1304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24520" y="5705640"/>
              <a:ext cx="1652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Verdana"/>
                  <a:ea typeface="SimSun"/>
                </a:rPr>
                <a:t>Refracted Light 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352680" y="3575160"/>
              <a:ext cx="1216080" cy="117936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798360" y="3270240"/>
              <a:ext cx="153828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314960" y="3247920"/>
              <a:ext cx="1536480" cy="14860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731840" y="3259080"/>
              <a:ext cx="153684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176440" y="3259080"/>
              <a:ext cx="153684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634000" y="3259080"/>
              <a:ext cx="154008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049800" y="3259080"/>
              <a:ext cx="154008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509880" y="3259080"/>
              <a:ext cx="153684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989400" y="3259080"/>
              <a:ext cx="153828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432560" y="3247920"/>
              <a:ext cx="1540080" cy="14860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45280" y="3025800"/>
              <a:ext cx="3906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64160" y="5508720"/>
              <a:ext cx="4683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  <a:ea typeface="SimSu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03800" y="4756320"/>
              <a:ext cx="558720" cy="1106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124160" y="4746600"/>
              <a:ext cx="239400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693960" y="4746600"/>
              <a:ext cx="239256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246120" y="4756320"/>
              <a:ext cx="2392200" cy="9223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814120" y="4740120"/>
              <a:ext cx="238932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349360" y="4746600"/>
              <a:ext cx="239256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349360" y="4746600"/>
              <a:ext cx="1928880" cy="73836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211120" y="4756320"/>
              <a:ext cx="1617480" cy="62064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259000" y="4762440"/>
              <a:ext cx="1093680" cy="43020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065560" y="4746600"/>
              <a:ext cx="239256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619520" y="4746600"/>
              <a:ext cx="239256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97160" y="3348000"/>
              <a:ext cx="16178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Incident Light 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52280" y="3505320"/>
            <a:ext cx="3353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e spacing between adjacent wave fronts in th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ransparent Material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880" y="1082520"/>
            <a:ext cx="8762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materials allow light rays to travel through them in straigh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arent bending of light rays when light passes through a transparent medium is called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fr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ight is transmitted through a substance, some electrons are forced to vibrate and/or exc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ight waves are absorbed by electrons they are then re-emitted and the light is absorbed by neighboring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akes time and thus there is a time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t result is that the average speed of light traveling through a transparent substance is less than the speed in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ex of refraction (n) of a substance is the ratio of the speed of light in vacuum (c) to the speed of light through a material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043520" y="5716440"/>
          <a:ext cx="193824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43520" y="5716440"/>
                    <a:ext cx="193824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efraction of L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981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ight passes from air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) into a different material the wave speed decreases and the wavelength shor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f the light wave remain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39800" y="2292480"/>
          <a:ext cx="585792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2292480"/>
                    <a:ext cx="585792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31920" y="4867200"/>
            <a:ext cx="6108480" cy="1436760"/>
          </a:xfrm>
          <a:prstGeom prst="rect">
            <a:avLst/>
          </a:prstGeom>
          <a:solidFill>
            <a:srgbClr val="cc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63560" y="3462480"/>
            <a:ext cx="1874880" cy="139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89560" y="5442120"/>
            <a:ext cx="165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SimSun"/>
              </a:rPr>
              <a:t>Refracted Light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698480" y="3689280"/>
            <a:ext cx="1216080" cy="117972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44880" y="3471840"/>
            <a:ext cx="1436400" cy="13971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60400" y="3492360"/>
            <a:ext cx="1361880" cy="1355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77640" y="3489480"/>
            <a:ext cx="1406520" cy="13683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522600" y="3533760"/>
            <a:ext cx="1363680" cy="132408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79440" y="3519360"/>
            <a:ext cx="1366920" cy="133848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95960" y="3533760"/>
            <a:ext cx="1350720" cy="132408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56040" y="3562200"/>
            <a:ext cx="1362240" cy="1295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5200" y="3591000"/>
            <a:ext cx="1306440" cy="12668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78360" y="3579840"/>
            <a:ext cx="1278000" cy="126828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8600" y="3243240"/>
            <a:ext cx="6364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  <a:ea typeface="SimSu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9960" y="5608800"/>
            <a:ext cx="758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  <a:ea typeface="SimSu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49600" y="4870440"/>
            <a:ext cx="762120" cy="110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69960" y="4861080"/>
            <a:ext cx="239364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039760" y="4861080"/>
            <a:ext cx="23925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1920" y="4870440"/>
            <a:ext cx="2392200" cy="92232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160640" y="4854600"/>
            <a:ext cx="23889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95160" y="4861080"/>
            <a:ext cx="23925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95160" y="4861080"/>
            <a:ext cx="1928880" cy="7380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56920" y="4870440"/>
            <a:ext cx="1617480" cy="6206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4800" y="4876920"/>
            <a:ext cx="1093680" cy="4302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11360" y="4861080"/>
            <a:ext cx="23925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965320" y="4861080"/>
            <a:ext cx="23925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96760" y="3751200"/>
            <a:ext cx="16178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  <a:ea typeface="SimSun"/>
              </a:rPr>
              <a:t>Incident Light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nell’s Law &amp; Total Internal Refle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fracted light, the relation between the angle of incide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ngle of refracti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called the Law of Refraction (or Snell’s La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Air to Water Re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238720" y="2075040"/>
          <a:ext cx="280044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720" y="2075040"/>
                    <a:ext cx="28004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293760" y="3259080"/>
            <a:ext cx="4179960" cy="3383280"/>
            <a:chOff x="293760" y="3259080"/>
            <a:chExt cx="4179960" cy="3383280"/>
          </a:xfrm>
        </p:grpSpPr>
        <p:sp>
          <p:nvSpPr>
            <p:cNvPr id="125" name=""/>
            <p:cNvSpPr/>
            <p:nvPr/>
          </p:nvSpPr>
          <p:spPr>
            <a:xfrm>
              <a:off x="293760" y="4802040"/>
              <a:ext cx="4179960" cy="1649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000" y="4856040"/>
              <a:ext cx="2555640" cy="87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Garamond"/>
                </a:rPr>
                <a:t>Water (n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Garamond"/>
                </a:rPr>
                <a:t>water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"/>
                </a:rPr>
                <a:t>=1.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240" y="3586320"/>
              <a:ext cx="2232000" cy="1157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19240" y="4743360"/>
              <a:ext cx="1231920" cy="158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79440" y="3259080"/>
              <a:ext cx="16909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Garamond"/>
                </a:rPr>
                <a:t>Angle of incidence (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Garamond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Garamon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919240" y="3585960"/>
              <a:ext cx="0" cy="23540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483280" y="5193720"/>
              <a:ext cx="93888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 rot="10488000">
              <a:off x="2439000" y="4209840"/>
              <a:ext cx="938880" cy="3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5688000"/>
              <a:ext cx="16905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Angle of refraction (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920" y="4281480"/>
              <a:ext cx="19731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aramond"/>
                </a:rPr>
                <a:t>Air (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Garamond"/>
                </a:rPr>
                <a:t>air</a:t>
              </a:r>
              <a:r>
                <a:rPr b="1" lang="en-US" sz="2400" spc="-1" strike="noStrike">
                  <a:solidFill>
                    <a:srgbClr val="0000ff"/>
                  </a:solidFill>
                  <a:latin typeface="Garamond"/>
                </a:rPr>
                <a:t>=1.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5480" y="3963960"/>
              <a:ext cx="5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Garamond"/>
                </a:rPr>
                <a:t>60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Garamond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6" name=""/>
          <p:cNvGraphicFramePr/>
          <p:nvPr/>
        </p:nvGraphicFramePr>
        <p:xfrm>
          <a:off x="4627440" y="3241800"/>
          <a:ext cx="435456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7440" y="3241800"/>
                    <a:ext cx="43545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otal Internal Refle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86508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ight traveling though a medium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ncounters an interface with different medium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some of the light will reflect back and the remainder will transmit through the new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tal internal reflection will occur when the angle of refra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ident angle beyond which total internal reflection will occur is called the critical ang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ri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6240" y="5369040"/>
            <a:ext cx="4236840" cy="136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3760" y="5537160"/>
            <a:ext cx="2628720" cy="421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um 1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n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583080" y="4700520"/>
            <a:ext cx="685800" cy="635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62240" y="5347800"/>
            <a:ext cx="401760" cy="833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5760" y="4270320"/>
            <a:ext cx="839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68680" y="4538160"/>
            <a:ext cx="0" cy="1608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73360" y="5904000"/>
            <a:ext cx="8413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080" y="4695840"/>
            <a:ext cx="27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edium 2 (n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 rot="21165600">
            <a:off x="3291840" y="5607360"/>
            <a:ext cx="571320" cy="41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70" y="476"/>
                </a:moveTo>
                <a:arcTo wR="10800" hR="10800" stAng="-4375801" swAng="4375801"/>
                <a:lnTo>
                  <a:pt x="10800" y="10800"/>
                </a:lnTo>
                <a:close/>
              </a:path>
              <a:path fill="none" w="21600" h="21600">
                <a:moveTo>
                  <a:pt x="13970" y="476"/>
                </a:moveTo>
                <a:arcTo wR="10800" hR="10800" stAng="-4375801" swAng="4375801"/>
              </a:path>
            </a:pathLst>
          </a:cu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 rot="10551600">
            <a:off x="3255480" y="4889160"/>
            <a:ext cx="571320" cy="42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70" y="476"/>
                </a:moveTo>
                <a:arcTo wR="10800" hR="10800" stAng="-4375801" swAng="4375801"/>
                <a:lnTo>
                  <a:pt x="10800" y="10800"/>
                </a:lnTo>
                <a:close/>
              </a:path>
              <a:path fill="none" w="21600" h="21600">
                <a:moveTo>
                  <a:pt x="13970" y="476"/>
                </a:moveTo>
                <a:arcTo wR="10800" hR="10800" stAng="-4375801" swAng="4375801"/>
              </a:path>
            </a:pathLst>
          </a:cu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86320" y="4200480"/>
          <a:ext cx="314964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6320" y="4200480"/>
                    <a:ext cx="31496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ffra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865080"/>
            <a:ext cx="883944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ve properties of light are particularly observable as (a phenomenon called diffraction) when light passes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an aperture nearly the width as the light waveleng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objects that are nearly the size as the light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raction is the “flaring out” of light as it passes through or over a barrier of similar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7840" y="3340080"/>
            <a:ext cx="4076640" cy="3305160"/>
            <a:chOff x="4857840" y="3340080"/>
            <a:chExt cx="4076640" cy="33051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4857840" y="3355920"/>
              <a:ext cx="407664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651280" y="3340080"/>
              <a:ext cx="0" cy="13968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280" y="5232240"/>
              <a:ext cx="0" cy="139716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9680" y="3225960"/>
            <a:ext cx="46864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5205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of diffraction increases as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ve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l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barri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ngle Slit Diffra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960480"/>
            <a:ext cx="825516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creen is placed in front of light passing through a single slit, a diffraction pattern is observed. The diffraction pattern is produced by the interference of the individual “wavelets” of light that pass beyond the sl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k regions on the screen occur a points where the path length difference between the top and middle of the slit is ½ waveleng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location for the dark regions (zero intensity) for a slit width, a, is given b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351240" y="5918040"/>
          <a:ext cx="48466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1240" y="5918040"/>
                    <a:ext cx="48466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290520" y="2268360"/>
            <a:ext cx="7848720" cy="721440"/>
            <a:chOff x="290520" y="2268360"/>
            <a:chExt cx="7848720" cy="72144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2602080" y="2268360"/>
              <a:ext cx="55371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90520" y="2286000"/>
              <a:ext cx="223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Single slit diffraction patt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06360" y="3719520"/>
            <a:ext cx="2311560" cy="1692360"/>
            <a:chOff x="1206360" y="3719520"/>
            <a:chExt cx="2311560" cy="1692360"/>
          </a:xfrm>
        </p:grpSpPr>
        <p:graphicFrame>
          <p:nvGraphicFramePr>
            <p:cNvPr id="167" name=""/>
            <p:cNvGraphicFramePr/>
            <p:nvPr/>
          </p:nvGraphicFramePr>
          <p:xfrm>
            <a:off x="2387520" y="4660920"/>
            <a:ext cx="960480" cy="750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87520" y="4660920"/>
                      <a:ext cx="960480" cy="7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1866960" y="4038480"/>
              <a:ext cx="0" cy="330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66960" y="5079960"/>
              <a:ext cx="0" cy="20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873080" y="3784320"/>
              <a:ext cx="1006560" cy="6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892160" y="3994200"/>
              <a:ext cx="1158840" cy="743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47880" y="4756320"/>
              <a:ext cx="803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160" y="4384800"/>
              <a:ext cx="216000" cy="199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869840" y="4600440"/>
              <a:ext cx="2383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588800">
              <a:off x="2038320" y="4325760"/>
              <a:ext cx="608760" cy="70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13" y="39"/>
                  </a:moveTo>
                  <a:arcTo wR="10800" hR="10800" stAng="-5109172" swAng="5109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13" y="39"/>
                  </a:moveTo>
                  <a:arcTo wR="10800" hR="10800" stAng="-5109172" swAng="5109172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33720" y="371952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46240" y="397368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2840" y="4362480"/>
              <a:ext cx="549360" cy="0"/>
            </a:xfrm>
            <a:prstGeom prst="line">
              <a:avLst/>
            </a:prstGeom>
            <a:ln w="190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2840" y="5073480"/>
              <a:ext cx="549360" cy="0"/>
            </a:xfrm>
            <a:prstGeom prst="line">
              <a:avLst/>
            </a:prstGeom>
            <a:ln w="190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4387680"/>
              <a:ext cx="0" cy="6670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06360" y="450684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33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1436200">
              <a:off x="1906560" y="4358880"/>
              <a:ext cx="609480" cy="70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08" y="3445"/>
                  </a:moveTo>
                  <a:arcTo wR="10800" hR="10800" stAng="-2575611" swAng="2825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08" y="3445"/>
                  </a:moveTo>
                  <a:arcTo wR="10800" hR="10800" stAng="-2575611" swAng="2825291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4379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32240" y="3065400"/>
            <a:ext cx="3720960" cy="2958840"/>
            <a:chOff x="5232240" y="3065400"/>
            <a:chExt cx="3720960" cy="2958840"/>
          </a:xfrm>
        </p:grpSpPr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8189640" y="3408120"/>
              <a:ext cx="449280" cy="26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464080" y="4017600"/>
              <a:ext cx="0" cy="44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64080" y="4659120"/>
              <a:ext cx="0" cy="44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481360" y="4323600"/>
              <a:ext cx="2932200" cy="149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472000" y="4307760"/>
              <a:ext cx="2943000" cy="26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32240" y="457164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10000" y="4063680"/>
              <a:ext cx="46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79800" y="4368600"/>
              <a:ext cx="47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34160" y="306540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84920" y="41065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84920" y="47797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84920" y="376380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84920" y="51163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84920" y="34207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84920" y="54529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1T17:56:49Z</dcterms:modified>
  <cp:revision>74</cp:revision>
  <dc:subject/>
  <dc:title>Phy 211: General Physics I</dc:title>
</cp:coreProperties>
</file>