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111-21D5-4B99-81FD-C982A100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7C9-64A1-4F01-ACEA-C967AF09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236-A3E2-4639-A296-AD969146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554-3AD9-433A-9B37-49143F16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487-E259-4823-BA76-0FB2E892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87D-C7C7-46C7-A7E8-73784873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097-D728-4770-88E3-DF067E0A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A40-6FAE-4B76-A32C-AD335C80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6F4-C9AB-4039-8609-3E36D4D6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004-1932-4519-B6BB-33131E74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970-0B4C-44CD-BD77-3049259C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0AC-7886-4EDD-9FB6-9D5E07B7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201B-BF7B-4A64-87F1-BD2B147F3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4: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Optical Instruments: Telescop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observing an object located at “infin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verging (objective) lens gathers light &amp; forms a smaller real image at the focal point of a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ccular)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r final image formed by the converging (occular) lens is also located at “infinity” but appears enl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ular Magn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85880" y="4092480"/>
            <a:ext cx="8404200" cy="2640240"/>
            <a:chOff x="785880" y="4092480"/>
            <a:chExt cx="8404200" cy="2640240"/>
          </a:xfrm>
        </p:grpSpPr>
        <p:sp>
          <p:nvSpPr>
            <p:cNvPr id="249" name=""/>
            <p:cNvSpPr/>
            <p:nvPr/>
          </p:nvSpPr>
          <p:spPr>
            <a:xfrm>
              <a:off x="5637240" y="5610240"/>
              <a:ext cx="115920" cy="131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30720" y="4613400"/>
              <a:ext cx="112680" cy="2111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76800" y="5019840"/>
              <a:ext cx="517680" cy="73188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187960" y="5756040"/>
              <a:ext cx="519120" cy="468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52440" y="5033880"/>
              <a:ext cx="4444920" cy="71784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48440" y="4618080"/>
              <a:ext cx="110880" cy="2114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122480" y="5675400"/>
              <a:ext cx="685152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254240" y="5028840"/>
              <a:ext cx="0" cy="646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5880" y="5838840"/>
              <a:ext cx="13032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707080" y="5752800"/>
              <a:ext cx="485640" cy="4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38040" y="5023080"/>
              <a:ext cx="394200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91280" y="5513400"/>
              <a:ext cx="1697040" cy="2383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692680" y="5408640"/>
              <a:ext cx="2217600" cy="3477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3520" y="5614920"/>
              <a:ext cx="114480" cy="13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4160" y="5605560"/>
              <a:ext cx="112680" cy="131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85920" y="5027760"/>
              <a:ext cx="3905280" cy="73656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692320" y="5697360"/>
              <a:ext cx="3240" cy="759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97480" y="4092480"/>
              <a:ext cx="13856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(objectiv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43800" y="5613480"/>
              <a:ext cx="112680" cy="131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83360" y="4214880"/>
              <a:ext cx="117000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(occula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29160" y="5748480"/>
              <a:ext cx="5936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Real Image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50000" y="4824360"/>
              <a:ext cx="154008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Final Image” @ 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3137040" y="3227400"/>
          <a:ext cx="177624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7040" y="3227400"/>
                    <a:ext cx="17762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Human Ey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2280" y="936720"/>
            <a:ext cx="88394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uman eye is a dynamic optical device that adjusts its focal length to keep the image location positioned at the ret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52320" y="4627440"/>
            <a:ext cx="7705800" cy="2119320"/>
            <a:chOff x="652320" y="4627440"/>
            <a:chExt cx="7705800" cy="2119320"/>
          </a:xfrm>
        </p:grpSpPr>
        <p:sp>
          <p:nvSpPr>
            <p:cNvPr id="276" name=""/>
            <p:cNvSpPr/>
            <p:nvPr/>
          </p:nvSpPr>
          <p:spPr>
            <a:xfrm>
              <a:off x="6091200" y="4627440"/>
              <a:ext cx="2247840" cy="211932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001880" y="5703480"/>
              <a:ext cx="73468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58120" y="5330880"/>
              <a:ext cx="0" cy="76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2320" y="5778360"/>
              <a:ext cx="23828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ptical 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514680" y="5132160"/>
              <a:ext cx="0" cy="569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41480" y="4680000"/>
              <a:ext cx="14655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59400" y="4929120"/>
              <a:ext cx="165240" cy="1548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42200" y="5140440"/>
              <a:ext cx="1911240" cy="92700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27800" y="6083280"/>
              <a:ext cx="1925640" cy="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7920" y="5140440"/>
              <a:ext cx="2882880" cy="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14680" y="5135760"/>
              <a:ext cx="2868480" cy="94104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30520" y="5130720"/>
              <a:ext cx="4783320" cy="94140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4320" y="5665680"/>
              <a:ext cx="8280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20040" y="566100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71520" y="1947960"/>
            <a:ext cx="8570880" cy="2506680"/>
            <a:chOff x="371520" y="1947960"/>
            <a:chExt cx="8570880" cy="2506680"/>
          </a:xfrm>
        </p:grpSpPr>
        <p:sp>
          <p:nvSpPr>
            <p:cNvPr id="291" name=""/>
            <p:cNvSpPr/>
            <p:nvPr/>
          </p:nvSpPr>
          <p:spPr>
            <a:xfrm flipV="1">
              <a:off x="985680" y="3177720"/>
              <a:ext cx="73472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42280" y="2919240"/>
              <a:ext cx="0" cy="5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6480" y="3252960"/>
              <a:ext cx="23828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ptical 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062000" y="2606400"/>
              <a:ext cx="0" cy="569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1520" y="2155680"/>
              <a:ext cx="14652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43560" y="2403360"/>
              <a:ext cx="165240" cy="1548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75360" y="2101680"/>
              <a:ext cx="2247840" cy="211932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99560" y="4189320"/>
              <a:ext cx="3045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27800" y="4189320"/>
              <a:ext cx="304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75560" y="4003560"/>
              <a:ext cx="1108080" cy="40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1.8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52640" y="2614680"/>
              <a:ext cx="5364000" cy="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38960" y="2625840"/>
              <a:ext cx="1913040" cy="73656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47600" y="2610000"/>
              <a:ext cx="5376960" cy="75240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11960" y="3357720"/>
              <a:ext cx="1925640" cy="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71720" y="2604960"/>
              <a:ext cx="7286400" cy="76680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52000" y="393552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29240" y="393552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0120" y="3139920"/>
              <a:ext cx="8244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19920" y="3135240"/>
              <a:ext cx="8280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67320" y="1947960"/>
              <a:ext cx="19033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Effective le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21800" y="2600280"/>
              <a:ext cx="102060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Re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Optics of the Ey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240" y="922320"/>
            <a:ext cx="8912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normal” eye can be modeled as a simple lens system with an effective focal length (&amp; optical power) and a fixed image distance,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ob of the eye is to focus images on the retina.  The image distance is therefore fixed at 1.8 cm (or 0.018 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eye cannot adequately focus an image on the retina, correction may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4 common visio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pia (near sightedness, short far &amp; near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metropia (far sightedness, long far &amp; near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tigmatism (warped lens optics, focal length not uniform on all axes in the ey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byopia (normal distance vision but inability to accommodate for close ob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438360" y="1697040"/>
          <a:ext cx="257040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8360" y="1697040"/>
                    <a:ext cx="25704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Distance Vision Optic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520" y="990360"/>
            <a:ext cx="8747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viewing distant objects, the lens power of the eye (&amp; focal length) of the eye is given b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ns power i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5.6 diop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the focal length 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 = 0.01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person is near sighted (myopic), he/she cannot see objects at infinity (“infinity” is the “far point” for a normal ey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opic far point &lt; Normal far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xample:  A person with -2.0 diopter distance 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erson has a lens power of 57.6 &amp; needs this “minus” correction to lower the effective lens power to a “normal” 55.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ar point for this person is:  p = 2 m {any object beyond this distance is not in focu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803240" y="1592280"/>
          <a:ext cx="5688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1592280"/>
                    <a:ext cx="5688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90720" y="4557600"/>
          <a:ext cx="696600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557600"/>
                    <a:ext cx="69660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ar Vision Optic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85400" y="776160"/>
            <a:ext cx="8939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viewing close-in objects, the lens power of the eye (&amp; focal length) of the eye is given b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ns power i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9.6 diop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the focal length is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 = 0.016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r sighted (hyperopic) person cannot see objects at close distances even though the eye is accomodating norm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opic near point &gt; Normal near point (0.25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xample:  A person with +2.0 diopter vision cor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erson has a (near) lens power of 57.6 &amp; needs this “plus” correction to raise the effective lens power to a “normal” close distance power of 59.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ar point for this person is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 = 0.49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any object closer is not in focu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/presbyopia have normal distance lens power but are unable to adjust for closer objects, thus needing “reader” g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228840" y="1184400"/>
          <a:ext cx="457992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8840" y="1184400"/>
                    <a:ext cx="45799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765440" y="4363920"/>
          <a:ext cx="676908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5440" y="4363920"/>
                    <a:ext cx="6769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eometrical (Ray) Optic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metrical Optic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approximate treatment of light waves as straight lines (rays) for the description of imag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s a radiant, transverse, electromagnetic in nature 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Symbol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waves, propagating in a uniform medium, expand equally in all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vel of light can be approximated by rays that point normal to the plane of a traveling wave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5800" y="5702400"/>
            <a:ext cx="287280" cy="2872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11240" y="5526000"/>
            <a:ext cx="747720" cy="665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5286240"/>
            <a:ext cx="1190520" cy="1128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54040" y="5070600"/>
            <a:ext cx="1675080" cy="1569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3080" y="5848200"/>
            <a:ext cx="903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82840" y="5173200"/>
            <a:ext cx="757080" cy="58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27000" y="522756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17640" y="58993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4760" y="564048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mag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age is a visual reproduction of an object derived from light.  In geometrical optics, images are formed where light rays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Im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: these images actually exist and can be formed and observed on a physic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or image on the drymarker board is a re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:  these images only exist in the mind, a consequence of perce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mage in a plane mirror is a virtu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herical Mirr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al Points:  the focal point for a spherical mirror is the location along the “optical axis” where an object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form a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mirror radius (r) &amp; focal point (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166920" y="2941560"/>
          <a:ext cx="169884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2941560"/>
                    <a:ext cx="169884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7581960" y="2232000"/>
          <a:ext cx="1093680" cy="4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1960" y="2232000"/>
                    <a:ext cx="10936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"/>
          <p:cNvGrpSpPr/>
          <p:nvPr/>
        </p:nvGrpSpPr>
        <p:grpSpPr>
          <a:xfrm>
            <a:off x="522360" y="3735360"/>
            <a:ext cx="3260520" cy="2932200"/>
            <a:chOff x="522360" y="3735360"/>
            <a:chExt cx="3260520" cy="2932200"/>
          </a:xfrm>
        </p:grpSpPr>
        <p:sp>
          <p:nvSpPr>
            <p:cNvPr id="65" name=""/>
            <p:cNvSpPr/>
            <p:nvPr/>
          </p:nvSpPr>
          <p:spPr>
            <a:xfrm>
              <a:off x="1231920" y="4156200"/>
              <a:ext cx="2550960" cy="251136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94400" y="4156200"/>
              <a:ext cx="2675520" cy="24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77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77177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99080" y="4251600"/>
              <a:ext cx="2675520" cy="240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9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9069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522360" y="5440320"/>
              <a:ext cx="3247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16320" y="539748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0200" y="5407200"/>
              <a:ext cx="88920" cy="88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44640" y="4947840"/>
              <a:ext cx="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58680" y="4933800"/>
              <a:ext cx="270216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472840" y="4933800"/>
              <a:ext cx="1173240" cy="1065240"/>
            </a:xfrm>
            <a:prstGeom prst="line">
              <a:avLst/>
            </a:prstGeom>
            <a:ln w="28440">
              <a:solidFill>
                <a:srgbClr val="ff0066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78040" y="3735360"/>
              <a:ext cx="13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nc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58920" y="452124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58680" y="4933800"/>
              <a:ext cx="2791080" cy="66060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22400" y="5581800"/>
              <a:ext cx="27018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913120" y="5481720"/>
              <a:ext cx="0" cy="12384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24080" y="551196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59200" y="502920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129200" y="3733920"/>
            <a:ext cx="4457520" cy="2944800"/>
            <a:chOff x="4129200" y="3733920"/>
            <a:chExt cx="4457520" cy="2944800"/>
          </a:xfrm>
        </p:grpSpPr>
        <p:sp>
          <p:nvSpPr>
            <p:cNvPr id="82" name=""/>
            <p:cNvSpPr/>
            <p:nvPr/>
          </p:nvSpPr>
          <p:spPr>
            <a:xfrm flipH="1">
              <a:off x="5815800" y="4167360"/>
              <a:ext cx="2551320" cy="251136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829480" y="4167360"/>
              <a:ext cx="2675520" cy="24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77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77177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5824440" y="4262040"/>
              <a:ext cx="2676240" cy="240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9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9069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129200" y="5437080"/>
              <a:ext cx="4457520" cy="144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093800" y="540864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384240" y="5403960"/>
              <a:ext cx="88920" cy="88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579920" y="4932000"/>
              <a:ext cx="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581000" y="4944960"/>
              <a:ext cx="13510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1000" y="4971960"/>
              <a:ext cx="1160280" cy="1065240"/>
            </a:xfrm>
            <a:prstGeom prst="line">
              <a:avLst/>
            </a:prstGeom>
            <a:ln w="28440">
              <a:solidFill>
                <a:srgbClr val="00cc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58040" y="3733920"/>
              <a:ext cx="13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nv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34000" y="3857760"/>
              <a:ext cx="1160280" cy="1065240"/>
            </a:xfrm>
            <a:prstGeom prst="line">
              <a:avLst/>
            </a:prstGeom>
            <a:ln w="28440">
              <a:solidFill>
                <a:srgbClr val="ff0066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97560" y="4946760"/>
              <a:ext cx="1198440" cy="32868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5264280"/>
              <a:ext cx="1630080" cy="11160"/>
            </a:xfrm>
            <a:prstGeom prst="line">
              <a:avLst/>
            </a:prstGeom>
            <a:ln w="28440">
              <a:solidFill>
                <a:srgbClr val="00cc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182840" y="5264280"/>
              <a:ext cx="1608120" cy="11160"/>
            </a:xfrm>
            <a:prstGeom prst="line">
              <a:avLst/>
            </a:prstGeom>
            <a:ln w="28440">
              <a:solidFill>
                <a:srgbClr val="ff0066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253200" y="5265720"/>
              <a:ext cx="0" cy="1238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03640" y="543240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31000" y="545796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46640" y="489888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in Len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896400"/>
            <a:ext cx="8839440" cy="59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lens where the radii of curvature of each face is much greater than the lens thickness, the focal length can be calculated using the Lens maker’s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is the index of refraction of th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inner radius of curv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outer radius of curv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cal length can also be calculated from the locations of an object and its formed image using the thin len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thin lens image 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ing lenses (+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s real &amp; inverted when p &gt;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s virtual &amp; upright when p &lt;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ging lenses (-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s always virtual &amp; up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503520" y="4071960"/>
          <a:ext cx="167796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4071960"/>
                    <a:ext cx="16779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337000" y="1784520"/>
          <a:ext cx="3059280" cy="91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7000" y="1784520"/>
                    <a:ext cx="305928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ay Diagrams for Lens Syste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ing Len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ing Len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1539720"/>
            <a:ext cx="4652640" cy="2492640"/>
            <a:chOff x="0" y="1539720"/>
            <a:chExt cx="4652640" cy="2492640"/>
          </a:xfrm>
        </p:grpSpPr>
        <p:sp>
          <p:nvSpPr>
            <p:cNvPr id="109" name=""/>
            <p:cNvSpPr/>
            <p:nvPr/>
          </p:nvSpPr>
          <p:spPr>
            <a:xfrm flipV="1">
              <a:off x="458640" y="2955960"/>
              <a:ext cx="39373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52960" y="2460600"/>
              <a:ext cx="0" cy="487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2049480"/>
              <a:ext cx="1094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01360" y="1868400"/>
              <a:ext cx="98640" cy="216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50320" y="2473200"/>
              <a:ext cx="1797480" cy="12384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51400" y="3186000"/>
              <a:ext cx="17373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5840" y="2473200"/>
              <a:ext cx="20966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7280" y="2454120"/>
              <a:ext cx="2101320" cy="738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1000" y="2467080"/>
              <a:ext cx="4121640" cy="9331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49760" y="2924280"/>
              <a:ext cx="75240" cy="68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10920" y="2917800"/>
              <a:ext cx="7200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83880" y="2961720"/>
              <a:ext cx="5400" cy="2113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31440" y="2519280"/>
              <a:ext cx="10555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Imag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15520" y="1539720"/>
              <a:ext cx="85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784760" y="1576440"/>
            <a:ext cx="4118040" cy="2417760"/>
            <a:chOff x="4784760" y="1576440"/>
            <a:chExt cx="4118040" cy="2417760"/>
          </a:xfrm>
        </p:grpSpPr>
        <p:sp>
          <p:nvSpPr>
            <p:cNvPr id="124" name=""/>
            <p:cNvSpPr/>
            <p:nvPr/>
          </p:nvSpPr>
          <p:spPr>
            <a:xfrm flipV="1">
              <a:off x="4784760" y="2950920"/>
              <a:ext cx="4118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340680" y="2481480"/>
              <a:ext cx="0" cy="473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37320" y="3103560"/>
              <a:ext cx="106668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67640" y="1895760"/>
              <a:ext cx="119160" cy="2098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24880" y="2482920"/>
              <a:ext cx="2035080" cy="601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37480" y="2281320"/>
              <a:ext cx="20653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343920" y="2476440"/>
              <a:ext cx="479160" cy="61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346800" y="2281320"/>
              <a:ext cx="489240" cy="193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50040" y="2468880"/>
              <a:ext cx="1459080" cy="1454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6960" y="2918160"/>
              <a:ext cx="69840" cy="68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98080" y="2913120"/>
              <a:ext cx="73080" cy="6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153040" y="2475000"/>
              <a:ext cx="1204920" cy="479520"/>
            </a:xfrm>
            <a:prstGeom prst="line">
              <a:avLst/>
            </a:prstGeom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07160" y="2278080"/>
              <a:ext cx="1025640" cy="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0920" y="2190960"/>
              <a:ext cx="955800" cy="28080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16600" y="2041560"/>
              <a:ext cx="462240" cy="43668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158160" y="2285640"/>
              <a:ext cx="6120" cy="6526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97560" y="1924200"/>
              <a:ext cx="11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Imag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7800" y="1576440"/>
              <a:ext cx="10191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14280" y="4491000"/>
            <a:ext cx="4060440" cy="2182680"/>
            <a:chOff x="314280" y="4491000"/>
            <a:chExt cx="4060440" cy="2182680"/>
          </a:xfrm>
        </p:grpSpPr>
        <p:sp>
          <p:nvSpPr>
            <p:cNvPr id="143" name=""/>
            <p:cNvSpPr/>
            <p:nvPr/>
          </p:nvSpPr>
          <p:spPr>
            <a:xfrm flipV="1">
              <a:off x="779040" y="5859360"/>
              <a:ext cx="359568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12160" y="5376960"/>
              <a:ext cx="0" cy="473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4280" y="5014800"/>
              <a:ext cx="1115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52640" y="5032440"/>
              <a:ext cx="117720" cy="164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7120" y="5379840"/>
              <a:ext cx="2113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910600" y="5011560"/>
              <a:ext cx="829800" cy="371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8920" y="5376960"/>
              <a:ext cx="2933280" cy="685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66240" y="5826240"/>
              <a:ext cx="72720" cy="68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9800" y="5827680"/>
              <a:ext cx="76320" cy="6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702080" y="5376600"/>
              <a:ext cx="1244880" cy="56484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504440" y="5710320"/>
              <a:ext cx="1399320" cy="144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215080" y="5708520"/>
              <a:ext cx="0" cy="131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90840" y="5962680"/>
              <a:ext cx="12186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Imag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97320" y="4491000"/>
              <a:ext cx="1065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3960" y="5379840"/>
              <a:ext cx="2099880" cy="3304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0600" y="5707080"/>
              <a:ext cx="929520" cy="3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937040" y="4484520"/>
            <a:ext cx="3831840" cy="2183040"/>
            <a:chOff x="4937040" y="4484520"/>
            <a:chExt cx="3831840" cy="2183040"/>
          </a:xfrm>
        </p:grpSpPr>
        <p:sp>
          <p:nvSpPr>
            <p:cNvPr id="160" name=""/>
            <p:cNvSpPr/>
            <p:nvPr/>
          </p:nvSpPr>
          <p:spPr>
            <a:xfrm flipV="1">
              <a:off x="4937040" y="5853240"/>
              <a:ext cx="3831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387480" y="5370480"/>
              <a:ext cx="0" cy="473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60840" y="4976640"/>
              <a:ext cx="11887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46720" y="5025960"/>
              <a:ext cx="125280" cy="1641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82440" y="5373720"/>
              <a:ext cx="8366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208280" y="5005440"/>
              <a:ext cx="884520" cy="371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91080" y="5383080"/>
              <a:ext cx="1484280" cy="857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880" y="5819760"/>
              <a:ext cx="77760" cy="68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47680" y="5821200"/>
              <a:ext cx="81360" cy="6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920560" y="5370480"/>
              <a:ext cx="1326600" cy="56520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709960" y="5583240"/>
              <a:ext cx="1491480" cy="144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43520" y="5594400"/>
              <a:ext cx="0" cy="23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58000" y="5950080"/>
              <a:ext cx="1298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Imag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68000" y="4484520"/>
              <a:ext cx="1135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89640" y="5380200"/>
              <a:ext cx="815400" cy="203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08280" y="5580000"/>
              <a:ext cx="990720" cy="3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880" y="471600"/>
            <a:ext cx="881532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Optical Instruments: Simple Magnifying Gl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a single converg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is located inside foc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image is virtual &amp; 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41360" y="3171960"/>
            <a:ext cx="6219720" cy="3438000"/>
            <a:chOff x="1341360" y="3171960"/>
            <a:chExt cx="6219720" cy="3438000"/>
          </a:xfrm>
        </p:grpSpPr>
        <p:sp>
          <p:nvSpPr>
            <p:cNvPr id="179" name=""/>
            <p:cNvSpPr/>
            <p:nvPr/>
          </p:nvSpPr>
          <p:spPr>
            <a:xfrm flipV="1">
              <a:off x="1341360" y="5158440"/>
              <a:ext cx="6219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744720" y="4498560"/>
              <a:ext cx="0" cy="658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33560" y="5204520"/>
              <a:ext cx="1729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5720" y="3692520"/>
              <a:ext cx="157680" cy="29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01680" y="4507920"/>
              <a:ext cx="2702520" cy="837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04560" y="3919680"/>
              <a:ext cx="2743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49760" y="4507920"/>
              <a:ext cx="10569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762000" y="3901680"/>
              <a:ext cx="1037160" cy="596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67040" y="4498560"/>
              <a:ext cx="2753640" cy="1730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95160" y="5113800"/>
              <a:ext cx="118080" cy="94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88960" y="5107320"/>
              <a:ext cx="11628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581200" y="4516920"/>
              <a:ext cx="1111320" cy="64620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67840" y="3915360"/>
              <a:ext cx="2743920" cy="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58440" y="3521160"/>
              <a:ext cx="3191400" cy="97308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89480" y="3171960"/>
              <a:ext cx="2054880" cy="132264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810880" y="3890160"/>
              <a:ext cx="0" cy="1270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05400" y="3345480"/>
              <a:ext cx="20898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Imag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73560" y="3248280"/>
              <a:ext cx="135324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:  A 2 Lens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ollowing 2 lens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image position due to lens 1 w/r to lens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inal image position w/r to lens 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inal image orientation and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ngular magnification of the final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04920" y="1587600"/>
            <a:ext cx="8229600" cy="2753280"/>
            <a:chOff x="304920" y="1587600"/>
            <a:chExt cx="8229600" cy="2753280"/>
          </a:xfrm>
        </p:grpSpPr>
        <p:sp>
          <p:nvSpPr>
            <p:cNvPr id="200" name=""/>
            <p:cNvSpPr/>
            <p:nvPr/>
          </p:nvSpPr>
          <p:spPr>
            <a:xfrm>
              <a:off x="6350040" y="1943280"/>
              <a:ext cx="190440" cy="1803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67480" y="2197080"/>
              <a:ext cx="88920" cy="129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7640" y="2845080"/>
              <a:ext cx="7823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028880" y="2285640"/>
              <a:ext cx="0" cy="54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84880" y="3695760"/>
              <a:ext cx="171432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s 1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+0.45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19840" y="3530880"/>
              <a:ext cx="17146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s 2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0.05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4920" y="1587600"/>
              <a:ext cx="17143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(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.5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28880" y="2984760"/>
              <a:ext cx="539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30600" y="2997360"/>
              <a:ext cx="17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=20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38960" y="218448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46640" y="181620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=0.30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Optical Instruments: Compound Microscop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 is located outsid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bjective)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verging (objective) lens forms a magnified real image inside the focal point of a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verging (occular)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ccular lens forms a further magnified virtu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ific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20800" y="3905280"/>
            <a:ext cx="6178680" cy="2739240"/>
            <a:chOff x="1720800" y="3905280"/>
            <a:chExt cx="6178680" cy="2739240"/>
          </a:xfrm>
        </p:grpSpPr>
        <p:sp>
          <p:nvSpPr>
            <p:cNvPr id="214" name=""/>
            <p:cNvSpPr/>
            <p:nvPr/>
          </p:nvSpPr>
          <p:spPr>
            <a:xfrm>
              <a:off x="6192720" y="4089240"/>
              <a:ext cx="127080" cy="251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92240" y="5351400"/>
              <a:ext cx="528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281320" y="5106960"/>
              <a:ext cx="12600" cy="2311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4694040"/>
              <a:ext cx="11430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7000" y="4500360"/>
              <a:ext cx="114120" cy="169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94240" y="5356080"/>
              <a:ext cx="854280" cy="1115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0" y="5101920"/>
              <a:ext cx="1576440" cy="612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249960" y="6456240"/>
              <a:ext cx="1371600" cy="43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585040" y="4941360"/>
              <a:ext cx="1645920" cy="66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94120" y="5303520"/>
              <a:ext cx="117360" cy="10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24560" y="5295600"/>
              <a:ext cx="115920" cy="10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962440" y="5593680"/>
              <a:ext cx="2646360" cy="105084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79520" y="5111640"/>
              <a:ext cx="1586160" cy="49176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59200" y="5106960"/>
              <a:ext cx="1712880" cy="50580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97160" y="5109840"/>
              <a:ext cx="3278160" cy="48060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585040" y="5341320"/>
              <a:ext cx="0" cy="2631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73320" y="3946320"/>
              <a:ext cx="1589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(objectiv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8800" y="5295600"/>
              <a:ext cx="117360" cy="104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16920" y="5290920"/>
              <a:ext cx="114120" cy="104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917440" y="5632200"/>
              <a:ext cx="3335400" cy="98064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6280" y="6465600"/>
              <a:ext cx="3154320" cy="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70840" y="3905280"/>
              <a:ext cx="1233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(occula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3417480" y="5339880"/>
              <a:ext cx="9720" cy="1125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67120" y="5611680"/>
              <a:ext cx="1708200" cy="576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253200" y="5167080"/>
              <a:ext cx="1646280" cy="458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13080" y="5800680"/>
              <a:ext cx="11095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Virtual Imag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89720" y="5624280"/>
              <a:ext cx="660240" cy="61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89480" y="4873320"/>
              <a:ext cx="77328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Real Image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2" name=""/>
          <p:cNvGraphicFramePr/>
          <p:nvPr/>
        </p:nvGraphicFramePr>
        <p:xfrm>
          <a:off x="2475000" y="3071880"/>
          <a:ext cx="490680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5000" y="3071880"/>
                    <a:ext cx="4906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889520" y="485136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99080" y="5207040"/>
            <a:ext cx="673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14T18:07:05Z</dcterms:modified>
  <cp:revision>64</cp:revision>
  <dc:subject/>
  <dc:title>Phy 211: General Physics I</dc:title>
</cp:coreProperties>
</file>