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367B7-3C3D-483F-A270-D78CCD197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opy is a state function (like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entropy occur independent of path taken by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963-1AB5-4F14-9664-FA6BD2E1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495-E205-474E-AFAE-B551D8C0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7CC-7B06-4442-99D2-9ED81B69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09C-1442-42D6-8D3C-5F1A994D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DD4-C254-44C4-AFC8-98D2EBBE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116-0B20-4668-B7AB-049E23F6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FFA-3116-4882-8368-08454631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F4B-4F8A-41A1-B238-CBBB0BE1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767-9175-4E06-9586-2838403E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560-CAC4-42F1-9E00-05986156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BC0-B0DE-4633-8919-25AE7D5B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3B6-C7B5-4B3E-BFC8-7B0660D6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78C9-DB1D-4306-A441-040E94EB0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0: Entropy &amp; Heat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1000 Coin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851040"/>
            <a:ext cx="883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0 coin system (N+1=1001 possible configu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he entropy associated with flipping them and obtaining all “heads” (or “tails”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he entropy associated with flipping 500 “heads” &amp; 500 “tails”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41680" y="1739880"/>
          <a:ext cx="5276880" cy="13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739880"/>
                    <a:ext cx="527688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52440" y="3784680"/>
          <a:ext cx="8616960" cy="23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40" y="3784680"/>
                    <a:ext cx="861696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2 Dice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 = 2 dice, each die has 6 possibl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tropy associated with 2 “ones”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he entropy associated with any non-paired combination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014560" y="2151000"/>
          <a:ext cx="6006960" cy="15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4560" y="2151000"/>
                    <a:ext cx="600696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479600" y="4543560"/>
          <a:ext cx="7070760" cy="14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9600" y="4543560"/>
                    <a:ext cx="707076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tropy &amp; Inform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information theory, the entropy of a system represents the lower boundary of bits needed to represent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xample:  A 26 character alpha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that each letter has an equal probability of occurrence, a minimum of 5 bits are required to uniquely express all letters (say, using a keyboar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5360" y="4873680"/>
          <a:ext cx="851868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4873680"/>
                    <a:ext cx="85186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763800" y="2070000"/>
          <a:ext cx="5035680" cy="11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3800" y="2070000"/>
                    <a:ext cx="50356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trop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880" y="917640"/>
            <a:ext cx="8953560" cy="58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opy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disorder (or randomness) of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versible processes, entropy change is measured as the ratio of heat energy gained to the state tempera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net heat flow is positive for a system, the system entropy incre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lost by the surrounding environ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net heat flow is negative, system entropy decre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ained by the surrounding environ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t entropy change b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a completely (reversible) thermodynamic cycle operating between 2 defined constant temperature reservoi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entropy of the universe 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nive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ill never decrease, it will ei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in unchanged (for a reversible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(for an irreversible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opy change is related to the amount of energy lost irretrievably by a thermodynamic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W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unavailabl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S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univers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or   W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unavailabl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812960" y="1671480"/>
          <a:ext cx="18954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1671480"/>
                    <a:ext cx="18954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906800" y="1620720"/>
          <a:ext cx="37324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6800" y="1620720"/>
                    <a:ext cx="3732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406600" y="3817800"/>
          <a:ext cx="3746520" cy="65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6600" y="3817800"/>
                    <a:ext cx="374652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250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eat Engin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52280"/>
            <a:ext cx="84582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yclical process that utilizes heat energy input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 enable a working substance perform work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energy input equals the work performed plus the heat energy discar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 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= W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{Note: Q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negativ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= W - |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828800" y="1828800"/>
            <a:ext cx="4724280" cy="2362320"/>
            <a:chOff x="1828800" y="1828800"/>
            <a:chExt cx="4724280" cy="2362320"/>
          </a:xfrm>
        </p:grpSpPr>
        <p:sp>
          <p:nvSpPr>
            <p:cNvPr id="63" name=""/>
            <p:cNvSpPr/>
            <p:nvPr/>
          </p:nvSpPr>
          <p:spPr>
            <a:xfrm>
              <a:off x="3276720" y="1828800"/>
              <a:ext cx="205740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33720" y="182880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62520" y="2133720"/>
              <a:ext cx="68580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2209680"/>
              <a:ext cx="1371600" cy="533520"/>
            </a:xfrm>
            <a:prstGeom prst="rightArrow">
              <a:avLst>
                <a:gd name="adj1" fmla="val 50000"/>
                <a:gd name="adj2" fmla="val 6427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640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10080" y="228600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3771360" y="3543120"/>
              <a:ext cx="914400" cy="381240"/>
            </a:xfrm>
            <a:prstGeom prst="rightArrow">
              <a:avLst>
                <a:gd name="adj1" fmla="val 50000"/>
                <a:gd name="adj2" fmla="val 59962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05320" y="22860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t Eng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efrigera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720" y="829800"/>
            <a:ext cx="881532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yclical process that performs negative work, work is performed on system to absorb heat at low temperature then release heat energy at high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igerators operate as a heat energy in reverse and require input work (energy) to “drive” heat energy from low to high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energy discarded equals the work performed plus the heat energy in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W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Note: Q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s negati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 = W + |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73400" y="2308320"/>
            <a:ext cx="4724280" cy="2361240"/>
            <a:chOff x="2273400" y="2308320"/>
            <a:chExt cx="4724280" cy="2361240"/>
          </a:xfrm>
        </p:grpSpPr>
        <p:sp>
          <p:nvSpPr>
            <p:cNvPr id="75" name=""/>
            <p:cNvSpPr/>
            <p:nvPr/>
          </p:nvSpPr>
          <p:spPr>
            <a:xfrm>
              <a:off x="3721320" y="2308320"/>
              <a:ext cx="2057400" cy="13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78320" y="23083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40280" y="39081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07120" y="2612880"/>
              <a:ext cx="685800" cy="68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73400" y="2688840"/>
              <a:ext cx="1371600" cy="533160"/>
            </a:xfrm>
            <a:prstGeom prst="rightArrow">
              <a:avLst>
                <a:gd name="adj1" fmla="val 50000"/>
                <a:gd name="adj2" fmla="val 6431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31000" y="238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54680" y="2765160"/>
              <a:ext cx="1143000" cy="456840"/>
            </a:xfrm>
            <a:prstGeom prst="rightArrow">
              <a:avLst>
                <a:gd name="adj1" fmla="val 50000"/>
                <a:gd name="adj2" fmla="val 6254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16200000">
              <a:off x="4216320" y="4021560"/>
              <a:ext cx="914040" cy="381240"/>
            </a:xfrm>
            <a:prstGeom prst="rightArrow">
              <a:avLst>
                <a:gd name="adj1" fmla="val 50000"/>
                <a:gd name="adj2" fmla="val 5993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49920" y="276516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frig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3675240" y="1261800"/>
            <a:ext cx="5223960" cy="5528880"/>
            <a:chOff x="3675240" y="1261800"/>
            <a:chExt cx="5223960" cy="55288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3895920" y="3123720"/>
              <a:ext cx="5003280" cy="34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flipH="1" flipV="1">
              <a:off x="4917240" y="1261440"/>
              <a:ext cx="2149560" cy="477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80" y="54"/>
                  </a:moveTo>
                  <a:arcTo wR="10800" hR="10800" stAng="-5055727" swAng="50178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80" y="54"/>
                  </a:moveTo>
                  <a:arcTo wR="10800" hR="10800" stAng="-5055727" swAng="5017800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5324040" y="2523600"/>
              <a:ext cx="3187440" cy="362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80" y="54"/>
                  </a:moveTo>
                  <a:arcTo wR="10800" hR="10800" stAng="-5055727" swAng="3789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80" y="54"/>
                  </a:moveTo>
                  <a:arcTo wR="10800" hR="10800" stAng="-5055727" swAng="3789478"/>
                </a:path>
              </a:pathLst>
            </a:custGeom>
            <a:noFill/>
            <a:ln w="2844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4572360"/>
              <a:ext cx="438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31960" y="6330960"/>
              <a:ext cx="438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85160" y="3056040"/>
              <a:ext cx="0" cy="322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69680" y="6278760"/>
              <a:ext cx="442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347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Carnot Eng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not Cycle (Eng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“ideal” reversible heat engine (no heat engine can be more efficient than a Carnot eng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 stage engine that operates between 2 temperature reservoirs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nsist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isothermic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adabatic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fficiency of a Heat Eng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47760"/>
            <a:ext cx="86868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the effectiveness of a heat engine is its thermodynamic effici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Carnot (“ideal”) eng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30320" y="1825560"/>
          <a:ext cx="591660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1825560"/>
                    <a:ext cx="59166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81120" y="2901960"/>
          <a:ext cx="621036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1120" y="2901960"/>
                    <a:ext cx="62103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492200" y="4367160"/>
          <a:ext cx="552600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2200" y="4367160"/>
                    <a:ext cx="55260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68640" y="5060880"/>
          <a:ext cx="1714320" cy="89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8640" y="5060880"/>
                    <a:ext cx="171432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tistical Interpretation of Entropy: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ystem of N bodies and i possible states (n), the entropy associated with a particular state (in J/K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 is the # of microstates, or ways that the state can occur (called the “multiplicity” of configu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N, Stirling’s approximation is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 entropy of a state increases with the # of possible microstates will produc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Examples (Stirling’s Appro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009880" y="1798560"/>
          <a:ext cx="480672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1798560"/>
                    <a:ext cx="480672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852640" y="3890880"/>
          <a:ext cx="305604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2640" y="3890880"/>
                    <a:ext cx="305604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04800" y="5424480"/>
          <a:ext cx="64674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4800" y="5424480"/>
                    <a:ext cx="6467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82480" y="6111720"/>
          <a:ext cx="72057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2480" y="6111720"/>
                    <a:ext cx="72057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2 Coin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 identical coin sy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+1=3 possible configu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ossible states for each coin,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eads &amp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“tai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he entropy associated with both coins initially “heads”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When they are flipped, they land with 1 “head” &amp; 1 “tail”.  The entropy of this (most probable) stat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in entropy from state (1) to (2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 higher entropy state is the most likely to occu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38400" y="2193840"/>
          <a:ext cx="526428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2193840"/>
                    <a:ext cx="52642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146320" y="4124160"/>
          <a:ext cx="649764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6320" y="4124160"/>
                    <a:ext cx="649764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122560" y="5749920"/>
          <a:ext cx="436392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2560" y="5749920"/>
                    <a:ext cx="43639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4 Coin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850680"/>
            <a:ext cx="8839440" cy="54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 identical coin system (N+1=5 possible configu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associated with flipping them and obtaining all “heads” (or “tails”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associated with flipping 3 “heads” &amp; 1 “tail”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associated with flipping 3 “heads” &amp; 1 “tail”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560760" y="1716120"/>
          <a:ext cx="531828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0760" y="1716120"/>
                    <a:ext cx="531828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311120" y="3451320"/>
          <a:ext cx="6745320" cy="13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1120" y="3451320"/>
                    <a:ext cx="674532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298520" y="5156280"/>
          <a:ext cx="6945480" cy="13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8520" y="5156280"/>
                    <a:ext cx="69454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28T23:45:10Z</dcterms:modified>
  <cp:revision>56</cp:revision>
  <dc:subject>Ch 20: Entropy</dc:subject>
  <dc:title>Phy 211: General Physics I</dc:title>
</cp:coreProperties>
</file>