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F58614-A5B7-45B7-BE15-341D1EC87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8399CE-CF30-45C4-8B01-4B1C465AC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D0B2FA-1E06-4061-A0E7-02D33B5C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opy is a state function (like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entropy occur independent of path taken by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9F7-9E88-4B02-A373-7FCEDF9D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7A8-5452-4D15-86B4-8330737C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21BF-BD2D-4FBD-979B-89D02B8E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0EE-B53D-4CE2-8D88-42501D6A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5F7-2B86-410E-A6F3-158F398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43F-FE3F-4C67-9B54-87322B9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49F-1104-4865-8DAE-E7E53461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C3A-A3EA-4000-A909-193D6CC8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BB2-6B8D-48A8-95BC-CF468285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DF2-FEB0-4DD6-8812-7E3AB27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0E-80D2-462B-951D-DDF5B1B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6E5-20AF-4DEB-84BD-DC7EB31F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60B-6258-4BC6-BB32-2C0E9BB6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0: Entropy &amp; Heat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istical Interpretation of Entropy: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ystem of N bodies and i possible states (n), the entropy associated with a particular state (in J/K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 is the # of microstates, or ways that the state can occur (called the “multiplicity” of configu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, Stirling’s approximation is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 entropy of a state increases with the # of possible microstates will produc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Examples (Stirling’s Appro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009880" y="1798560"/>
          <a:ext cx="4806720" cy="10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1798560"/>
                    <a:ext cx="48067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2852640" y="3890880"/>
          <a:ext cx="3056040" cy="51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2640" y="3890880"/>
                    <a:ext cx="305604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604800" y="5424480"/>
          <a:ext cx="646740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800" y="5424480"/>
                    <a:ext cx="646740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82480" y="6111720"/>
          <a:ext cx="72057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2480" y="6111720"/>
                    <a:ext cx="72057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2 identical coin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+1=3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ossible states for each coin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eads &amp;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 “tai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both coins initially “heads”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When they are flipped, they land with 1 “head” &amp; 1 “tail”.  The entropy of this (most probable) stat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entropy from state (1) to (2)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higher entropy state is the most likely to occu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138400" y="2193840"/>
          <a:ext cx="5264280" cy="13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8400" y="2193840"/>
                    <a:ext cx="52642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146320" y="4124160"/>
          <a:ext cx="649764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6320" y="4124160"/>
                    <a:ext cx="649764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2122560" y="5749920"/>
          <a:ext cx="4363920" cy="4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2560" y="5749920"/>
                    <a:ext cx="43639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4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850680"/>
            <a:ext cx="8839440" cy="54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 identical coin system (N+1=5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ropy associated with flipping 3 “heads” &amp; 1 “tail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560760" y="1716120"/>
          <a:ext cx="531828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0760" y="1716120"/>
                    <a:ext cx="531828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311120" y="3451320"/>
          <a:ext cx="6745320" cy="13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1120" y="3451320"/>
                    <a:ext cx="67453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298520" y="5156280"/>
          <a:ext cx="6945480" cy="139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8520" y="5156280"/>
                    <a:ext cx="694548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1000 Coin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851040"/>
            <a:ext cx="8839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0 coin system (N+1=1001 possible configu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The entropy associated with flipping them and obtaining all “heads” (or “tails”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he entropy associated with flipping 500 “heads” &amp; 500 “tails”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541680" y="1739880"/>
          <a:ext cx="5276880" cy="13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1680" y="1739880"/>
                    <a:ext cx="527688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52440" y="3784680"/>
          <a:ext cx="8616960" cy="23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440" y="3784680"/>
                    <a:ext cx="861696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 2 Dice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 = 2 dice, each die has 6 possibl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ropy associated with 2 “ones”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entropy associated with any non-paired combina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14560" y="2151000"/>
          <a:ext cx="6006960" cy="15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4560" y="2151000"/>
                    <a:ext cx="600696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479600" y="4543560"/>
          <a:ext cx="7070760" cy="14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9600" y="4543560"/>
                    <a:ext cx="707076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 &amp; Inform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information theory, the entropy of a system represents the lower boundary of bits needed to represent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Example:  A 26 character alpha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that each letter has an equal probability of occurrence, a minimum of 5 bits are required to uniquely express all letters (say, using a keyboar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25360" y="4873680"/>
          <a:ext cx="85186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4873680"/>
                    <a:ext cx="85186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3763800" y="2070000"/>
          <a:ext cx="5035680" cy="11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63800" y="2070000"/>
                    <a:ext cx="503568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880" y="917640"/>
            <a:ext cx="8953560" cy="58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is a state variable (P, V and V are also state variab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variables describe the state of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state variables depend only on the initial and final states of a system and do not dependent on the specific path between the st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a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disorder (or randomness) of 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change reflects the changes in disorder associated with a thermodynamic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es, entropy change (dS) is measured as the ratio of heat energy gained to the state temp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et heat flow is positive for a system, the system entropy increa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lost by the surrounding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et heat flow is negative, system entropy decreas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gained by the surrounding environ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42800" y="4087800"/>
          <a:ext cx="21718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4087800"/>
                    <a:ext cx="21718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94040" y="4024440"/>
          <a:ext cx="4203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4040" y="4024440"/>
                    <a:ext cx="4203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tropy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: In a clos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entropy change for an irreversible process cannot be calculated, but IS equal to the entropy change for an equivalent reversible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Entropy Change for Reversible Proce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reversible isothermal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approximately isothermal proces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&lt;&l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ideal gas (when P, V and T can var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398680" y="2165400"/>
          <a:ext cx="422604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2165400"/>
                    <a:ext cx="422604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10200" y="3187800"/>
          <a:ext cx="3262320" cy="92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0200" y="3187800"/>
                    <a:ext cx="32623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378480" y="4594320"/>
          <a:ext cx="21114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78480" y="4594320"/>
                    <a:ext cx="21114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66760" y="5713560"/>
          <a:ext cx="6486840" cy="9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66760" y="5713560"/>
                    <a:ext cx="648684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 of Thermodynamics Revisite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entropy of the universe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ll never decrease.  Fo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osed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 unchanged (for a reversibl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(for an irreversibl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 entropy change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a complete thermodynamic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terpretation of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 is consistent with the previously described heat and temperature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 nature, heat only flows spontaneously in the direction of high T to cold 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531120" y="1855800"/>
          <a:ext cx="1287360" cy="37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1120" y="1855800"/>
                    <a:ext cx="12873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927520" y="3327480"/>
          <a:ext cx="23907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7520" y="3327480"/>
                    <a:ext cx="23907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460840" y="2238480"/>
          <a:ext cx="139716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60840" y="2238480"/>
                    <a:ext cx="13971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Eng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052280"/>
            <a:ext cx="8458200" cy="53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yclical process that utilizes thermal energy input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o enable a working substance perform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absorbed equals the work performed plus the heat  discar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 = W - |Q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828800" y="1828800"/>
            <a:ext cx="4724280" cy="2362320"/>
            <a:chOff x="1828800" y="1828800"/>
            <a:chExt cx="4724280" cy="2362320"/>
          </a:xfrm>
        </p:grpSpPr>
        <p:sp>
          <p:nvSpPr>
            <p:cNvPr id="79" name=""/>
            <p:cNvSpPr/>
            <p:nvPr/>
          </p:nvSpPr>
          <p:spPr>
            <a:xfrm>
              <a:off x="3276720" y="1828800"/>
              <a:ext cx="2057400" cy="1371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3720" y="182880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5680" y="3429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62520" y="2133720"/>
              <a:ext cx="68580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28800" y="2209680"/>
              <a:ext cx="1371600" cy="533520"/>
            </a:xfrm>
            <a:prstGeom prst="rightArrow">
              <a:avLst>
                <a:gd name="adj1" fmla="val 50000"/>
                <a:gd name="adj2" fmla="val 64271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86400" y="19051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10080" y="2286000"/>
              <a:ext cx="1143000" cy="457200"/>
            </a:xfrm>
            <a:prstGeom prst="rightArrow">
              <a:avLst>
                <a:gd name="adj1" fmla="val 50000"/>
                <a:gd name="adj2" fmla="val 625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400000">
              <a:off x="3771360" y="3543120"/>
              <a:ext cx="914400" cy="381240"/>
            </a:xfrm>
            <a:prstGeom prst="rightArrow">
              <a:avLst>
                <a:gd name="adj1" fmla="val 50000"/>
                <a:gd name="adj2" fmla="val 59962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22860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eat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Various Heat Engin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96880" y="2946960"/>
            <a:ext cx="3174480" cy="3682440"/>
            <a:chOff x="596880" y="2946960"/>
            <a:chExt cx="3174480" cy="3682440"/>
          </a:xfrm>
        </p:grpSpPr>
        <p:sp>
          <p:nvSpPr>
            <p:cNvPr id="90" name=""/>
            <p:cNvSpPr/>
            <p:nvPr/>
          </p:nvSpPr>
          <p:spPr>
            <a:xfrm>
              <a:off x="1015920" y="4051440"/>
              <a:ext cx="0" cy="22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015920" y="6222960"/>
              <a:ext cx="2438640" cy="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97160" y="4089240"/>
              <a:ext cx="12600" cy="147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65360" y="5219640"/>
              <a:ext cx="0" cy="55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1409760" y="2946960"/>
              <a:ext cx="236160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0800000">
              <a:off x="1413360" y="5308560"/>
              <a:ext cx="2287800" cy="48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61" swAng="5414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61" swAng="541496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6880" y="415296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3320" y="626112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90640" y="47116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12800" y="574056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0000" y="4127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to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96880" y="254520"/>
            <a:ext cx="4874760" cy="3466440"/>
            <a:chOff x="596880" y="254520"/>
            <a:chExt cx="4874760" cy="3466440"/>
          </a:xfrm>
        </p:grpSpPr>
        <p:sp>
          <p:nvSpPr>
            <p:cNvPr id="102" name=""/>
            <p:cNvSpPr/>
            <p:nvPr/>
          </p:nvSpPr>
          <p:spPr>
            <a:xfrm>
              <a:off x="1015920" y="1143000"/>
              <a:ext cx="0" cy="222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015920" y="3314880"/>
              <a:ext cx="243864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88800" y="2013120"/>
              <a:ext cx="1104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65640" y="25401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2210040" y="254520"/>
              <a:ext cx="2361600" cy="231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5684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56847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0000">
              <a:off x="1260360" y="1082160"/>
              <a:ext cx="4211280" cy="174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61" swAng="5351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61" swAng="5351147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6880" y="12445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3320" y="335268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55800" y="20574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39880" y="265428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4800" y="137160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esel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863960" y="2970720"/>
            <a:ext cx="3531960" cy="3684240"/>
            <a:chOff x="4863960" y="2970720"/>
            <a:chExt cx="3531960" cy="3684240"/>
          </a:xfrm>
        </p:grpSpPr>
        <p:sp>
          <p:nvSpPr>
            <p:cNvPr id="114" name=""/>
            <p:cNvSpPr/>
            <p:nvPr/>
          </p:nvSpPr>
          <p:spPr>
            <a:xfrm>
              <a:off x="5283360" y="4076640"/>
              <a:ext cx="0" cy="222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5283000" y="6248520"/>
              <a:ext cx="2438280" cy="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64240" y="4114800"/>
              <a:ext cx="0" cy="135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32440" y="5245200"/>
              <a:ext cx="0" cy="55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679000" y="2970720"/>
              <a:ext cx="2716920" cy="231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31" y="140"/>
                  </a:moveTo>
                  <a:arcTo wR="10800" hR="10800" stAng="-4846521" swAng="48465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31" y="140"/>
                  </a:moveTo>
                  <a:arcTo wR="10800" hR="10800" stAng="-4846521" swAng="4846521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5680080" y="5028840"/>
              <a:ext cx="2288520" cy="79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961" swAng="54149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961" swAng="541496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63960" y="417816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40760" y="628668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59600" y="415296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irling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78360" y="5765760"/>
              <a:ext cx="1231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con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6960" y="4686480"/>
              <a:ext cx="1231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=con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00600" y="-190440"/>
            <a:ext cx="4740480" cy="3987720"/>
            <a:chOff x="4800600" y="-190440"/>
            <a:chExt cx="4740480" cy="3987720"/>
          </a:xfrm>
        </p:grpSpPr>
        <p:sp>
          <p:nvSpPr>
            <p:cNvPr id="126" name=""/>
            <p:cNvSpPr/>
            <p:nvPr/>
          </p:nvSpPr>
          <p:spPr>
            <a:xfrm>
              <a:off x="5219640" y="1219320"/>
              <a:ext cx="0" cy="222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219640" y="3390840"/>
              <a:ext cx="2438640" cy="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0600" y="132084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77040" y="34290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745240" y="2058840"/>
              <a:ext cx="100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34120" y="2781360"/>
              <a:ext cx="137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6578280" y="-190440"/>
              <a:ext cx="213768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5684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568470"/>
                </a:path>
              </a:pathLst>
            </a:custGeom>
            <a:noFill/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5730840" y="893880"/>
              <a:ext cx="3810240" cy="2242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1" y="3524"/>
                  </a:moveTo>
                  <a:arcTo wR="10800" hR="10800" stAng="-2541085" swAng="2477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1" y="3524"/>
                  </a:moveTo>
                  <a:arcTo wR="10800" hR="10800" stAng="-2541085" swAng="2477271"/>
                </a:path>
              </a:pathLst>
            </a:custGeom>
            <a:noFill/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45480" y="2192400"/>
              <a:ext cx="82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720" y="23875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520" y="1447920"/>
              <a:ext cx="16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ayton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efrigerato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720" y="829800"/>
            <a:ext cx="88153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yclical process that performs negative work, work is performed on system to absorb heat at low temperature then release heat energy at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rigerators operate as a heat energy in reverse and require input work (energy) to “drive” heat energy from low to high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loss equals the work performed plus the heat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W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{Note: Q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s negati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u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 = W + |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73400" y="2308320"/>
            <a:ext cx="4724280" cy="2361240"/>
            <a:chOff x="2273400" y="2308320"/>
            <a:chExt cx="4724280" cy="2361240"/>
          </a:xfrm>
        </p:grpSpPr>
        <p:sp>
          <p:nvSpPr>
            <p:cNvPr id="140" name=""/>
            <p:cNvSpPr/>
            <p:nvPr/>
          </p:nvSpPr>
          <p:spPr>
            <a:xfrm>
              <a:off x="3721320" y="2308320"/>
              <a:ext cx="2057400" cy="137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8320" y="230832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40280" y="39081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07120" y="2612880"/>
              <a:ext cx="685800" cy="685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73400" y="2688840"/>
              <a:ext cx="1371600" cy="533160"/>
            </a:xfrm>
            <a:prstGeom prst="rightArrow">
              <a:avLst>
                <a:gd name="adj1" fmla="val 50000"/>
                <a:gd name="adj2" fmla="val 6431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31000" y="238428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4680" y="2765160"/>
              <a:ext cx="1143000" cy="456840"/>
            </a:xfrm>
            <a:prstGeom prst="rightArrow">
              <a:avLst>
                <a:gd name="adj1" fmla="val 50000"/>
                <a:gd name="adj2" fmla="val 6254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6200000">
              <a:off x="4216320" y="4021560"/>
              <a:ext cx="914040" cy="381240"/>
            </a:xfrm>
            <a:prstGeom prst="rightArrow">
              <a:avLst>
                <a:gd name="adj1" fmla="val 50000"/>
                <a:gd name="adj2" fmla="val 59939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49920" y="276516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friger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675240" y="944280"/>
            <a:ext cx="5223960" cy="5528880"/>
            <a:chOff x="3675240" y="944280"/>
            <a:chExt cx="5223960" cy="55288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3895920" y="2806200"/>
              <a:ext cx="5003280" cy="34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flipH="1" flipV="1">
              <a:off x="4917240" y="943920"/>
              <a:ext cx="2149560" cy="477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50178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50178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324040" y="2206080"/>
              <a:ext cx="3187440" cy="362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880" y="54"/>
                  </a:moveTo>
                  <a:arcTo wR="10800" hR="10800" stAng="-5055727" swAng="37894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880" y="54"/>
                  </a:moveTo>
                  <a:arcTo wR="10800" hR="10800" stAng="-5055727" swAng="3789478"/>
                </a:path>
              </a:pathLst>
            </a:custGeom>
            <a:noFill/>
            <a:ln w="2844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5240" y="425484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31960" y="6013440"/>
              <a:ext cx="438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5160" y="2738520"/>
              <a:ext cx="0" cy="322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69680" y="5961240"/>
              <a:ext cx="4422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347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Carno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rnot Cycle (Eng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“ideal” reversible heat engine (no heat engine can be more efficient than a Carnot eng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4 stage engine that operates between 2 temperature reservoirs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nsist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812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isothermal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olid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-381240"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adiabatic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0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shed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opy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84080" y="4781520"/>
          <a:ext cx="3014640" cy="174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080" y="4781520"/>
                    <a:ext cx="301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fficiency of a Heat Eng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247760"/>
            <a:ext cx="86868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the effectiveness of a heat engine is its thermodynamic 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Carnot (“ideal”) eng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30320" y="1825560"/>
          <a:ext cx="591660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825560"/>
                    <a:ext cx="59166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1581120" y="2901960"/>
          <a:ext cx="621036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1120" y="2901960"/>
                    <a:ext cx="621036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492200" y="4367160"/>
          <a:ext cx="552600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4367160"/>
                    <a:ext cx="5526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168640" y="5060880"/>
          <a:ext cx="1714320" cy="89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8640" y="5060880"/>
                    <a:ext cx="171432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3-13T21:46:34Z</dcterms:modified>
  <cp:revision>75</cp:revision>
  <dc:subject>Ch 20: Entropy</dc:subject>
  <dc:title>Phy 211: General Physics I</dc:title>
</cp:coreProperties>
</file>