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3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DA968B6-13EB-44D5-9C25-7AC195495D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D624F8C-4CB0-4C39-A4EC-B5AFD10F9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2F77403-CCC5-4EDE-9FA7-C616BD46C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ropy is a state function (like energ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s in entropy occur independent of path taken by th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7AB8-C3B1-416F-BE45-672A81AAA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2FB9-A106-4026-99A8-ED3E75E51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0FE5-CFAF-4470-B9A0-7EB7787E5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4100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300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22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4100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300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423A-C9F2-4AF3-A018-3D97864FB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1454-B179-45BD-9105-8CF309A56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0E6C-9F22-4E19-95AD-E6B2517DB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C3EF-82C3-4A74-9657-C06AD1089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594D-9DDE-47A8-80A7-51E4FA1AA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75840"/>
            <a:ext cx="822960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571B-E014-4239-9847-AA343D609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19B5-8EE6-4CBB-B1A9-B18AB4FD9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D061-B86D-41E6-AFDB-DB62115D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D11C-A13A-469A-854A-6D9306249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2CCB9-BFA0-4C46-9B3A-381D35D9DC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14560" cy="371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114560" y="0"/>
            <a:ext cx="8029440" cy="3636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wmf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Phy 212: General Physics II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20: Entropy &amp; Heat Eng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Statistical Interpretation of Entropy: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2280" y="1036440"/>
            <a:ext cx="8839440" cy="56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system of N bodies and i possible states (n), the entropy associated with a particular state (in J/K)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W is the # of microstates, or ways that the state can occur (called the “multiplicity” of configur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large N, Stirling’s approximation is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The entropy of a state increases with the # of possible microstates will produce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66"/>
                </a:solidFill>
                <a:latin typeface="Arial"/>
              </a:rPr>
              <a:t>Examples (Stirling’s Approx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2009880" y="1798560"/>
          <a:ext cx="4806720" cy="103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9880" y="1798560"/>
                    <a:ext cx="4806720" cy="10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2852640" y="3890880"/>
          <a:ext cx="3056040" cy="51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52640" y="3890880"/>
                    <a:ext cx="3056040" cy="5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604800" y="5424480"/>
          <a:ext cx="6467400" cy="444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4800" y="5424480"/>
                    <a:ext cx="646740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582480" y="6111720"/>
          <a:ext cx="7205760" cy="498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82480" y="6111720"/>
                    <a:ext cx="7205760" cy="4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A 2 Coin System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2 identical coin syste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+1=3 possible configur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possible states for each coin,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heads &amp;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 “tail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The entropy associated with both coins initially “heads”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When they are flipped, they land with 1 “head” &amp; 1 “tail”.  The entropy of this (most probable) state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ange in entropy from state (1) to (2)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The higher entropy state is the most likely to occu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2138400" y="2193840"/>
          <a:ext cx="5264280" cy="131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8400" y="2193840"/>
                    <a:ext cx="5264280" cy="13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2146320" y="4124160"/>
          <a:ext cx="6497640" cy="130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46320" y="4124160"/>
                    <a:ext cx="649764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2122560" y="5749920"/>
          <a:ext cx="4363920" cy="471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22560" y="5749920"/>
                    <a:ext cx="436392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A 4 Coin System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2280" y="850680"/>
            <a:ext cx="8839440" cy="54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4 identical coin system (N+1=5 possible configur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ntropy associated with flipping them and obtaining all “heads” (or “tails”)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ntropy associated with flipping 3 “heads” &amp; 1 “tail”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ntropy associated with flipping 3 “heads” &amp; 1 “tail”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3560760" y="1716120"/>
          <a:ext cx="5318280" cy="133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0760" y="1716120"/>
                    <a:ext cx="5318280" cy="13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1311120" y="3451320"/>
          <a:ext cx="6745320" cy="135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11120" y="3451320"/>
                    <a:ext cx="6745320" cy="135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1298520" y="5156280"/>
          <a:ext cx="6945480" cy="1393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8520" y="5156280"/>
                    <a:ext cx="6945480" cy="13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A 1000 Coin System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2280" y="851040"/>
            <a:ext cx="8839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1000 coin system (N+1=1001 possible configur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The entropy associated with flipping them and obtaining all “heads” (or “tails”)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The entropy associated with flipping 500 “heads” &amp; 500 “tails”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3541680" y="1739880"/>
          <a:ext cx="5276880" cy="131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41680" y="1739880"/>
                    <a:ext cx="5276880" cy="13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352440" y="3784680"/>
          <a:ext cx="8616960" cy="2386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2440" y="3784680"/>
                    <a:ext cx="8616960" cy="23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A 2 Dice System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N = 2 dice, each die has 6 possible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ntropy associated with 2 “ones”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The entropy associated with any non-paired combination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2014560" y="2151000"/>
          <a:ext cx="6006960" cy="150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14560" y="2151000"/>
                    <a:ext cx="6006960" cy="15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1479600" y="4543560"/>
          <a:ext cx="7070760" cy="1419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79600" y="4543560"/>
                    <a:ext cx="7070760" cy="14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Entropy &amp; Information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information theory, the entropy of a system represents the lower boundary of bits needed to represent in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Example:  A 26 character alphab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ing that each letter has an equal probability of occurrence, a minimum of 5 bits are required to uniquely express all letters (say, using a keyboard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225360" y="4873680"/>
          <a:ext cx="8518680" cy="108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5360" y="4873680"/>
                    <a:ext cx="8518680" cy="108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3763800" y="2070000"/>
          <a:ext cx="5035680" cy="112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63800" y="2070000"/>
                    <a:ext cx="5035680" cy="11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94920"/>
            <a:ext cx="77724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Entropy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880" y="917640"/>
            <a:ext cx="8953560" cy="58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opy is a state variable (P, V and V are also state variab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variables describe the state of a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s in state variables depend only on the initial and final states of a system and do not dependent on the specific path between the sta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opy i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eas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disorder (or randomness) of a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opy change reflects the changes in disorder associated with a thermodynamic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versi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cesses, entropy change (dS) is measured as the ratio of heat energy gained to the state temperat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34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net heat flow is positive for a system, the system entropy increas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and lost by the surrounding environ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34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net heat flow is negative, system entropy decreas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and gained by the surrounding environ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42800" y="4087800"/>
          <a:ext cx="2171880" cy="83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800" y="4087800"/>
                    <a:ext cx="217188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3794040" y="4024440"/>
          <a:ext cx="420372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94040" y="4024440"/>
                    <a:ext cx="42037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Entropy (cont.)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OTE: In a closed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entropy change for an irreversible process cannot be calculated, but IS equal to the entropy change for an equivalent reversible proce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of Entropy Change for Reversible Proces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 reversible isothermal proce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n approximately isothermal process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&lt;&lt;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v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n ideal gas (when P, V and T can vary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2398680" y="2165400"/>
          <a:ext cx="4226040" cy="59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8680" y="2165400"/>
                    <a:ext cx="422604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5110200" y="3187800"/>
          <a:ext cx="3262320" cy="927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10200" y="3187800"/>
                    <a:ext cx="3262320" cy="92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6378480" y="4594320"/>
          <a:ext cx="2111400" cy="952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78480" y="4594320"/>
                    <a:ext cx="211140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2066760" y="5713560"/>
          <a:ext cx="6486840" cy="961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66760" y="5713560"/>
                    <a:ext cx="648684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a50021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 Law of Thermodynamics Revisited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otal entropy of the universe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univer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will never decrease.  For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losed syst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univer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ll ei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ain unchanged (for a reversible proc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 (for an irreversible proc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et entropy change b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 univer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ue to a complete thermodynamic proc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nterpretation of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w is consistent with the previously described heat and temperature defini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 algn="ctr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In nature, heat only flows spontaneously in the direction of high T to cold 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6531120" y="1855800"/>
          <a:ext cx="1287360" cy="37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31120" y="1855800"/>
                    <a:ext cx="1287360" cy="37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2927520" y="3327480"/>
          <a:ext cx="2390760" cy="55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27520" y="3327480"/>
                    <a:ext cx="239076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5460840" y="2238480"/>
          <a:ext cx="1397160" cy="38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60840" y="2238480"/>
                    <a:ext cx="139716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2508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Heat Engine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520" y="1052280"/>
            <a:ext cx="8458200" cy="53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85280" indent="-48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yclical process that utilizes thermal energy input 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to enable a working substance perform wo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 absorbed equals the work performed plus the heat  discard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5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Q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Arial"/>
              </a:rPr>
              <a:t>in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+ Q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Arial"/>
              </a:rPr>
              <a:t>out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= W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{Note: Q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is negative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52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|Q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Arial"/>
              </a:rPr>
              <a:t>in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| = W - |Q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Arial"/>
              </a:rPr>
              <a:t>out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|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828800" y="1828800"/>
            <a:ext cx="4724280" cy="2362320"/>
            <a:chOff x="1828800" y="1828800"/>
            <a:chExt cx="4724280" cy="2362320"/>
          </a:xfrm>
        </p:grpSpPr>
        <p:sp>
          <p:nvSpPr>
            <p:cNvPr id="79" name=""/>
            <p:cNvSpPr/>
            <p:nvPr/>
          </p:nvSpPr>
          <p:spPr>
            <a:xfrm>
              <a:off x="3276720" y="1828800"/>
              <a:ext cx="2057400" cy="1371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133720" y="182880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495680" y="34290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962520" y="2133720"/>
              <a:ext cx="685800" cy="6858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828800" y="2209680"/>
              <a:ext cx="1371600" cy="533520"/>
            </a:xfrm>
            <a:prstGeom prst="rightArrow">
              <a:avLst>
                <a:gd name="adj1" fmla="val 50000"/>
                <a:gd name="adj2" fmla="val 64271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486400" y="190512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410080" y="2286000"/>
              <a:ext cx="1143000" cy="457200"/>
            </a:xfrm>
            <a:prstGeom prst="rightArrow">
              <a:avLst>
                <a:gd name="adj1" fmla="val 50000"/>
                <a:gd name="adj2" fmla="val 625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rot="5400000">
              <a:off x="3771360" y="3543120"/>
              <a:ext cx="914400" cy="381240"/>
            </a:xfrm>
            <a:prstGeom prst="rightArrow">
              <a:avLst>
                <a:gd name="adj1" fmla="val 50000"/>
                <a:gd name="adj2" fmla="val 59962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505320" y="228600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Heat Eng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Examples of Various Heat Engine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96880" y="2946960"/>
            <a:ext cx="3174480" cy="3682440"/>
            <a:chOff x="596880" y="2946960"/>
            <a:chExt cx="3174480" cy="3682440"/>
          </a:xfrm>
        </p:grpSpPr>
        <p:sp>
          <p:nvSpPr>
            <p:cNvPr id="90" name=""/>
            <p:cNvSpPr/>
            <p:nvPr/>
          </p:nvSpPr>
          <p:spPr>
            <a:xfrm>
              <a:off x="1015920" y="4051440"/>
              <a:ext cx="0" cy="222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015920" y="6222960"/>
              <a:ext cx="2438640" cy="2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397160" y="4089240"/>
              <a:ext cx="12600" cy="1473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565360" y="5219640"/>
              <a:ext cx="0" cy="558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rot="10800000">
              <a:off x="1409760" y="2946960"/>
              <a:ext cx="2361600" cy="2310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rot="10800000">
              <a:off x="1413360" y="5308560"/>
              <a:ext cx="2287800" cy="48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53" y="0"/>
                  </a:moveTo>
                  <a:arcTo wR="10800" hR="10800" stAng="-5414961" swAng="54149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53" y="0"/>
                  </a:moveTo>
                  <a:arcTo wR="10800" hR="10800" stAng="-5414961" swAng="5414961"/>
                </a:path>
              </a:pathLst>
            </a:custGeom>
            <a:noFill/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96880" y="4152960"/>
              <a:ext cx="52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073320" y="6261120"/>
              <a:ext cx="52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790640" y="471168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=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612800" y="574056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=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070000" y="4127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tto Cyc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96880" y="254520"/>
            <a:ext cx="4874760" cy="3466440"/>
            <a:chOff x="596880" y="254520"/>
            <a:chExt cx="4874760" cy="3466440"/>
          </a:xfrm>
        </p:grpSpPr>
        <p:sp>
          <p:nvSpPr>
            <p:cNvPr id="102" name=""/>
            <p:cNvSpPr/>
            <p:nvPr/>
          </p:nvSpPr>
          <p:spPr>
            <a:xfrm>
              <a:off x="1015920" y="1143000"/>
              <a:ext cx="0" cy="222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1015920" y="3314880"/>
              <a:ext cx="2438640" cy="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1288800" y="2013120"/>
              <a:ext cx="1104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65640" y="2540160"/>
              <a:ext cx="0" cy="27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10800000">
              <a:off x="2210040" y="254520"/>
              <a:ext cx="2361600" cy="2310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35684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3568470"/>
                </a:path>
              </a:pathLst>
            </a:custGeom>
            <a:noFill/>
            <a:ln w="1908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10800000">
              <a:off x="1260360" y="1082160"/>
              <a:ext cx="4211280" cy="174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53" y="0"/>
                  </a:moveTo>
                  <a:arcTo wR="10800" hR="10800" stAng="-5414961" swAng="53511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53" y="0"/>
                  </a:moveTo>
                  <a:arcTo wR="10800" hR="10800" stAng="-5414961" swAng="5351147"/>
                </a:path>
              </a:pathLst>
            </a:custGeom>
            <a:noFill/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96880" y="1244520"/>
              <a:ext cx="52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073320" y="3352680"/>
              <a:ext cx="52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755800" y="205740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=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739880" y="265428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=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44800" y="1371600"/>
              <a:ext cx="16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esel Cyc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4863960" y="2970720"/>
            <a:ext cx="3531960" cy="3684240"/>
            <a:chOff x="4863960" y="2970720"/>
            <a:chExt cx="3531960" cy="3684240"/>
          </a:xfrm>
        </p:grpSpPr>
        <p:sp>
          <p:nvSpPr>
            <p:cNvPr id="114" name=""/>
            <p:cNvSpPr/>
            <p:nvPr/>
          </p:nvSpPr>
          <p:spPr>
            <a:xfrm>
              <a:off x="5283360" y="4076640"/>
              <a:ext cx="0" cy="222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5283000" y="6248520"/>
              <a:ext cx="2438280" cy="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664240" y="4114800"/>
              <a:ext cx="0" cy="135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832440" y="5245200"/>
              <a:ext cx="0" cy="558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10800000">
              <a:off x="5679000" y="2970720"/>
              <a:ext cx="2716920" cy="2312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531" y="140"/>
                  </a:moveTo>
                  <a:arcTo wR="10800" hR="10800" stAng="-4846521" swAng="48465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2531" y="140"/>
                  </a:moveTo>
                  <a:arcTo wR="10800" hR="10800" stAng="-4846521" swAng="4846521"/>
                </a:path>
              </a:pathLst>
            </a:custGeom>
            <a:noFill/>
            <a:ln w="1908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0800000">
              <a:off x="5680080" y="5028840"/>
              <a:ext cx="2288520" cy="79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53" y="0"/>
                  </a:moveTo>
                  <a:arcTo wR="10800" hR="10800" stAng="-5414961" swAng="54149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53" y="0"/>
                  </a:moveTo>
                  <a:arcTo wR="10800" hR="10800" stAng="-5414961" swAng="5414961"/>
                </a:path>
              </a:pathLst>
            </a:custGeom>
            <a:noFill/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863960" y="4178160"/>
              <a:ext cx="52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40760" y="6286680"/>
              <a:ext cx="52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159600" y="4152960"/>
              <a:ext cx="161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irling Cyc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78360" y="5765760"/>
              <a:ext cx="12319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=con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06960" y="4686480"/>
              <a:ext cx="12319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=con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800600" y="-190440"/>
            <a:ext cx="4740480" cy="3987720"/>
            <a:chOff x="4800600" y="-190440"/>
            <a:chExt cx="4740480" cy="3987720"/>
          </a:xfrm>
        </p:grpSpPr>
        <p:sp>
          <p:nvSpPr>
            <p:cNvPr id="126" name=""/>
            <p:cNvSpPr/>
            <p:nvPr/>
          </p:nvSpPr>
          <p:spPr>
            <a:xfrm>
              <a:off x="5219640" y="1219320"/>
              <a:ext cx="0" cy="222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5219640" y="3390840"/>
              <a:ext cx="2438640" cy="2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00600" y="1320840"/>
              <a:ext cx="52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277040" y="3429000"/>
              <a:ext cx="52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5745240" y="2058840"/>
              <a:ext cx="1000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34120" y="2781360"/>
              <a:ext cx="1379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10800000">
              <a:off x="6578280" y="-190440"/>
              <a:ext cx="2137680" cy="297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35684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3568470"/>
                </a:path>
              </a:pathLst>
            </a:custGeom>
            <a:noFill/>
            <a:ln w="1908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10800000">
              <a:off x="5730840" y="893880"/>
              <a:ext cx="3810240" cy="224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781" y="3524"/>
                  </a:moveTo>
                  <a:arcTo wR="10800" hR="10800" stAng="-2541085" swAng="24772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8781" y="3524"/>
                  </a:moveTo>
                  <a:arcTo wR="10800" hR="10800" stAng="-2541085" swAng="2477271"/>
                </a:path>
              </a:pathLst>
            </a:custGeom>
            <a:noFill/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945480" y="2192400"/>
              <a:ext cx="826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=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346720" y="238752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=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248520" y="1447920"/>
              <a:ext cx="16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rayton Cyc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821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Refrigerator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6720" y="829800"/>
            <a:ext cx="8815320" cy="58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yclical process that performs negative work, work is performed on system to absorb heat at low temperature then release heat energy at high temper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rigerators operate as a heat energy in reverse and require input work (energy) to “drive” heat energy from low to high temper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t loss equals the work performed plus the heat gai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Q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in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+ Q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out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= W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{Note: Q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out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is negative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8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|Q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out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| = W + |Q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in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273400" y="2308320"/>
            <a:ext cx="4724280" cy="2361240"/>
            <a:chOff x="2273400" y="2308320"/>
            <a:chExt cx="4724280" cy="2361240"/>
          </a:xfrm>
        </p:grpSpPr>
        <p:sp>
          <p:nvSpPr>
            <p:cNvPr id="140" name=""/>
            <p:cNvSpPr/>
            <p:nvPr/>
          </p:nvSpPr>
          <p:spPr>
            <a:xfrm>
              <a:off x="3721320" y="2308320"/>
              <a:ext cx="2057400" cy="137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578320" y="230832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940280" y="390816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407120" y="2612880"/>
              <a:ext cx="685800" cy="685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273400" y="2688840"/>
              <a:ext cx="1371600" cy="533160"/>
            </a:xfrm>
            <a:prstGeom prst="rightArrow">
              <a:avLst>
                <a:gd name="adj1" fmla="val 50000"/>
                <a:gd name="adj2" fmla="val 64315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931000" y="238428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854680" y="2765160"/>
              <a:ext cx="1143000" cy="456840"/>
            </a:xfrm>
            <a:prstGeom prst="rightArrow">
              <a:avLst>
                <a:gd name="adj1" fmla="val 50000"/>
                <a:gd name="adj2" fmla="val 62549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 rot="16200000">
              <a:off x="4216320" y="4021560"/>
              <a:ext cx="914040" cy="381240"/>
            </a:xfrm>
            <a:prstGeom prst="rightArrow">
              <a:avLst>
                <a:gd name="adj1" fmla="val 50000"/>
                <a:gd name="adj2" fmla="val 59939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949920" y="276516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frigerat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"/>
          <p:cNvGrpSpPr/>
          <p:nvPr/>
        </p:nvGrpSpPr>
        <p:grpSpPr>
          <a:xfrm>
            <a:off x="3675240" y="944280"/>
            <a:ext cx="5223960" cy="5528880"/>
            <a:chOff x="3675240" y="944280"/>
            <a:chExt cx="5223960" cy="5528880"/>
          </a:xfrm>
        </p:grpSpPr>
        <p:pic>
          <p:nvPicPr>
            <p:cNvPr id="150" name="" descr=""/>
            <p:cNvPicPr/>
            <p:nvPr/>
          </p:nvPicPr>
          <p:blipFill>
            <a:blip r:embed="rId1"/>
            <a:stretch/>
          </p:blipFill>
          <p:spPr>
            <a:xfrm>
              <a:off x="3895920" y="2806200"/>
              <a:ext cx="5003280" cy="342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 flipH="1" flipV="1">
              <a:off x="4917240" y="943920"/>
              <a:ext cx="2149560" cy="477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880" y="54"/>
                  </a:moveTo>
                  <a:arcTo wR="10800" hR="10800" stAng="-5055727" swAng="50178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1880" y="54"/>
                  </a:moveTo>
                  <a:arcTo wR="10800" hR="10800" stAng="-5055727" swAng="5017800"/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 flipV="1">
              <a:off x="5324040" y="2206080"/>
              <a:ext cx="3187440" cy="362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880" y="54"/>
                  </a:moveTo>
                  <a:arcTo wR="10800" hR="10800" stAng="-5055727" swAng="3789478"/>
                  <a:lnTo>
                    <a:pt x="10800" y="10800"/>
                  </a:lnTo>
                  <a:close/>
                </a:path>
                <a:path fill="none" w="21600" h="21600">
                  <a:moveTo>
                    <a:pt x="11880" y="54"/>
                  </a:moveTo>
                  <a:arcTo wR="10800" hR="10800" stAng="-5055727" swAng="3789478"/>
                </a:path>
              </a:pathLst>
            </a:custGeom>
            <a:noFill/>
            <a:ln w="2844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75240" y="4254840"/>
              <a:ext cx="438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231960" y="6013440"/>
              <a:ext cx="438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85160" y="2738520"/>
              <a:ext cx="0" cy="322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369680" y="5961240"/>
              <a:ext cx="4422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3472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The Carnot Engin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arnot Cycle (Engi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270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“ideal” reversible heat engine (no heat engine can be more efficient than a Carnot engi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270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4 stage engine that operates between 2 temperature reservoirs (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h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ol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consisting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70080" indent="-381240"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isothermal ph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70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Solid lin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70080" indent="-381240">
              <a:spcBef>
                <a:spcPts val="451"/>
              </a:spcBef>
              <a:buClr>
                <a:srgbClr val="000000"/>
              </a:buClr>
              <a:buFont typeface="Arial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adiabatic ph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70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dashed lin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7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270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opy chang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784080" y="4781520"/>
          <a:ext cx="3014640" cy="174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4080" y="4781520"/>
                    <a:ext cx="3014640" cy="17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46332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Efficiency of a Heat Engin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" y="1247760"/>
            <a:ext cx="8686800" cy="56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easure of the effectiveness of a heat engine is its thermodynamic efficienc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he Carnot (“ideal”) engi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930320" y="1825560"/>
          <a:ext cx="5916600" cy="9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30320" y="1825560"/>
                    <a:ext cx="5916600" cy="9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1581120" y="2901960"/>
          <a:ext cx="6210360" cy="97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81120" y="2901960"/>
                    <a:ext cx="6210360" cy="9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1492200" y="4367160"/>
          <a:ext cx="5526000" cy="865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92200" y="4367160"/>
                    <a:ext cx="552600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2168640" y="5060880"/>
          <a:ext cx="1714320" cy="897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68640" y="5060880"/>
                    <a:ext cx="1714320" cy="8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09:15Z</dcterms:created>
  <dc:creator>Tony Zable</dc:creator>
  <dc:description/>
  <dc:language>en-US</dc:language>
  <cp:lastModifiedBy>pccuser</cp:lastModifiedBy>
  <dcterms:modified xsi:type="dcterms:W3CDTF">2008-03-13T21:46:34Z</dcterms:modified>
  <cp:revision>75</cp:revision>
  <dc:subject>Ch 20: Entropy</dc:subject>
  <dc:title>Phy 211: General Physics I</dc:title>
</cp:coreProperties>
</file>