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6BA232-B3D1-4BB0-8F58-A1DB8C04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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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“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5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A2E-F0FB-4244-8A89-38C2D964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1D7-17CA-476C-AA59-D615718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FFF-5780-4FA6-A976-45BA685E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19B-1068-4C1D-B38E-BA2E5C00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70A-1FE4-42B7-8DEF-0F163BD0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619-0E9B-46FD-8A89-BF726276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CCA-9BD8-4ABF-9A44-DEAF79F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350-B9B6-4EB3-BC24-702B27CB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3CF-C256-46F9-8059-32CB420A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C15-9D92-4A7A-A9ED-C9BC933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AE6-231A-4C25-8584-33EE150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D51-3FA1-4336-B704-672B652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B03F-4B37-49B5-93E4-94C201E88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9: Ideal Gases &amp; Thermo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sochor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the volume (V) of the working substance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ork is performed during this process si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{area under PV curve is zer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nergy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creases as heat energy (Q) is  absorbed by the working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nergy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creases as heat (Q) is released by the working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 &amp; W = 0, then all internal energy changes are due to thermal transf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dQ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Q = n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sobar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38160"/>
            <a:ext cx="8534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the pressure (P) of the working substance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, then the area under the PV curve (the work performed) is equal to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 = P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work performed by working substanc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l energy change of the system is equal to the difference between heat energy absorbed &amp; work performed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Q – W = Q - P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where Q=n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l energy ch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lso related to the change in temperatur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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(3/2)n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{monatomic ga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(5/2)n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{diatomic ga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36320"/>
            <a:ext cx="83818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lar Heat Capacity &amp; 1</a:t>
            </a:r>
            <a:r>
              <a:rPr b="0" lang="en-US" sz="28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Law of Thermodynamics (for monatomic gases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(Q) absorbed by a ga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 = cn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 is the molar heat capacity (J/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gases it is necessary to distinguish between molar heat capacity at constant pressure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constant volume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egin with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nstant volu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3/2)nRT &amp; W = 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nstant press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3/2)nRT &amp; W = P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n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71440" y="5097600"/>
          <a:ext cx="412920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5097600"/>
                    <a:ext cx="4129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157400" y="6014880"/>
          <a:ext cx="55022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7400" y="6014880"/>
                    <a:ext cx="5502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55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diabat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no heat energy (Q) is allowed to enter or leave the system, Q = 0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– W = -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on the working substance increases its internal energy by exactly the sam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performed by the working substance decreases its internal energy by exactly the sam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W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onatomic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atomic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54000" y="4543560"/>
          <a:ext cx="312732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4543560"/>
                    <a:ext cx="31273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154480" y="4522680"/>
          <a:ext cx="331632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4480" y="4522680"/>
                    <a:ext cx="33163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906480" y="5413320"/>
          <a:ext cx="316404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5413320"/>
                    <a:ext cx="31640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87960" y="5411880"/>
          <a:ext cx="327024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7960" y="5411880"/>
                    <a:ext cx="3270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90600"/>
            <a:ext cx="85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-V &amp; T-V relations for Adiabat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gas undergoes an adiabatic expansion/contraction the relationship between pressure and volu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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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ratio the molar heat capacities at constant P and V, 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notomic gases,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5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tomic gases,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7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unting Ato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95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 = 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vogadro’s number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he mole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, a one mole quantity of any element has a mass (in grams) equal to its atomic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he relationship between mass and numerical quantity of any element or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.g. Molar mass of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.008 g/m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H atoms has a mass of 1.008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16.00 g/m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O atoms has a mass of 16.00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.g. Molar mass of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x 1.008 g/mol = 2.01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mass of 2.016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2.016+16.00 g/mol =18.01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has a mass of 18.016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0200" y="291960"/>
            <a:ext cx="7772400" cy="6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Ideal Ga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60" y="7668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able physical parameters that describe the state of a simple ga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gas particles or molecules (n or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(T) i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 that describes how these parameters are related is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 Ga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which takes 2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 is # of moles &amp; 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al G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terna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ii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 is # of gas particles &amp; k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ltzmann’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57480" y="3497400"/>
          <a:ext cx="357156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497400"/>
                    <a:ext cx="3571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246320" y="5246640"/>
          <a:ext cx="38433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6320" y="5246640"/>
                    <a:ext cx="38433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292800" y="5280120"/>
          <a:ext cx="210816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92800" y="5280120"/>
                    <a:ext cx="210816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Theory of Ga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843120"/>
            <a:ext cx="853416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pressure is due to molecular collisions between gas particles and the walls of th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 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a single gas particle and is proportional to the bulk gas temperature 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 is the # of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3 for monatomic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5 for diatomic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6 for polyatomic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-mean-squared speed of the gas partic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a (monatomic) gas samp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12880" y="2411280"/>
          <a:ext cx="48373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2411280"/>
                    <a:ext cx="4837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836720" y="6075360"/>
          <a:ext cx="48182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6075360"/>
                    <a:ext cx="48182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33600" y="4778280"/>
          <a:ext cx="43876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3600" y="4778280"/>
                    <a:ext cx="4387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15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ws of Thermodynam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84320"/>
            <a:ext cx="89154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2 objects are in thermodynamic equilibrium independently with a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, they are in fact in thermodynamic equilibrium with each other or in other wor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use a thermometer to measure the temperature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Q – 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where d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dQ – d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limit of heat engin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nature, heat only flows spontaneously from high T to cold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eat engine can never be more efficient that a “Carnot” engine operating between the same hot &amp; cold temperatur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tropy of the universe neve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not possible to lower the temperature of a system to absolute in a finite number of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ssible to reach the temperature of absolute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ws of Thermodynamic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alternative interpreta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560" y="930240"/>
            <a:ext cx="883908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Also known as Ginsberg’s Theorem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game and you can pla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't wi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't break 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't get out of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erversity of the universe tends towards a maximum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{The Law of Entr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An interesting comment on this interpretation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source: some guy named Freeman)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080" y="4356000"/>
            <a:ext cx="883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major philosophy that attempts to make life seem meaningful is based on the negation of one part of Ginsberg’s Theorem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w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italism is based on the assumption that you can w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cialism is based on the assumption that you can break 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sticism is based on the assumption that you can quit the ga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essure-Volume Graph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102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visual display of a ga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the work performed during a thermodynamic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under the PV curve is the work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phs on the right are PV curves performed at constant temperature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71880" y="1409760"/>
          <a:ext cx="591984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09760"/>
                    <a:ext cx="59198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04360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mportant Thermodynamic Processes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for gases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otherm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0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ochoric (or isovolumetric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 means W =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work performed on/by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obar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 means W =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iabat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gain/loss of heat energy 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0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sothermal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2360" y="949320"/>
            <a:ext cx="850896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the temperature (T) of the working substance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ork is performed on the working substance, it releases the energy as heat (Q)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{Q is releas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eat energy (Q) absorbed is converted to work by the working substanc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{Q is absorb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0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Q – W 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work performe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working substanc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98480" y="4708440"/>
          <a:ext cx="725004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4708440"/>
                    <a:ext cx="7250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9T00:12:15Z</dcterms:modified>
  <cp:revision>75</cp:revision>
  <dc:subject/>
  <dc:title>Phy 211: General Physics I</dc:title>
</cp:coreProperties>
</file>