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BA160A-A542-4573-835E-D1DB3851A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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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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“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5/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175F-BD59-43DB-82CD-92E7ED5B0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0AC1-183B-4B30-856F-ACE3C095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41A-1353-4A54-A95A-1C31A776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A319-DF74-4ADE-A18D-3B10A043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2C4B-9248-4BE2-A005-F6F4BE52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8B92-2B2B-45F5-8753-4BBE7DEE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7496-A193-4E3E-BFE8-E892AB5C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C258-D36A-407E-B8B7-C9D9B7AF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7E58-91B9-4EC4-9F44-88D1268E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1B3F-745B-40AB-9A1E-1AF5F7AF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EDD0-E003-471E-98CC-FDBDB700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B330-5DA0-412B-8BEE-61AC69DC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52AE-1AE0-41C2-A38C-A8ED5C26D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2: General Physics I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9: Ideal Gases &amp; Thermo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sochoric Process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where the volume (V) of the working substance remain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work is performed during this process si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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0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{area under PV curve is zero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energy 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ncreases as heat energy (Q) is  absorbed by the working sub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energy 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decreases as heat (Q) is released by the working sub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0 &amp; W = 0, then all internal energy changes are due to thermal transf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int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= dQ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int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= Q = nc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347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sobaric Process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938160"/>
            <a:ext cx="8534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where the pressure (P) of the working substance remain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0, then the area under the PV curve (the work performed) is equal to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 = P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{work performed by working substanc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nal energy change of the system is equal to the difference between heat energy absorbed &amp; work performed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Q – W = Q - P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{where Q=nc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nal energy chang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also related to the change in temperatur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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(3/2)n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 {monatomic gas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(5/2)n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 {diatomic gas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436320"/>
            <a:ext cx="83818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olar Heat Capacity &amp; 1</a:t>
            </a:r>
            <a:r>
              <a:rPr b="0" lang="en-US" sz="2800" spc="-1" strike="noStrike" baseline="30000">
                <a:solidFill>
                  <a:srgbClr val="a50021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Law of Thermodynamics (for monatomic gases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at (Q) absorbed by a gas can be express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 = cn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c is the molar heat capacity (J/mo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gases it is necessary to distinguish between molar heat capacity at constant pressure 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constant volume (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begin with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 of Thermodynam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 =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+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constant volum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3/2)nRT &amp; W = 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constant pressur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3/2)nRT &amp; W = P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= nR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71440" y="5097600"/>
          <a:ext cx="4129200" cy="4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1440" y="5097600"/>
                    <a:ext cx="4129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157400" y="6014880"/>
          <a:ext cx="550224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7400" y="6014880"/>
                    <a:ext cx="55022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55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diabatic Process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3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where no heat energy (Q) is allowed to enter or leave the system, Q = 0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Q – W = -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performed on the working substance increases its internal energy by exactly the same 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d performed by the working substance decreases its internal energy by exactly the same am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-W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monatomic g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932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diatomic g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54000" y="4543560"/>
          <a:ext cx="3127320" cy="43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4543560"/>
                    <a:ext cx="312732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5154480" y="4522680"/>
          <a:ext cx="3316320" cy="49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54480" y="4522680"/>
                    <a:ext cx="331632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906480" y="5413320"/>
          <a:ext cx="3164040" cy="44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5413320"/>
                    <a:ext cx="31640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187960" y="5411880"/>
          <a:ext cx="3270240" cy="48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7960" y="5411880"/>
                    <a:ext cx="32702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90600"/>
            <a:ext cx="8534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-V &amp; T-V relations for Adiabatic Process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gas undergoes an adiabatic expansion/contraction the relationship between pressure and volum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P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f</a:t>
            </a:r>
            <a:r>
              <a:rPr b="0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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T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f</a:t>
            </a:r>
            <a:r>
              <a:rPr b="0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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e ratio the molar heat capacities at constant P and V, respectiv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notomic gases,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s 5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iatomic gases,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is 7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5668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unting Atom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095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421200" indent="-42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ole = 6.02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1200" indent="-42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6.02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Avogadro’s number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1200" indent="-42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he mole?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cause, a one mole quantity of any element has a mass (in grams) equal to its atomic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36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the relationship between mass and numerical quantity of any element or 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e.g. Molar mass of 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1.008 g/m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1 mole of H atoms has a mass of 1.008 grams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= 16.00 g/m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1 mole of O atoms has a mass of 16.00 grams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e.g. Molar mass of 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x 1.008 g/mol = 2.016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1 mole of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mass of 2.016 grams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= 2.016+16.00 g/mol =18.016 g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1 mole of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has a mass of 18.016 grams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0200" y="291960"/>
            <a:ext cx="7772400" cy="6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Ideal Gas Law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160" y="76680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399960" indent="-39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asurable physical parameters that describe the state of a simple ga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ure (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 (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gas particles or molecules (n or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(T) in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lation that describes how these parameters are related is calle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deal Gas L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which takes 2 fo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n is # of moles &amp; R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ersal G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ternative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ii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N is # of gas particles &amp; k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ltzmann’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257480" y="3497400"/>
          <a:ext cx="357156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3497400"/>
                    <a:ext cx="357156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1246320" y="5246640"/>
          <a:ext cx="384336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6320" y="5246640"/>
                    <a:ext cx="38433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292800" y="5280120"/>
          <a:ext cx="2108160" cy="86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92800" y="5280120"/>
                    <a:ext cx="210816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032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Kinetic Theory of Gas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843120"/>
            <a:ext cx="853416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 pressure is due to molecular collisions between gas particles and the walls of the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verage kinetic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v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f a single gas particle and is proportional to the bulk gas temperature in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f is the # of degrees of fre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3 for monatomic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5 for diatomic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6 for polyatomic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ot-mean-squared speed of the gas particl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rn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f a (monatomic) gas sampl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12880" y="2411280"/>
          <a:ext cx="4837320" cy="6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2880" y="2411280"/>
                    <a:ext cx="483732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836720" y="6075360"/>
          <a:ext cx="481824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6720" y="6075360"/>
                    <a:ext cx="481824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533600" y="4778280"/>
          <a:ext cx="4387680" cy="86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33600" y="4778280"/>
                    <a:ext cx="43876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80800"/>
            <a:ext cx="81532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Laws of Thermodynamic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084320"/>
            <a:ext cx="891540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0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Law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2 objects are in thermodynamic equilibrium independently with a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ject, they are in fact in thermodynamic equilibrium with each other or in other word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 can use a thermometer to measure the temperature of some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Law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ervation of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Q – W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{where d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dQ – d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Law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modynamic limit of heat engine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nature, heat only flows spontaneously from high T to cold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eat engine can never be more efficient that a “Carnot” engine operating between the same hot &amp; cold temperature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tal entropy of the universe never de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Law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is not possible to lower the temperature of a system to absolute in a finite number of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mpossible to reach the temperature of absolute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7584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Laws of Thermodynamics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alternative interpretation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2560" y="930240"/>
            <a:ext cx="883908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{Also known as Ginsberg’s Theorem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game and you can play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't win the g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't break e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't get out of the g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erversity of the universe tends towards a maximum.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{The Law of Entropy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An interesting comment on this interpretation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(source: some guy named Freeman)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7080" y="4356000"/>
            <a:ext cx="883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ery major philosophy that attempts to make life seem meaningful is based on the negation of one part of Ginsberg’s Theorem.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 w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pitalism is based on the assumption that you can w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cialism is based on the assumption that you can break e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ysticism is based on the assumption that you can quit the gam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ressure-Volume Graph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3102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visual display of a gas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 the work performed during a thermodynamic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under the PV curve is the work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aphs on the right are PV curves performed at constant temperature 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071880" y="1409760"/>
          <a:ext cx="5919840" cy="453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1880" y="1409760"/>
                    <a:ext cx="59198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043600" y="249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10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19720" y="35053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30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48840"/>
            <a:ext cx="777240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mportant Thermodynamic Processes</a:t>
            </a:r>
            <a:br>
              <a:rPr sz="3200"/>
            </a:b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for gases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sotherm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tant temper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0 mea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stan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sochoric (or isovolumetric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tant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0 means W = 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 work performed on/by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sobari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tant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0 means W =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iabati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gain/loss of heat energy (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= 0 mea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sothermal Process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2360" y="949320"/>
            <a:ext cx="8508960" cy="55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where the temperature (T) of the working substance remain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2 possible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work is performed on the working substance, it releases the energy as heat (Q)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{Q is releas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heat energy (Q) absorbed is converted to work by the working substance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{Q is absorb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0, the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Q – W 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{work performed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y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working substanc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98480" y="4708440"/>
          <a:ext cx="7250040" cy="9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4708440"/>
                    <a:ext cx="725004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2-29T00:12:15Z</dcterms:modified>
  <cp:revision>75</cp:revision>
  <dc:subject/>
  <dc:title>Phy 211: General Physics I</dc:title>
</cp:coreProperties>
</file>