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4.gif" ContentType="image/gif"/>
  <Override PartName="/ppt/media/image7.wmf" ContentType="image/x-wmf"/>
  <Override PartName="/ppt/media/image5.png" ContentType="image/png"/>
  <Override PartName="/ppt/media/image2.gif" ContentType="image/gif"/>
  <Override PartName="/ppt/media/image11.wmf" ContentType="image/x-wmf"/>
  <Override PartName="/ppt/media/image6.wmf" ContentType="image/x-wmf"/>
  <Override PartName="/ppt/media/image3.gif" ContentType="image/gif"/>
  <Override PartName="/ppt/media/image14.wmf" ContentType="image/x-wmf"/>
  <Override PartName="/ppt/media/image26.gif" ContentType="image/gif"/>
  <Override PartName="/ppt/media/image10.wmf" ContentType="image/x-wmf"/>
  <Override PartName="/ppt/media/image1.png" ContentType="image/png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28.gif" ContentType="image/gif"/>
  <Override PartName="/ppt/media/image16.wmf" ContentType="image/x-wmf"/>
  <Override PartName="/ppt/media/image27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507907-FFBC-4777-8ECE-16250E6D6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0A401F-8F52-4C02-A43E-2083755EF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C3B-1FF6-404C-9687-D334A98E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D15-746F-4BA0-A7ED-F01CA4C1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5DE-D3A3-4F4A-B7FB-E6C0723D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77D-59AF-4AFE-9DB1-0B0458B2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ED1-EE7D-4A92-8258-DED1CCCE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177-C256-4D57-B7CA-1F28DDB7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2C4-8E77-469E-B0AB-4083F67A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74A-F597-4E66-B0F9-3621268F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71C-6980-4636-BD63-9CB5D81E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97F-55A0-4400-AEA6-E0DC723A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673-8DE4-4EF6-A1A7-82F4F0BC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767-390B-4BF8-A5D9-3295789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1E53-97CA-4564-A485-D78EA2567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6: Wave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as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ors are analogous to vectors and are useful for analyzing the superposition of same frequency traveling wa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1360" y="2371680"/>
            <a:ext cx="710568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asor is a vector representation of the magnitude (length) and phase (angular direction) for a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2 or more waves undergo interference, the magnitude and phase of the resultant (superimposed) wave can be determined by the vector addition of the corresponding pha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535800" y="1865160"/>
            <a:ext cx="2112480" cy="2074680"/>
            <a:chOff x="6535800" y="1865160"/>
            <a:chExt cx="2112480" cy="2074680"/>
          </a:xfrm>
        </p:grpSpPr>
        <p:sp>
          <p:nvSpPr>
            <p:cNvPr id="149" name=""/>
            <p:cNvSpPr/>
            <p:nvPr/>
          </p:nvSpPr>
          <p:spPr>
            <a:xfrm flipV="1">
              <a:off x="6535800" y="1865160"/>
              <a:ext cx="1823400" cy="169128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583040" y="2936880"/>
              <a:ext cx="432720" cy="4410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537600" y="3376080"/>
              <a:ext cx="1034640" cy="17964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4680" y="3429720"/>
              <a:ext cx="80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y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14080" y="3071520"/>
              <a:ext cx="54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y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9120" y="2319480"/>
              <a:ext cx="5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y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989120" y="1881720"/>
              <a:ext cx="341280" cy="104148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05760" y="2274480"/>
              <a:ext cx="54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y</a:t>
              </a:r>
              <a:r>
                <a:rPr b="1" lang="en-US" sz="2400" spc="-1" strike="noStrike" baseline="-25000">
                  <a:solidFill>
                    <a:srgbClr val="99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27200" y="5554800"/>
            <a:ext cx="841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ant phasor magnitude is the magnitude of   resultant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ant phasor angle is the phase angle of resultant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nding Waves in a St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6778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ing waves are self-reinforcing waves produced by the constructive interference of a wave with its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wave traveling along a string (fixed at each end).  When the wave reaches the end of the string it reflects back in the opposite direction (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 of pha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ve will produce a standing wave if the nodes for the resultant wave are sta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Condition for a standing w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is length of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is the number of ½ wavelengths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0400" y="4413240"/>
          <a:ext cx="162396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4413240"/>
                    <a:ext cx="16239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7112160" y="1835280"/>
            <a:ext cx="1734480" cy="4432320"/>
            <a:chOff x="7112160" y="1835280"/>
            <a:chExt cx="1734480" cy="443232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7112160" y="5210280"/>
              <a:ext cx="171396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7115040" y="2155680"/>
              <a:ext cx="171396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7132320" y="3508200"/>
              <a:ext cx="17143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630920" y="1835280"/>
              <a:ext cx="10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83040" y="321480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72240" y="4914720"/>
              <a:ext cx="10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nding Wave Superposi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52560" y="1011240"/>
            <a:ext cx="5624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Wav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wa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agnetic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ing Wa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 Waves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oscillate perpendicular to the direction of wave propagation (examples: Light &amp; E-M wa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Waves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oscillate parallel to the direction of wave propagation (example: S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36840" y="5780160"/>
            <a:ext cx="233388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192480" y="4156200"/>
            <a:ext cx="27334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851040"/>
            <a:ext cx="8839440" cy="52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ing waves exhibit fundamental properties that are useful for describing their behav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 speed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refers to the rate of travel of the wave as it propagates through a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refers to the displacement traveled by a position along the wave during 1 period of oscillation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(f) is the time rate of complete “vibration cycles” as a wave passes through a given point in a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eneral Character of Traveling Wav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25520" y="2368440"/>
            <a:ext cx="4575240" cy="666720"/>
            <a:chOff x="425520" y="2368440"/>
            <a:chExt cx="4575240" cy="6667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425520" y="2368440"/>
              <a:ext cx="327204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926160" y="2668320"/>
              <a:ext cx="1074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58000" y="2627280"/>
              <a:ext cx="65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9080" y="5870520"/>
            <a:ext cx="6707160" cy="844560"/>
            <a:chOff x="289080" y="5870520"/>
            <a:chExt cx="6707160" cy="844560"/>
          </a:xfrm>
        </p:grpSpPr>
        <p:grpSp>
          <p:nvGrpSpPr>
            <p:cNvPr id="63" name=""/>
            <p:cNvGrpSpPr/>
            <p:nvPr/>
          </p:nvGrpSpPr>
          <p:grpSpPr>
            <a:xfrm>
              <a:off x="289080" y="5870520"/>
              <a:ext cx="4970520" cy="844560"/>
              <a:chOff x="289080" y="5870520"/>
              <a:chExt cx="4970520" cy="844560"/>
            </a:xfrm>
          </p:grpSpPr>
          <p:pic>
            <p:nvPicPr>
              <p:cNvPr id="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080" y="5972040"/>
                <a:ext cx="497052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1982880" y="6356160"/>
                <a:ext cx="1074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17720" y="6103800"/>
                <a:ext cx="0" cy="34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98880" y="6099120"/>
                <a:ext cx="0" cy="34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60640" y="5870520"/>
                <a:ext cx="12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 cyc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035680" y="6200640"/>
              <a:ext cx="196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18120" y="6588000"/>
              <a:ext cx="1074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327720" y="2351160"/>
            <a:ext cx="203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wav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361200" y="5761080"/>
          <a:ext cx="24685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1200" y="5761080"/>
                    <a:ext cx="2468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470640" y="4152960"/>
          <a:ext cx="18972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0640" y="4152960"/>
                    <a:ext cx="189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"/>
          <p:cNvGrpSpPr/>
          <p:nvPr/>
        </p:nvGrpSpPr>
        <p:grpSpPr>
          <a:xfrm>
            <a:off x="295200" y="3787920"/>
            <a:ext cx="6705720" cy="1174680"/>
            <a:chOff x="295200" y="3787920"/>
            <a:chExt cx="6705720" cy="1174680"/>
          </a:xfrm>
        </p:grpSpPr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295200" y="4219560"/>
              <a:ext cx="49705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040360" y="4511520"/>
              <a:ext cx="196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osition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94280" y="4856040"/>
              <a:ext cx="1074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30280" y="413712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89000" y="4589280"/>
              <a:ext cx="10749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24200" y="4336920"/>
              <a:ext cx="0" cy="347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05000" y="4332240"/>
              <a:ext cx="0" cy="347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73160" y="4135320"/>
              <a:ext cx="117648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36760" y="3787920"/>
              <a:ext cx="4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raveling Wav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922320"/>
            <a:ext cx="8839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form for the disturbance producing a traveling w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verse 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Amplit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on Amplit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076480" y="1446120"/>
          <a:ext cx="525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6480" y="1446120"/>
                    <a:ext cx="525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698920" y="1973160"/>
          <a:ext cx="5195880" cy="14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8920" y="1973160"/>
                    <a:ext cx="519588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727360" y="3641760"/>
          <a:ext cx="461628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7360" y="3641760"/>
                    <a:ext cx="46162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924200" y="4172040"/>
          <a:ext cx="4859280" cy="14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4200" y="4172040"/>
                    <a:ext cx="485928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112920" y="5797440"/>
          <a:ext cx="4748400" cy="59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12920" y="5797440"/>
                    <a:ext cx="4748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mple Model:  A Traveling Wave in a St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etched string, with constant linear mass densit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string tension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provides a simple demonstration of the motion of a traveling 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60360" y="2703600"/>
            <a:ext cx="7997400" cy="3207600"/>
            <a:chOff x="360360" y="2703600"/>
            <a:chExt cx="7997400" cy="3207600"/>
          </a:xfrm>
        </p:grpSpPr>
        <p:grpSp>
          <p:nvGrpSpPr>
            <p:cNvPr id="101" name=""/>
            <p:cNvGrpSpPr/>
            <p:nvPr/>
          </p:nvGrpSpPr>
          <p:grpSpPr>
            <a:xfrm>
              <a:off x="360360" y="3178080"/>
              <a:ext cx="7997400" cy="2733120"/>
              <a:chOff x="360360" y="3178080"/>
              <a:chExt cx="7997400" cy="273312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3680" y="3178080"/>
                <a:ext cx="7947360" cy="27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flipV="1">
                <a:off x="360360" y="4459320"/>
                <a:ext cx="7997400" cy="2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3786120" y="3635280"/>
              <a:ext cx="725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318760" y="3348000"/>
              <a:ext cx="180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17720" y="3144960"/>
              <a:ext cx="13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00120" y="3110040"/>
              <a:ext cx="916200" cy="264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363680" y="3098880"/>
              <a:ext cx="915840" cy="26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47640" y="2708280"/>
              <a:ext cx="50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01800" y="2703600"/>
              <a:ext cx="50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89080" y="3699000"/>
              <a:ext cx="110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26280" y="3306600"/>
              <a:ext cx="0" cy="2279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52920" y="371628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ave speed on Stretched St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922320"/>
            <a:ext cx="883944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transverse disturbance travels along a taut string, the motion (transverse to the string) of any given segment of mass along the string oscillates in simple harmonic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nsion 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in the string functions as an “elastic” force resulting in a traveling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ar mass density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kg/m) of the string acts as the inertial element for the string which restricts the wave propa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ve speed along a string is therefore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998800" y="3660840"/>
          <a:ext cx="225108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0" y="3660840"/>
                    <a:ext cx="22510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90440" y="4824360"/>
          <a:ext cx="88963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440" y="4824360"/>
                    <a:ext cx="8896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Transmission (Power) in Wav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wave travels along the string, the total energy (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a string mass segment of length, dx, is the combination of both its K and 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energ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K(t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dU(t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powe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324240" y="1908000"/>
          <a:ext cx="4124160" cy="6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4240" y="1908000"/>
                    <a:ext cx="4124160" cy="6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386000" y="2638440"/>
          <a:ext cx="721332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6000" y="2638440"/>
                    <a:ext cx="72133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525840" y="3637080"/>
          <a:ext cx="5168880" cy="12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637080"/>
                    <a:ext cx="516888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058760" y="5745240"/>
          <a:ext cx="7315200" cy="103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58760" y="5745240"/>
                    <a:ext cx="7315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Wave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tion of a traveling wave is dependent on both time and 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quation (and all equations) that describe traveling wave motion, must satisfy the wave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884320" y="4065480"/>
          <a:ext cx="320220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4320" y="4065480"/>
                    <a:ext cx="32022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028960" y="2084400"/>
          <a:ext cx="490536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28960" y="2084400"/>
                    <a:ext cx="49053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uperposition of Waves &amp; Interferen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59184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s of the same type that cross paths do not alter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o appear to combine to produce a resulting wave that is a superposition of each w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 identical waves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at are out of phase, the resultant wave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2800" y="3656160"/>
          <a:ext cx="857088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3656160"/>
                    <a:ext cx="85708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2040" y="4975200"/>
          <a:ext cx="7904160" cy="8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040" y="4975200"/>
                    <a:ext cx="79041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097680" y="1496880"/>
            <a:ext cx="2733480" cy="1352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3120" y="5857920"/>
            <a:ext cx="81565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ant wave is itself sinusoidal and its magnitude is depends on the phase difference between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1-25T18:39:04Z</dcterms:modified>
  <cp:revision>79</cp:revision>
  <dc:subject/>
  <dc:title>Phy 211: General Physics I</dc:title>
</cp:coreProperties>
</file>