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5.wmf" ContentType="image/x-wmf"/>
  <Override PartName="/ppt/media/image28.wmf" ContentType="image/x-wmf"/>
  <Override PartName="/ppt/media/image30.png" ContentType="image/png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17A012-332C-4DCE-9375-B8838A817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is out of phase with x by 90o or pi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out of phase with x by 180o or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E4E-66A9-4F9B-AC15-7A3CF7FA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537-B5ED-4714-8EEF-9264B801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52F-F736-455B-A9EE-57B8A21F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3246-D949-4754-A03E-56FFB884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99E-CDDF-4896-AA3E-5617234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3AF-B68C-4D6A-B23E-8218A741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C21-2AD0-482B-9B9F-FBD0B7DC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D77E-7176-403B-B895-A7357B28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FB8-6CF0-4436-B372-BD4B90A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626-3C75-4D19-BEE2-CE4867C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A8E-B863-43C1-8046-5E72228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D9F-2F2F-4690-9606-E3ECB3B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6D08-2FA8-4DD9-8C4E-0AFD5F72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7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5: Osci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mple Harmonic Motion (SHM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typical” form of an SHM equation for oscillation in the x dire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Quantities used to describe S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): the rate of oscillation cycles per uni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:  the time interval during which a complete oscillation cycle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 the peak magnitude of the osc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 the initial shift in the oscillation at 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ular Frequ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 the time rate of oscillations in radians per uni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104920" y="1533600"/>
          <a:ext cx="430524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1533600"/>
                    <a:ext cx="430524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44440" y="3576600"/>
          <a:ext cx="666432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440" y="3576600"/>
                    <a:ext cx="6664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04920" y="5873760"/>
          <a:ext cx="704664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873760"/>
                    <a:ext cx="70466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locity &amp; Acceleration for SH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Amplit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Amplit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28960" y="885960"/>
          <a:ext cx="584964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8960" y="885960"/>
                    <a:ext cx="58496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2757600" y="3441600"/>
          <a:ext cx="5852880" cy="141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7600" y="3441600"/>
                    <a:ext cx="5852880" cy="14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454640" y="5151600"/>
          <a:ext cx="199872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4640" y="5151600"/>
                    <a:ext cx="1998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44800" y="2610000"/>
          <a:ext cx="1973520" cy="53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4800" y="2610000"/>
                    <a:ext cx="19735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ph of x(t), v(t) and a(t) vs t (for SHM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1874880"/>
          <a:ext cx="8815320" cy="49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74880"/>
                    <a:ext cx="881532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046240" y="1254240"/>
            <a:ext cx="400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m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ad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63800" y="2117880"/>
            <a:ext cx="5904000" cy="38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cceleration is related to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form of this equation is the same as for S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rce Law for SH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22320"/>
            <a:ext cx="883944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e’s Law for elastic restoring force leads to SHM.  Consider an ideal spring initially stretched then released (neglect friction and all other forc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232240" y="3490920"/>
          <a:ext cx="36784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2240" y="3490920"/>
                    <a:ext cx="36784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65400" y="5899320"/>
          <a:ext cx="233388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5400" y="5899320"/>
                    <a:ext cx="233388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7054920" y="5923080"/>
          <a:ext cx="162072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54920" y="5923080"/>
                    <a:ext cx="1620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" name=""/>
          <p:cNvGrpSpPr/>
          <p:nvPr/>
        </p:nvGrpSpPr>
        <p:grpSpPr>
          <a:xfrm>
            <a:off x="79200" y="2117880"/>
            <a:ext cx="3000240" cy="3468600"/>
            <a:chOff x="79200" y="2117880"/>
            <a:chExt cx="3000240" cy="34686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80280" y="3266640"/>
              <a:ext cx="1892880" cy="10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>
              <a:off x="80280" y="2282400"/>
              <a:ext cx="1837080" cy="99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9"/>
            <a:stretch/>
          </p:blipFill>
          <p:spPr>
            <a:xfrm>
              <a:off x="79200" y="4282560"/>
              <a:ext cx="2261520" cy="102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72640" y="2753640"/>
              <a:ext cx="496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364480" y="4788360"/>
              <a:ext cx="4968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9" name=""/>
            <p:cNvGraphicFramePr/>
            <p:nvPr/>
          </p:nvGraphicFramePr>
          <p:xfrm>
            <a:off x="1938240" y="2226240"/>
            <a:ext cx="661320" cy="452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938240" y="2226240"/>
                      <a:ext cx="66132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437200" y="4872240"/>
            <a:ext cx="642240" cy="439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437200" y="4872240"/>
                      <a:ext cx="642240" cy="43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990720" y="2441520"/>
              <a:ext cx="5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3840" y="3470400"/>
              <a:ext cx="5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4476240"/>
              <a:ext cx="5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97640" y="2117880"/>
              <a:ext cx="0" cy="346860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23840" y="56466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quilibriu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405240" y="2517840"/>
          <a:ext cx="5338800" cy="560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05240" y="2517840"/>
                    <a:ext cx="53388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894200" y="4967280"/>
          <a:ext cx="3794040" cy="8888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894200" y="4967280"/>
                    <a:ext cx="37940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843280" y="6083280"/>
            <a:ext cx="5359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                           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SH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ass (m) subject to a restoring spring force, the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with the mas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mass oscillates in SHM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es with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netic energy of the oscillator also varies with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mechanical energy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00520" y="1593720"/>
          <a:ext cx="223992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1593720"/>
                    <a:ext cx="22399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839960" y="2701800"/>
          <a:ext cx="636264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9960" y="2701800"/>
                    <a:ext cx="636264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60400" y="3575160"/>
          <a:ext cx="626112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0400" y="3575160"/>
                    <a:ext cx="62611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78040" y="4487760"/>
          <a:ext cx="7699320" cy="10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78040" y="4487760"/>
                    <a:ext cx="76993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9120" y="5364000"/>
          <a:ext cx="696132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120" y="5364000"/>
                    <a:ext cx="6961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979720" y="6064200"/>
          <a:ext cx="282564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79720" y="6064200"/>
                    <a:ext cx="28256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imple Pendul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 is a moveable “point mass” body, fixed about a single pivot po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3520" y="2480760"/>
            <a:ext cx="3149280" cy="2862360"/>
            <a:chOff x="263520" y="2480760"/>
            <a:chExt cx="3149280" cy="2862360"/>
          </a:xfrm>
        </p:grpSpPr>
        <p:sp>
          <p:nvSpPr>
            <p:cNvPr id="120" name=""/>
            <p:cNvSpPr/>
            <p:nvPr/>
          </p:nvSpPr>
          <p:spPr>
            <a:xfrm>
              <a:off x="513000" y="4265640"/>
              <a:ext cx="434880" cy="3693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49240" y="2675880"/>
              <a:ext cx="947880" cy="161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46160" y="2664000"/>
              <a:ext cx="15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625840" y="4265640"/>
              <a:ext cx="434880" cy="369360"/>
            </a:xfrm>
            <a:prstGeom prst="ellipse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776600" y="2675880"/>
              <a:ext cx="947520" cy="16110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13922400">
              <a:off x="1086120" y="2758680"/>
              <a:ext cx="1792800" cy="222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2640" y="322236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0440" y="4483080"/>
              <a:ext cx="0" cy="86004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3520" y="47559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741600" y="3438000"/>
              <a:ext cx="466560" cy="77292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2120" y="363528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ff"/>
                  </a:solidFill>
                  <a:latin typeface="Arial"/>
                </a:rPr>
                <a:t>F</a:t>
              </a:r>
              <a:r>
                <a:rPr b="0" lang="en-US" sz="1800" spc="-1" strike="noStrike" baseline="-25000">
                  <a:solidFill>
                    <a:srgbClr val="3333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2640" y="4524120"/>
              <a:ext cx="38124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78040" y="4755960"/>
              <a:ext cx="126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gsin</a:t>
              </a:r>
              <a:r>
                <a:rPr b="0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1798560" y="2697120"/>
              <a:ext cx="0" cy="15998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17760" y="2949480"/>
              <a:ext cx="4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82840" y="2122560"/>
            <a:ext cx="47786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vitational torque exerted on the pendulum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ular acceler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, T, of the mo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17840" y="2987640"/>
          <a:ext cx="36608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7840" y="2987640"/>
                    <a:ext cx="3660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451320" y="4187880"/>
          <a:ext cx="51130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51320" y="4187880"/>
                    <a:ext cx="51130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486240" y="5780160"/>
          <a:ext cx="5286240" cy="77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6240" y="5780160"/>
                    <a:ext cx="5286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72880" y="5640480"/>
          <a:ext cx="272736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2880" y="5640480"/>
                    <a:ext cx="272736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hysical Pendulu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ysical pendulum is a more complex body, fixed about a single pivot po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217440" cy="1843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49240" y="2676600"/>
            <a:ext cx="947880" cy="1611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6160" y="2664000"/>
            <a:ext cx="1533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775880" y="2676600"/>
            <a:ext cx="947880" cy="16113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rot="13922400">
            <a:off x="1096200" y="2683080"/>
            <a:ext cx="1792800" cy="222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22640" y="322272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080" y="4483080"/>
            <a:ext cx="0" cy="8604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3520" y="4756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23760" y="4492800"/>
            <a:ext cx="3812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8840" y="4734000"/>
            <a:ext cx="12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gsin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798560" y="2696760"/>
            <a:ext cx="0" cy="16002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17760" y="29494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0760" y="2178000"/>
            <a:ext cx="5573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vitational torque exert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pendulum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ular acceler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iod, T, of the mo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41640" y="3086280"/>
          <a:ext cx="366084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1640" y="3086280"/>
                    <a:ext cx="3660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75120" y="4286160"/>
          <a:ext cx="511344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5120" y="4286160"/>
                    <a:ext cx="51134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067280" y="5800680"/>
          <a:ext cx="478476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5800680"/>
                    <a:ext cx="4784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 rot="669600">
            <a:off x="267840" y="2470320"/>
            <a:ext cx="1365480" cy="2743200"/>
          </a:xfrm>
          <a:custGeom>
            <a:avLst/>
            <a:gdLst/>
            <a:ahLst/>
            <a:rect l="l" t="t" r="r" b="b"/>
            <a:pathLst>
              <a:path w="1107" h="1728">
                <a:moveTo>
                  <a:pt x="1058" y="0"/>
                </a:moveTo>
                <a:cubicBezTo>
                  <a:pt x="1021" y="25"/>
                  <a:pt x="965" y="85"/>
                  <a:pt x="928" y="96"/>
                </a:cubicBezTo>
                <a:cubicBezTo>
                  <a:pt x="902" y="103"/>
                  <a:pt x="879" y="111"/>
                  <a:pt x="852" y="116"/>
                </a:cubicBezTo>
                <a:cubicBezTo>
                  <a:pt x="792" y="162"/>
                  <a:pt x="754" y="206"/>
                  <a:pt x="708" y="267"/>
                </a:cubicBezTo>
                <a:cubicBezTo>
                  <a:pt x="704" y="273"/>
                  <a:pt x="694" y="271"/>
                  <a:pt x="688" y="274"/>
                </a:cubicBezTo>
                <a:cubicBezTo>
                  <a:pt x="674" y="282"/>
                  <a:pt x="661" y="292"/>
                  <a:pt x="647" y="301"/>
                </a:cubicBezTo>
                <a:cubicBezTo>
                  <a:pt x="612" y="324"/>
                  <a:pt x="573" y="388"/>
                  <a:pt x="551" y="418"/>
                </a:cubicBezTo>
                <a:cubicBezTo>
                  <a:pt x="517" y="465"/>
                  <a:pt x="492" y="518"/>
                  <a:pt x="455" y="562"/>
                </a:cubicBezTo>
                <a:cubicBezTo>
                  <a:pt x="437" y="583"/>
                  <a:pt x="417" y="602"/>
                  <a:pt x="400" y="624"/>
                </a:cubicBezTo>
                <a:cubicBezTo>
                  <a:pt x="373" y="658"/>
                  <a:pt x="360" y="696"/>
                  <a:pt x="324" y="720"/>
                </a:cubicBezTo>
                <a:cubicBezTo>
                  <a:pt x="312" y="774"/>
                  <a:pt x="329" y="722"/>
                  <a:pt x="297" y="768"/>
                </a:cubicBezTo>
                <a:cubicBezTo>
                  <a:pt x="284" y="787"/>
                  <a:pt x="281" y="816"/>
                  <a:pt x="270" y="836"/>
                </a:cubicBezTo>
                <a:cubicBezTo>
                  <a:pt x="262" y="850"/>
                  <a:pt x="251" y="863"/>
                  <a:pt x="242" y="877"/>
                </a:cubicBezTo>
                <a:cubicBezTo>
                  <a:pt x="230" y="894"/>
                  <a:pt x="221" y="913"/>
                  <a:pt x="215" y="932"/>
                </a:cubicBezTo>
                <a:cubicBezTo>
                  <a:pt x="213" y="939"/>
                  <a:pt x="212" y="947"/>
                  <a:pt x="208" y="953"/>
                </a:cubicBezTo>
                <a:cubicBezTo>
                  <a:pt x="197" y="972"/>
                  <a:pt x="185" y="989"/>
                  <a:pt x="174" y="1008"/>
                </a:cubicBezTo>
                <a:cubicBezTo>
                  <a:pt x="166" y="1022"/>
                  <a:pt x="146" y="1049"/>
                  <a:pt x="146" y="1049"/>
                </a:cubicBezTo>
                <a:cubicBezTo>
                  <a:pt x="137" y="1083"/>
                  <a:pt x="126" y="1103"/>
                  <a:pt x="105" y="1131"/>
                </a:cubicBezTo>
                <a:cubicBezTo>
                  <a:pt x="86" y="1188"/>
                  <a:pt x="58" y="1240"/>
                  <a:pt x="36" y="1296"/>
                </a:cubicBezTo>
                <a:cubicBezTo>
                  <a:pt x="40" y="1446"/>
                  <a:pt x="0" y="1687"/>
                  <a:pt x="201" y="1728"/>
                </a:cubicBezTo>
                <a:cubicBezTo>
                  <a:pt x="281" y="1726"/>
                  <a:pt x="361" y="1727"/>
                  <a:pt x="441" y="1721"/>
                </a:cubicBezTo>
                <a:cubicBezTo>
                  <a:pt x="451" y="1720"/>
                  <a:pt x="458" y="1710"/>
                  <a:pt x="468" y="1707"/>
                </a:cubicBezTo>
                <a:cubicBezTo>
                  <a:pt x="504" y="1698"/>
                  <a:pt x="544" y="1701"/>
                  <a:pt x="578" y="1686"/>
                </a:cubicBezTo>
                <a:cubicBezTo>
                  <a:pt x="718" y="1626"/>
                  <a:pt x="605" y="1667"/>
                  <a:pt x="667" y="1645"/>
                </a:cubicBezTo>
                <a:cubicBezTo>
                  <a:pt x="689" y="1624"/>
                  <a:pt x="713" y="1609"/>
                  <a:pt x="736" y="1590"/>
                </a:cubicBezTo>
                <a:cubicBezTo>
                  <a:pt x="761" y="1570"/>
                  <a:pt x="771" y="1548"/>
                  <a:pt x="798" y="1529"/>
                </a:cubicBezTo>
                <a:cubicBezTo>
                  <a:pt x="813" y="1504"/>
                  <a:pt x="833" y="1489"/>
                  <a:pt x="852" y="1467"/>
                </a:cubicBezTo>
                <a:cubicBezTo>
                  <a:pt x="917" y="1391"/>
                  <a:pt x="833" y="1488"/>
                  <a:pt x="887" y="1412"/>
                </a:cubicBezTo>
                <a:cubicBezTo>
                  <a:pt x="904" y="1388"/>
                  <a:pt x="921" y="1372"/>
                  <a:pt x="935" y="1344"/>
                </a:cubicBezTo>
                <a:cubicBezTo>
                  <a:pt x="937" y="1332"/>
                  <a:pt x="939" y="1321"/>
                  <a:pt x="942" y="1309"/>
                </a:cubicBezTo>
                <a:cubicBezTo>
                  <a:pt x="946" y="1295"/>
                  <a:pt x="955" y="1268"/>
                  <a:pt x="955" y="1268"/>
                </a:cubicBezTo>
                <a:cubicBezTo>
                  <a:pt x="962" y="503"/>
                  <a:pt x="896" y="706"/>
                  <a:pt x="1010" y="363"/>
                </a:cubicBezTo>
                <a:cubicBezTo>
                  <a:pt x="1014" y="267"/>
                  <a:pt x="1011" y="222"/>
                  <a:pt x="1038" y="144"/>
                </a:cubicBezTo>
                <a:cubicBezTo>
                  <a:pt x="1040" y="103"/>
                  <a:pt x="1027" y="58"/>
                  <a:pt x="1044" y="20"/>
                </a:cubicBezTo>
                <a:cubicBezTo>
                  <a:pt x="1052" y="3"/>
                  <a:pt x="1088" y="28"/>
                  <a:pt x="1099" y="13"/>
                </a:cubicBezTo>
                <a:cubicBezTo>
                  <a:pt x="1107" y="1"/>
                  <a:pt x="1072" y="4"/>
                  <a:pt x="1058" y="0"/>
                </a:cubicBezTo>
                <a:close/>
              </a:path>
            </a:pathLst>
          </a:custGeom>
          <a:noFill/>
          <a:ln cap="rnd" w="1908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rot="20930400">
            <a:off x="1965960" y="2503080"/>
            <a:ext cx="1365120" cy="2743200"/>
          </a:xfrm>
          <a:custGeom>
            <a:avLst/>
            <a:gdLst/>
            <a:ahLst/>
            <a:rect l="l" t="t" r="r" b="b"/>
            <a:pathLst>
              <a:path w="1107" h="1728">
                <a:moveTo>
                  <a:pt x="1058" y="0"/>
                </a:moveTo>
                <a:cubicBezTo>
                  <a:pt x="1021" y="25"/>
                  <a:pt x="965" y="85"/>
                  <a:pt x="928" y="96"/>
                </a:cubicBezTo>
                <a:cubicBezTo>
                  <a:pt x="902" y="103"/>
                  <a:pt x="879" y="111"/>
                  <a:pt x="852" y="116"/>
                </a:cubicBezTo>
                <a:cubicBezTo>
                  <a:pt x="792" y="162"/>
                  <a:pt x="754" y="206"/>
                  <a:pt x="708" y="267"/>
                </a:cubicBezTo>
                <a:cubicBezTo>
                  <a:pt x="704" y="273"/>
                  <a:pt x="694" y="271"/>
                  <a:pt x="688" y="274"/>
                </a:cubicBezTo>
                <a:cubicBezTo>
                  <a:pt x="674" y="282"/>
                  <a:pt x="661" y="292"/>
                  <a:pt x="647" y="301"/>
                </a:cubicBezTo>
                <a:cubicBezTo>
                  <a:pt x="612" y="324"/>
                  <a:pt x="573" y="388"/>
                  <a:pt x="551" y="418"/>
                </a:cubicBezTo>
                <a:cubicBezTo>
                  <a:pt x="517" y="465"/>
                  <a:pt x="492" y="518"/>
                  <a:pt x="455" y="562"/>
                </a:cubicBezTo>
                <a:cubicBezTo>
                  <a:pt x="437" y="583"/>
                  <a:pt x="417" y="602"/>
                  <a:pt x="400" y="624"/>
                </a:cubicBezTo>
                <a:cubicBezTo>
                  <a:pt x="373" y="658"/>
                  <a:pt x="360" y="696"/>
                  <a:pt x="324" y="720"/>
                </a:cubicBezTo>
                <a:cubicBezTo>
                  <a:pt x="312" y="774"/>
                  <a:pt x="329" y="722"/>
                  <a:pt x="297" y="768"/>
                </a:cubicBezTo>
                <a:cubicBezTo>
                  <a:pt x="284" y="787"/>
                  <a:pt x="281" y="816"/>
                  <a:pt x="270" y="836"/>
                </a:cubicBezTo>
                <a:cubicBezTo>
                  <a:pt x="262" y="850"/>
                  <a:pt x="251" y="863"/>
                  <a:pt x="242" y="877"/>
                </a:cubicBezTo>
                <a:cubicBezTo>
                  <a:pt x="230" y="894"/>
                  <a:pt x="221" y="913"/>
                  <a:pt x="215" y="932"/>
                </a:cubicBezTo>
                <a:cubicBezTo>
                  <a:pt x="213" y="939"/>
                  <a:pt x="212" y="947"/>
                  <a:pt x="208" y="953"/>
                </a:cubicBezTo>
                <a:cubicBezTo>
                  <a:pt x="197" y="972"/>
                  <a:pt x="185" y="989"/>
                  <a:pt x="174" y="1008"/>
                </a:cubicBezTo>
                <a:cubicBezTo>
                  <a:pt x="166" y="1022"/>
                  <a:pt x="146" y="1049"/>
                  <a:pt x="146" y="1049"/>
                </a:cubicBezTo>
                <a:cubicBezTo>
                  <a:pt x="137" y="1083"/>
                  <a:pt x="126" y="1103"/>
                  <a:pt x="105" y="1131"/>
                </a:cubicBezTo>
                <a:cubicBezTo>
                  <a:pt x="86" y="1188"/>
                  <a:pt x="58" y="1240"/>
                  <a:pt x="36" y="1296"/>
                </a:cubicBezTo>
                <a:cubicBezTo>
                  <a:pt x="40" y="1446"/>
                  <a:pt x="0" y="1687"/>
                  <a:pt x="201" y="1728"/>
                </a:cubicBezTo>
                <a:cubicBezTo>
                  <a:pt x="281" y="1726"/>
                  <a:pt x="361" y="1727"/>
                  <a:pt x="441" y="1721"/>
                </a:cubicBezTo>
                <a:cubicBezTo>
                  <a:pt x="451" y="1720"/>
                  <a:pt x="458" y="1710"/>
                  <a:pt x="468" y="1707"/>
                </a:cubicBezTo>
                <a:cubicBezTo>
                  <a:pt x="504" y="1698"/>
                  <a:pt x="544" y="1701"/>
                  <a:pt x="578" y="1686"/>
                </a:cubicBezTo>
                <a:cubicBezTo>
                  <a:pt x="718" y="1626"/>
                  <a:pt x="605" y="1667"/>
                  <a:pt x="667" y="1645"/>
                </a:cubicBezTo>
                <a:cubicBezTo>
                  <a:pt x="689" y="1624"/>
                  <a:pt x="713" y="1609"/>
                  <a:pt x="736" y="1590"/>
                </a:cubicBezTo>
                <a:cubicBezTo>
                  <a:pt x="761" y="1570"/>
                  <a:pt x="771" y="1548"/>
                  <a:pt x="798" y="1529"/>
                </a:cubicBezTo>
                <a:cubicBezTo>
                  <a:pt x="813" y="1504"/>
                  <a:pt x="833" y="1489"/>
                  <a:pt x="852" y="1467"/>
                </a:cubicBezTo>
                <a:cubicBezTo>
                  <a:pt x="917" y="1391"/>
                  <a:pt x="833" y="1488"/>
                  <a:pt x="887" y="1412"/>
                </a:cubicBezTo>
                <a:cubicBezTo>
                  <a:pt x="904" y="1388"/>
                  <a:pt x="921" y="1372"/>
                  <a:pt x="935" y="1344"/>
                </a:cubicBezTo>
                <a:cubicBezTo>
                  <a:pt x="937" y="1332"/>
                  <a:pt x="939" y="1321"/>
                  <a:pt x="942" y="1309"/>
                </a:cubicBezTo>
                <a:cubicBezTo>
                  <a:pt x="946" y="1295"/>
                  <a:pt x="955" y="1268"/>
                  <a:pt x="955" y="1268"/>
                </a:cubicBezTo>
                <a:cubicBezTo>
                  <a:pt x="962" y="503"/>
                  <a:pt x="896" y="706"/>
                  <a:pt x="1010" y="363"/>
                </a:cubicBezTo>
                <a:cubicBezTo>
                  <a:pt x="1014" y="267"/>
                  <a:pt x="1011" y="222"/>
                  <a:pt x="1038" y="144"/>
                </a:cubicBezTo>
                <a:cubicBezTo>
                  <a:pt x="1040" y="103"/>
                  <a:pt x="1027" y="58"/>
                  <a:pt x="1044" y="20"/>
                </a:cubicBezTo>
                <a:cubicBezTo>
                  <a:pt x="1052" y="3"/>
                  <a:pt x="1088" y="28"/>
                  <a:pt x="1099" y="13"/>
                </a:cubicBezTo>
                <a:cubicBezTo>
                  <a:pt x="1107" y="1"/>
                  <a:pt x="1072" y="4"/>
                  <a:pt x="1058" y="0"/>
                </a:cubicBezTo>
                <a:close/>
              </a:path>
            </a:pathLst>
          </a:custGeom>
          <a:noFill/>
          <a:ln cap="rnd" w="19080">
            <a:solidFill>
              <a:srgbClr val="99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6600" y="4289400"/>
            <a:ext cx="217440" cy="1843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HM &amp; Uniform Circular Mo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object in uniform circular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ing the object along the plane of its circular motion,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he object motion appears to be in simple harmonic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197760" y="1701720"/>
            <a:ext cx="2803320" cy="1104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 flipV="1">
            <a:off x="5924520" y="2382480"/>
            <a:ext cx="2014560" cy="1116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533920" y="2589120"/>
            <a:ext cx="936720" cy="0"/>
          </a:xfrm>
          <a:prstGeom prst="line">
            <a:avLst/>
          </a:prstGeom>
          <a:ln cap="rnd" w="38160">
            <a:solidFill>
              <a:srgbClr val="ff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2520" y="1662120"/>
            <a:ext cx="5062680" cy="1329480"/>
            <a:chOff x="182520" y="1662120"/>
            <a:chExt cx="5062680" cy="1329480"/>
          </a:xfrm>
        </p:grpSpPr>
        <p:sp>
          <p:nvSpPr>
            <p:cNvPr id="174" name=""/>
            <p:cNvSpPr/>
            <p:nvPr/>
          </p:nvSpPr>
          <p:spPr>
            <a:xfrm>
              <a:off x="399960" y="2013120"/>
              <a:ext cx="4648320" cy="892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612240" y="2664720"/>
              <a:ext cx="121824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11422800">
              <a:off x="2640600" y="1809720"/>
              <a:ext cx="1685520" cy="54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6931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693172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2520" y="2252520"/>
              <a:ext cx="403200" cy="336600"/>
            </a:xfrm>
            <a:prstGeom prst="ellipse">
              <a:avLst/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42000" y="2286000"/>
              <a:ext cx="403200" cy="3366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782640" y="5070600"/>
          <a:ext cx="3630600" cy="151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2640" y="5070600"/>
                    <a:ext cx="36306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1390680" y="4406760"/>
            <a:ext cx="5103720" cy="358200"/>
            <a:chOff x="1390680" y="4406760"/>
            <a:chExt cx="5103720" cy="358200"/>
          </a:xfrm>
        </p:grpSpPr>
        <p:sp>
          <p:nvSpPr>
            <p:cNvPr id="182" name=""/>
            <p:cNvSpPr/>
            <p:nvPr/>
          </p:nvSpPr>
          <p:spPr>
            <a:xfrm>
              <a:off x="6091200" y="4420800"/>
              <a:ext cx="403200" cy="33660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90680" y="4406760"/>
              <a:ext cx="403200" cy="336600"/>
            </a:xfrm>
            <a:prstGeom prst="ellipse">
              <a:avLst/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90680" y="4406760"/>
              <a:ext cx="403200" cy="336600"/>
            </a:xfrm>
            <a:prstGeom prst="ellipse">
              <a:avLst/>
            </a:prstGeom>
            <a:solidFill>
              <a:srgbClr val="bbe0e3"/>
            </a:solidFill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7496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3044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5268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17880" y="4417920"/>
              <a:ext cx="403200" cy="33624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36800" y="442584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0800000">
              <a:off x="5465160" y="4428360"/>
              <a:ext cx="40356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5810040" y="442836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4987800" y="442836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4422600" y="4428360"/>
              <a:ext cx="403200" cy="3366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8640" y="4584600"/>
              <a:ext cx="4659480" cy="219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29040" y="4348080"/>
            <a:ext cx="0" cy="750960"/>
          </a:xfrm>
          <a:prstGeom prst="line">
            <a:avLst/>
          </a:prstGeom>
          <a:ln cap="rnd" w="19080">
            <a:solidFill>
              <a:srgbClr val="3333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35200" y="4060800"/>
            <a:ext cx="1035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3333ff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= 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1-17T17:58:52Z</dcterms:modified>
  <cp:revision>54</cp:revision>
  <dc:subject/>
  <dc:title>Phy 211: General Physics I</dc:title>
</cp:coreProperties>
</file>