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0.jpeg" ContentType="image/jpeg"/>
  <Override PartName="/ppt/media/image8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F15ACF-12D3-48C3-B7B9-6DD323708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ceber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garden h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r the mass the greater the period (T) or T ~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en H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EBA-DC97-42C2-BFD3-C8519246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658-9481-4756-8E52-199BC7B3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DBE-7BF5-49A5-9295-72B068B4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C8E-DAC8-4566-98FF-F510C025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970-6F75-4101-8777-95C58C2D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6C9-789D-4AC5-88A1-B486D23D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2BA-119D-49F2-8DF8-8B071CA0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4E8-8FAF-4C6B-B0CC-77EE96C6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9E3-3C6E-49C8-9B63-4F023AA1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E8E-21F2-448E-B6DD-2CEA23E6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3AE-EABC-4545-B7BA-1BBD19ED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9D69-058A-42B4-AAC7-3AB7BA63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1F90-70BC-4CF0-AC32-89AECFC45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 212: General Physics I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4: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50640"/>
            <a:ext cx="861048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rchimedes’ Princip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028880"/>
            <a:ext cx="8610480" cy="55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object is submerged in a fluid, the fluid exerts a buoyant force (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n the object equal to the weight of the fluid displaced by the o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m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flui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 =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flui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displace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ubmerged object has greater density than the fluid, its weight will be greater than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t will s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ubmerged object has lower density than the fluid, it will partially submerge in the fluid until it reaches a depth where its weight will be the same as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t will flo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submerged object has the same density as the fluid it will neither sink nor float but will remain in equilibrium as long as it is completely sub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7260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quation of Continuit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014120"/>
            <a:ext cx="8534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fluid flows, the rate of mass entering a point must be equal to the rate of mass exiting the poi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(since                                        &amp;            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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is the cross-sectional area of the fluid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63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the width of the fluid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13656" r="0" b="59194"/>
          <a:stretch/>
        </p:blipFill>
        <p:spPr>
          <a:xfrm>
            <a:off x="1549440" y="5608800"/>
            <a:ext cx="5562720" cy="100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3139920" y="1887480"/>
          <a:ext cx="1968480" cy="84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9920" y="1887480"/>
                    <a:ext cx="196848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295960" y="2646360"/>
          <a:ext cx="1189080" cy="79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95960" y="2646360"/>
                    <a:ext cx="1189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666800" y="2808360"/>
          <a:ext cx="3262320" cy="46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6800" y="2808360"/>
                    <a:ext cx="326232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Bernoulli’s Equa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895320"/>
            <a:ext cx="8686800" cy="55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noulli’s Principle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speed of fluid increases its pressure d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noulli’s principle can be extended to Bernoulli’s equation for a (ideal) fluid that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viscous (no friction or interaction with sidew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pressible (liquid does not expand nor comp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noulli’s Equ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½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½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can be rewritten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 -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½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+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½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(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 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 + ½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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-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“state” of the fluid is constant at all po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½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y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½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aniel Bernoulli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700-1782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ss merchant, doctor &amp; mathema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brating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an 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d that as the velocity of a fluid increases its pressure decreases (known as Bernoulli’s Princi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27432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13920"/>
            <a:ext cx="77724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are fluids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080" y="825120"/>
            <a:ext cx="88344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lui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ubstances that continually deform (flow) under an applied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hear st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gardless of how small the applied stress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 liquids and all gases are fluid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ful Physical Quant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ss Dens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mass per unit volume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 units of mass density are k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gnitude of the normal forc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pplied to a surface per unit area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 units of pressure are newtons/meter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r pascals (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tatic fluids (at rest), force c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ential (or shear) forces result in fluid fl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58920" y="2513160"/>
          <a:ext cx="561168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13160"/>
                    <a:ext cx="561168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335240" y="4311720"/>
          <a:ext cx="6102360" cy="84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5240" y="4311720"/>
                    <a:ext cx="610236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441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ressure in Flui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9856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uids are 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ids do not retain their 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ids do not independently support their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within a fluid varies with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 within a fluid is constant at all points of the same de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 increases with increasing depth (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 ~ H</a:t>
            </a:r>
            <a:r>
              <a:rPr b="0" lang="en-US" sz="20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where H is the depth below the surface of the flui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differenc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) between 2 points within a fluid is related to the density of the flui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&amp; the depth difference between th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er the fluid density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 great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er the depth difference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), the great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– 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26520"/>
            <a:ext cx="81536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rivation of pressures in flui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6320" y="918720"/>
            <a:ext cx="876924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 disk of water in a static fl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ing 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to the dis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ss of the disk i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 =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o 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can be rewritten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– 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mg = (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)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– 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pressure in a fluid do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en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mass of the flui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rface area where the force i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838080" y="1276200"/>
            <a:ext cx="2928960" cy="838440"/>
            <a:chOff x="838080" y="1276200"/>
            <a:chExt cx="2928960" cy="838440"/>
          </a:xfrm>
        </p:grpSpPr>
        <p:grpSp>
          <p:nvGrpSpPr>
            <p:cNvPr id="66" name=""/>
            <p:cNvGrpSpPr/>
            <p:nvPr/>
          </p:nvGrpSpPr>
          <p:grpSpPr>
            <a:xfrm>
              <a:off x="838080" y="1352520"/>
              <a:ext cx="2286000" cy="762120"/>
              <a:chOff x="838080" y="1352520"/>
              <a:chExt cx="2286000" cy="762120"/>
            </a:xfrm>
          </p:grpSpPr>
          <p:sp>
            <p:nvSpPr>
              <p:cNvPr id="67" name=""/>
              <p:cNvSpPr/>
              <p:nvPr/>
            </p:nvSpPr>
            <p:spPr>
              <a:xfrm>
                <a:off x="838080" y="1352520"/>
                <a:ext cx="2286000" cy="38088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38080" y="1733400"/>
                <a:ext cx="2286000" cy="381240"/>
              </a:xfrm>
              <a:prstGeom prst="ellipse">
                <a:avLst/>
              </a:prstGeom>
              <a:solidFill>
                <a:srgbClr val="dddddd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38080" y="1581120"/>
                <a:ext cx="0" cy="380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1581120"/>
                <a:ext cx="0" cy="380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3152880" y="1504800"/>
              <a:ext cx="6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28800" y="127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467400" y="1066680"/>
            <a:ext cx="2743200" cy="2285640"/>
            <a:chOff x="6467400" y="1066680"/>
            <a:chExt cx="2743200" cy="2285640"/>
          </a:xfrm>
        </p:grpSpPr>
        <p:grpSp>
          <p:nvGrpSpPr>
            <p:cNvPr id="74" name=""/>
            <p:cNvGrpSpPr/>
            <p:nvPr/>
          </p:nvGrpSpPr>
          <p:grpSpPr>
            <a:xfrm>
              <a:off x="6467400" y="1676520"/>
              <a:ext cx="2286000" cy="761760"/>
              <a:chOff x="6467400" y="1676520"/>
              <a:chExt cx="2286000" cy="761760"/>
            </a:xfrm>
          </p:grpSpPr>
          <p:sp>
            <p:nvSpPr>
              <p:cNvPr id="75" name=""/>
              <p:cNvSpPr/>
              <p:nvPr/>
            </p:nvSpPr>
            <p:spPr>
              <a:xfrm>
                <a:off x="6467400" y="1676520"/>
                <a:ext cx="2286000" cy="38088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67400" y="2057400"/>
                <a:ext cx="2286000" cy="380880"/>
              </a:xfrm>
              <a:prstGeom prst="ellipse">
                <a:avLst/>
              </a:prstGeom>
              <a:solidFill>
                <a:srgbClr val="dddddd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67400" y="1905120"/>
                <a:ext cx="0" cy="380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53400" y="1905120"/>
                <a:ext cx="0" cy="380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7000920" y="2438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10400" y="1066680"/>
              <a:ext cx="114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P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10400" y="1066680"/>
              <a:ext cx="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34440" y="2286000"/>
              <a:ext cx="0" cy="380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686720" y="22093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63040" y="2666880"/>
              <a:ext cx="144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P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" name=""/>
          <p:cNvGraphicFramePr/>
          <p:nvPr/>
        </p:nvGraphicFramePr>
        <p:xfrm>
          <a:off x="1627200" y="2465280"/>
          <a:ext cx="477216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7200" y="2465280"/>
                    <a:ext cx="477216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577960" y="3378240"/>
          <a:ext cx="261468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7960" y="3378240"/>
                    <a:ext cx="26146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5568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tmospheric Pressur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2000" y="1062000"/>
            <a:ext cx="85345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urface of a fluid is exposed to air, the pressure at that surface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equal to that of the atmospheric air pressure at that elevatio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is a consequence of Pascal’s Princi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sea level the atmospheric pressur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1.01 x 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N/m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sure at any depth (H) below the surface of the fluid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 = P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lationship also applies to air pressure at higher altitudes (to the extent that the air density does not change substanti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55320"/>
            <a:ext cx="91440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How high can you suck water up using a straw?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or pumping water uphill)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draw water (or any fluid) upward you must lower the pressure difference between the pressure inside the “straw” and the outside environment (usually the atmosphe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8383"/>
          <a:stretch/>
        </p:blipFill>
        <p:spPr>
          <a:xfrm>
            <a:off x="6330960" y="3276720"/>
            <a:ext cx="273672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0080" y="2860560"/>
            <a:ext cx="5851440" cy="27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Is there a limit to how low you can make the pressure inside a stra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How high can you suck 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aromete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1080" y="819000"/>
            <a:ext cx="87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ometers are devices used to measure air (or atmospheric)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barom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sed e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9472"/>
          <a:stretch/>
        </p:blipFill>
        <p:spPr>
          <a:xfrm>
            <a:off x="4800600" y="2720880"/>
            <a:ext cx="4114800" cy="337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0" t="0" r="0" b="26270"/>
          <a:stretch/>
        </p:blipFill>
        <p:spPr>
          <a:xfrm>
            <a:off x="882720" y="2743200"/>
            <a:ext cx="2469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45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ascal’s Princip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8596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ressure is applied to an enclosed fluid, the pressure is transmitted undiminished to all parts of the fluid and the enclosing w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27101"/>
          <a:stretch/>
        </p:blipFill>
        <p:spPr>
          <a:xfrm>
            <a:off x="6243480" y="1793880"/>
            <a:ext cx="2800440" cy="506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2286000"/>
            <a:ext cx="6492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applied pressure is to increase th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lication of hydraulics is based on Pascal’s Princi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P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048040" y="4514760"/>
          <a:ext cx="2946240" cy="99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040" y="4514760"/>
                    <a:ext cx="29462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257560" y="5557680"/>
          <a:ext cx="3386160" cy="108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57560" y="5557680"/>
                    <a:ext cx="338616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1-08T17:58:51Z</dcterms:modified>
  <cp:revision>45</cp:revision>
  <dc:subject/>
  <dc:title>Phy 211: General Physics I</dc:title>
</cp:coreProperties>
</file>