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06D782-F992-488F-80FB-F40B1897F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ceber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garden 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en H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A50-6F53-473D-925F-A5A73D77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AFF-BD4C-40F7-9D1F-E922F82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09F-7B61-4710-9710-C37C94B2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FFF-6CFA-4ADD-B228-CBED1B98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71A-DCE8-446A-BC85-E257909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B78-1F71-47A2-BFD4-2B973C4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625-9370-4134-B43B-FBECA4AB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212-E558-4C2D-9E41-4FC326C5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50B-C0F1-4B6C-BA66-0A75AAB4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CD6-D1DA-43E3-ADDA-9A04DE5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70F-E994-4BA5-84DC-9DCD3A9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65D-3D0F-4402-9C55-C421D375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4F2-4A95-4753-A2D9-0DDF3DF7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4: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50640"/>
            <a:ext cx="861048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rchimedes’ Princi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028880"/>
            <a:ext cx="861048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is submerged in a fluid, the fluid exerts a buoyant force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n the object equal to the weight of the fluid displaced by the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m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flu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flu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displace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merged object has greater density than the fluid, its weight will be greater tha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t will s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merged object has lower density than the fluid, it will partially submerge in the fluid until it reaches a depth where its weight will be the same as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t will flo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ubmerged object has the same density as the fluid it will neither sink nor float but will remain in equilibrium as long as it is completely sub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 of Continu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14120"/>
            <a:ext cx="8534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fluid flows, the rate of mass entering a point must be equal to the rate of mass exiting the po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(since                                        &amp;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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 the cross-sectional area of the flui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the width of the flui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3656" r="0" b="59194"/>
          <a:stretch/>
        </p:blipFill>
        <p:spPr>
          <a:xfrm>
            <a:off x="1549440" y="5608800"/>
            <a:ext cx="5562720" cy="100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139920" y="1887480"/>
          <a:ext cx="19684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9920" y="1887480"/>
                    <a:ext cx="1968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295960" y="2646360"/>
          <a:ext cx="118908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5960" y="2646360"/>
                    <a:ext cx="118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66800" y="2808360"/>
          <a:ext cx="3262320" cy="46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0" y="2808360"/>
                    <a:ext cx="32623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Bernoulli’s Equ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95320"/>
            <a:ext cx="86868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oulli’s Principl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speed of fluid increases its pressure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oulli’s principle can be extended to Bernoulli’s equation for a (ideal) fluid tha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viscous (no friction or interaction with side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ressible (liquid does not expand nor com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an be re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 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(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“state” of the fluid is constant at all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niel Bernoulli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00-1782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ss merchant, doctor &amp; mathema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ng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d that as the velocity of a fluid increases its pressure decreases (known as Bernoulli’s Princi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743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are fluid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80" y="825120"/>
            <a:ext cx="8834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u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ubstances that continually deform (flow) under an applie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ardless of how small the applied stress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liquids and all gases are flui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 Physical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ss Dens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mass per unit volum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 units of mass density are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gnitude of the normal for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pplied to a surface per unit area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 units of pressure are newtons/meter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pascals (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tic fluids (at rest), force c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ential (or shear) forces result in fluid 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2513160"/>
          <a:ext cx="561168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13160"/>
                    <a:ext cx="561168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335240" y="4311720"/>
          <a:ext cx="610236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5240" y="4311720"/>
                    <a:ext cx="61023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ressure in Flu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985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ids are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s do not retain their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s do not independently support their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within a fluid varies with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within a fluid is constant at all points of the same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increases with increasing depth (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~ H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here H is the depth below the surface of the flui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differen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) between 2 points within a fluid is related to the density of the flui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amp; the depth difference between th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er the fluid dens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great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er the depth differen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), the great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26520"/>
            <a:ext cx="81536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rivation of pressures in flu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6320" y="918720"/>
            <a:ext cx="876924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disk of water in a static fl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to the dis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s of the disk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o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can be re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–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mg =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)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pressure in a fluid do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mass of the flui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rface area where the force i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1276200"/>
            <a:ext cx="2928960" cy="838440"/>
            <a:chOff x="838080" y="1276200"/>
            <a:chExt cx="2928960" cy="83844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1352520"/>
              <a:ext cx="2286000" cy="762120"/>
              <a:chOff x="838080" y="1352520"/>
              <a:chExt cx="2286000" cy="7621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1352520"/>
                <a:ext cx="2286000" cy="380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38080" y="1733400"/>
                <a:ext cx="2286000" cy="38124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38080" y="1581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1581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152880" y="150480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127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467400" y="1066680"/>
            <a:ext cx="2743200" cy="2285640"/>
            <a:chOff x="6467400" y="1066680"/>
            <a:chExt cx="2743200" cy="2285640"/>
          </a:xfrm>
        </p:grpSpPr>
        <p:grpSp>
          <p:nvGrpSpPr>
            <p:cNvPr id="74" name=""/>
            <p:cNvGrpSpPr/>
            <p:nvPr/>
          </p:nvGrpSpPr>
          <p:grpSpPr>
            <a:xfrm>
              <a:off x="6467400" y="1676520"/>
              <a:ext cx="2286000" cy="761760"/>
              <a:chOff x="6467400" y="1676520"/>
              <a:chExt cx="2286000" cy="761760"/>
            </a:xfrm>
          </p:grpSpPr>
          <p:sp>
            <p:nvSpPr>
              <p:cNvPr id="75" name=""/>
              <p:cNvSpPr/>
              <p:nvPr/>
            </p:nvSpPr>
            <p:spPr>
              <a:xfrm>
                <a:off x="6467400" y="1676520"/>
                <a:ext cx="2286000" cy="380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67400" y="2057400"/>
                <a:ext cx="2286000" cy="38088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7400" y="1905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53400" y="1905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7000920" y="2438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10400" y="10666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10400" y="106668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4440" y="22860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86720" y="22093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63040" y="266688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1627200" y="2465280"/>
          <a:ext cx="47721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465280"/>
                    <a:ext cx="47721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577960" y="3378240"/>
          <a:ext cx="26146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7960" y="3378240"/>
                    <a:ext cx="2614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2000" y="1062000"/>
            <a:ext cx="85345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urface of a fluid is exposed to air, the pressure at that surface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qual to that of the atmospheric air pressure at that elevatio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 consequence of Pascal’s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ea level the atmospheric pressur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.01 x 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/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at any depth (H) below the surface of the fluid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lationship also applies to air pressure at higher altitudes (to the extent that the air density does not change substan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5532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ow high can you suck water up using a straw?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or pumping water uphill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draw water (or any fluid) upward you must lower the pressure difference between the pressure inside the “straw” and the outside environment (usually the atmosphe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8383"/>
          <a:stretch/>
        </p:blipFill>
        <p:spPr>
          <a:xfrm>
            <a:off x="6330960" y="327672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0080" y="2860560"/>
            <a:ext cx="585144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s there a limit to how low you can make the pressure inside a stra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How high can you suck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romet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1080" y="819000"/>
            <a:ext cx="87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meters are devices used to measure air (or atmospheric)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ar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d 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9472"/>
          <a:stretch/>
        </p:blipFill>
        <p:spPr>
          <a:xfrm>
            <a:off x="4800600" y="2720880"/>
            <a:ext cx="4114800" cy="337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0" b="26270"/>
          <a:stretch/>
        </p:blipFill>
        <p:spPr>
          <a:xfrm>
            <a:off x="882720" y="2743200"/>
            <a:ext cx="2469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45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ascal’s Princi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8596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essure is applied to an enclosed fluid, the pressure is transmitted undiminished to all parts of the fluid and the enclosing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7101"/>
          <a:stretch/>
        </p:blipFill>
        <p:spPr>
          <a:xfrm>
            <a:off x="6243480" y="1793880"/>
            <a:ext cx="2800440" cy="506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286000"/>
            <a:ext cx="6492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applied pressure is to increase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of hydraulics is based on Pascal’s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48040" y="4514760"/>
          <a:ext cx="2946240" cy="9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040" y="4514760"/>
                    <a:ext cx="29462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257560" y="5557680"/>
          <a:ext cx="3386160" cy="10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7560" y="5557680"/>
                    <a:ext cx="338616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08T17:58:51Z</dcterms:modified>
  <cp:revision>45</cp:revision>
  <dc:subject/>
  <dc:title>Phy 211: General Physics I</dc:title>
</cp:coreProperties>
</file>