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3FA-F9FA-4859-B103-0EDAB393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605-83D1-4820-B4D2-8FFDAA1C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AC4-942D-4AAE-BB27-9DCC902A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F33-1844-4E69-B20E-03B179C9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57B-D399-4D94-B807-37D2F0C1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F6F-C68E-4A7B-9F32-57425D2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034-E4F3-4826-88BF-4C704AC0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809-0CC1-44B9-9850-452FD4A9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1FA-C8F5-41B2-824E-9D8B353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BCC-C966-42FB-944D-E8C6D8C8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525-6E2A-4732-AF08-3AAF30D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74E-C744-48F7-AEA6-F4B714F1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B4D6-0566-4CBC-8EF9-84ADFA71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473880" y="1698480"/>
          <a:ext cx="23367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3880" y="1698480"/>
                    <a:ext cx="23367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73480" y="3343320"/>
          <a:ext cx="25146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3343320"/>
                    <a:ext cx="2514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92600" y="4214880"/>
          <a:ext cx="15051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2600" y="4214880"/>
                    <a:ext cx="1505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597640" y="4584600"/>
          <a:ext cx="12682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97640" y="4584600"/>
                    <a:ext cx="1268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635800" y="4924440"/>
          <a:ext cx="29271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5800" y="4924440"/>
                    <a:ext cx="29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b Links &amp; Referen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12T16:44:59Z</dcterms:modified>
  <cp:revision>21</cp:revision>
  <dc:subject/>
  <dc:title>Phy 211: General Physics I</dc:title>
</cp:coreProperties>
</file>