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DAF-36D8-40D2-8580-F0182279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729-EB71-4CEB-9FF2-58F2EC0B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15C-B0A1-4C89-8086-7767E43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43A-EBF7-4972-8EA6-452427CE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361-2DD1-4A03-9212-E0F6D2F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30B-926E-4260-A7C3-AB3874E1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706-295E-482B-A99B-5052C98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50B-F567-466F-81B5-EFCDCB16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355-AD64-42CB-A73F-34DF7AB3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321-4A1D-4861-A25E-59D5ED8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679-EE5F-4E24-A47E-BAFF5F5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4A7-4554-4A69-AAE3-708FF3E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4057-027B-45CE-9739-FE3666C9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473880" y="1698480"/>
          <a:ext cx="23367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3880" y="1698480"/>
                    <a:ext cx="23367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73480" y="3343320"/>
          <a:ext cx="25146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3343320"/>
                    <a:ext cx="2514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92600" y="4214880"/>
          <a:ext cx="15051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2600" y="4214880"/>
                    <a:ext cx="1505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597640" y="4584600"/>
          <a:ext cx="12682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97640" y="4584600"/>
                    <a:ext cx="1268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635800" y="4924440"/>
          <a:ext cx="29271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5800" y="4924440"/>
                    <a:ext cx="29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b Links &amp; Referen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12T16:44:59Z</dcterms:modified>
  <cp:revision>21</cp:revision>
  <dc:subject/>
  <dc:title>Phy 211: General Physics I</dc:title>
</cp:coreProperties>
</file>