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FD07E6-0D8A-4A26-88A8-BB935E3CA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yst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an be thought of as a single object consisting of a collection of atoms/molecules that are grouped to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28B4-4785-473D-AD02-B63D461AA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364D-6BCD-40A4-8850-FE5CFEEA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25B7-1F59-4BB4-8AE2-4FEFCDC7D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C628-3749-4D3A-9DC7-5D5FFD1D4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23FE-74E5-4F04-BBEA-ECE0B365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9D66-0062-4A5F-B729-77441852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C70D-87D3-429A-A9D7-F16A366D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596C-6E0D-41AF-B780-DDB42AD3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1B43-1FE6-4336-BBC7-3AF5633A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6B84-950E-4273-9B54-7F2BED3B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6220-D374-4958-AF23-EE9FD2B2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D105-28C6-4559-9643-56B81B6F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64BB-AC42-4F38-AA21-A5CA2911B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hy 211: General Physics I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95440" y="3886200"/>
            <a:ext cx="80215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9: Center of Mass &amp; Linear Momen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onservation of Momentum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(Examples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allistic pend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body collisio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e can’t solve 3-body systems…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ectly inelastic 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pre-collisio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≠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post-colli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ectly elastic 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pre-collisio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=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post-colli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isions in 2-D or 3-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 momentum is conserved by compon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mpon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646280" y="4950000"/>
          <a:ext cx="6961320" cy="5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6280" y="4950000"/>
                    <a:ext cx="696132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963720" y="3914640"/>
          <a:ext cx="60912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63720" y="3914640"/>
                    <a:ext cx="60912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3276720" y="2044800"/>
          <a:ext cx="914400" cy="19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204480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620720" y="5769000"/>
          <a:ext cx="6896160" cy="54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20720" y="5769000"/>
                    <a:ext cx="689616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3276720" y="2044800"/>
          <a:ext cx="914400" cy="198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76720" y="204480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Notes on Collisions &amp; Forc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44640"/>
            <a:ext cx="8534160" cy="55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collisions, the forces gener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short in 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calle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mpulsive forc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r impact forces or collision for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 vary in intensity/magnitude during the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described by an average collision for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olf club collides with a 0.1 kg golf ball (initially at rest)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0.01s.  The velocity of the ball following the impact is 25 m/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mpulse exerted 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all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verage impulsive force exerted on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verage impulsive 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erted o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lu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212920" y="2736720"/>
          <a:ext cx="3849840" cy="68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2920" y="2736720"/>
                    <a:ext cx="384984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1474920" y="4432320"/>
          <a:ext cx="633888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4920" y="4432320"/>
                    <a:ext cx="63388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2205000" y="5246640"/>
          <a:ext cx="4218120" cy="66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5000" y="5246640"/>
                    <a:ext cx="421812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2178000" y="6118200"/>
          <a:ext cx="4397400" cy="66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78000" y="6118200"/>
                    <a:ext cx="439740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Rene Descartes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(1596-1650)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685520"/>
            <a:ext cx="6154920" cy="39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inent French mathematician &amp; philosop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toward end of Galileo’s car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ied the nature of collisions between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introduced the concept of mome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261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defined momentum (“vis-à-vis”) as the product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eigh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d the Law of Conservation of Mome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95880" y="1447920"/>
            <a:ext cx="2806920" cy="26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Linear Momentum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5240" y="1131840"/>
            <a:ext cx="8723160" cy="540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momentum (    ) represents inertia in mo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ewton momentum as the “quantity of motion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ually, the effort required to bring a moving object to rest depends not only on its mass (inertia) but also on how fast it is mo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mentum is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antity with the same direction as the object’s velo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units are k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wton’s 1</a:t>
            </a:r>
            <a:r>
              <a:rPr b="1" lang="en-US" sz="2800" spc="-1" strike="noStrike" u="sng" baseline="30000">
                <a:solidFill>
                  <a:srgbClr val="000000"/>
                </a:solidFill>
                <a:uFillTx/>
                <a:latin typeface="Arial"/>
              </a:rPr>
              <a:t>st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Law revisi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momentum of an object will remain constant unless it is acted upon by a net force (or impul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260440" y="2911320"/>
          <a:ext cx="1535400" cy="54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0440" y="2911320"/>
                    <a:ext cx="1535400" cy="5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3992400" y="1117440"/>
          <a:ext cx="30492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2400" y="1117440"/>
                    <a:ext cx="30492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enter of Mass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1048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enter of M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    ) refers to the average location of mass for a defined m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termine the center of mass, take the sum of each mass multiplied by its position vector and divide by the total mass of the system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, if the objects in the system are in motion, the velocity of the system (center of mass)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</a:rPr>
              <a:t>syste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.e.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</a:rPr>
              <a:t>ex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then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c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tion of all bodies even if they are changing individually will always have values such that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</a:rPr>
              <a:t>cm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= co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629080" y="870120"/>
          <a:ext cx="377640" cy="39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9080" y="870120"/>
                    <a:ext cx="37764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790560" y="2379600"/>
          <a:ext cx="6478560" cy="120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0560" y="2379600"/>
                    <a:ext cx="647856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206360" y="4186080"/>
          <a:ext cx="5605560" cy="117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06360" y="4186080"/>
                    <a:ext cx="5605560" cy="11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Impulse-Momentum Theorem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ton’s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w, can be rewritten 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rranging ter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he Net Impulse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of Impulse associated with an applied for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I units for impulse are 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constant force (or average force)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mpu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mplifies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Impulse represents simultaneous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duct of the force times the ti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hange in linear momentum of the objec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636560" y="1266840"/>
          <a:ext cx="4660920" cy="77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6560" y="1266840"/>
                    <a:ext cx="466092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1517760" y="2212920"/>
          <a:ext cx="4021200" cy="12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17760" y="2212920"/>
                    <a:ext cx="4021200" cy="12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1554120" y="3772080"/>
          <a:ext cx="2219400" cy="668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54120" y="3772080"/>
                    <a:ext cx="22194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1569960" y="5230800"/>
          <a:ext cx="2065320" cy="471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69960" y="5230800"/>
                    <a:ext cx="206532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5222880" y="6076800"/>
          <a:ext cx="746280" cy="460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22880" y="6076800"/>
                    <a:ext cx="7462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5880240" y="6440400"/>
          <a:ext cx="2149200" cy="408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80240" y="6440400"/>
                    <a:ext cx="214920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Notes on Impuls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ulses always occur as action-reaction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c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relationship is observed in many “real world”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obile safe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shbo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rb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umple z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pack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rofoam spac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nis: racket string 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ball: “juiced” baseballs &amp; baseball bats (corked &amp; aluminum vs. wo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lf: the “spring-like” effect of golf club h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ing gloves: (lower impulsive forces in the han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A Superman Problem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5715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well known that bullets and missiles bounce off Superman’s chest.  Suppose a bad guy sprays Superman’s chest with 0.003 kg bullets traveling at a speed of 300 m/s (fired from a machine gun at a rate of 100 rounds/min).  Each bullet bounces straight back with no loss in spee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ble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What is the impulse exerted on Superman’s chest by a single bull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What is the average force exerted by the stream of bullets on Superman’s che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176640" y="2637000"/>
            <a:ext cx="2790720" cy="1951920"/>
            <a:chOff x="3176640" y="2637000"/>
            <a:chExt cx="2790720" cy="1951920"/>
          </a:xfrm>
        </p:grpSpPr>
        <p:sp>
          <p:nvSpPr>
            <p:cNvPr id="89" name=""/>
            <p:cNvSpPr/>
            <p:nvPr/>
          </p:nvSpPr>
          <p:spPr>
            <a:xfrm>
              <a:off x="3268800" y="2637000"/>
              <a:ext cx="2698560" cy="195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7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76640" y="3048120"/>
              <a:ext cx="183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3805200" y="269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5200" y="269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791320" y="380880"/>
            <a:ext cx="31446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ollisions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3000" y="1252440"/>
            <a:ext cx="8645400" cy="497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pecific type of interaction between 2 objects.  The basic assumptions of a colli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on is short lived compared to the time of ob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elatively large force acts on each colliding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tion of one or both objects changes abruptly following coll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a clean separation between the state of the object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efo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llision vs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f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ll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classifications for colli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rfectly elastic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lliding objects bounce off each other and no energy is lost due to heat formation or deformation (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onserv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rfectly inelastic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lliding objects stick together (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not conserv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omewhat inelast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basically all other type of collisions): KE is not conser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onservation of Linear Momentum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5240" y="1397160"/>
            <a:ext cx="8723160" cy="390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total linear momentum of a system will remain constant when n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tern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net force acts upon the system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e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momentum vectors may change due to collisions, etc. but the linear momentum for the system remains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for solving collision probl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all information is not known/gi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implify th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vation of Momentum is even more fundamental than Newton’s Laws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16120" y="2116080"/>
          <a:ext cx="7281720" cy="45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2116080"/>
                    <a:ext cx="728172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pccuser</cp:lastModifiedBy>
  <dcterms:modified xsi:type="dcterms:W3CDTF">2007-09-24T01:53:44Z</dcterms:modified>
  <cp:revision>40</cp:revision>
  <dc:subject/>
  <dc:title>Phy 211: General Physics I</dc:title>
</cp:coreProperties>
</file>