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1CB9E-1E41-400D-A657-90844AFB5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be thought of as a single object consisting of a collection of atoms/molecules that are grouped to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61D-C0B0-4D31-84EF-BCE3ED9F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CE4-2CA9-4469-B75A-965CF6F6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1669-DB53-476C-8455-7159DFD5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09E-B524-49E5-AF85-269D8D27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C00-0D97-4CED-80C5-62B2BD35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C25-9B7D-4F4B-A1D1-2D9EEC7D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513-44F3-47AC-9D8E-34EA85B9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ABE4-83FE-41C0-A359-B3A2BD77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EC3-B462-403C-B80C-A7A9FE8D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5852-EE47-4560-8387-1834160D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907-20EB-49E0-893F-102CE52C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7BA-757C-4F82-B1E7-47CC15F8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1A45-9C4C-4BB9-A2E7-F3B0467DA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95440" y="3886200"/>
            <a:ext cx="8021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9: Center of Mass &amp; Linear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onservation of Momentum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(Examples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llistic pend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body collis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 can’t solve 3-body systems…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ly inelastic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re-collis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≠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ost-coll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ly elastic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re-collis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ost-coll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s in 2-D or 3-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momentum is conserved by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46280" y="4950000"/>
          <a:ext cx="696132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4950000"/>
                    <a:ext cx="69613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63720" y="3914640"/>
          <a:ext cx="60912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3720" y="3914640"/>
                    <a:ext cx="60912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276720" y="2044800"/>
          <a:ext cx="914400" cy="19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044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620720" y="5769000"/>
          <a:ext cx="6896160" cy="5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20720" y="5769000"/>
                    <a:ext cx="68961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276720" y="2044800"/>
          <a:ext cx="914400" cy="19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2044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Notes on Collisions &amp; Forc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44640"/>
            <a:ext cx="853416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collisions, the forces gener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 in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call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ulsive forc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impact forces or collision fo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vary in intensity/magnitude during the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escribed by an average collision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lf club collides with a 0.1 kg golf ball (initially at rest)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0.01s.  The velocity of the ball following the impact is 25 m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mpulse exerted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ll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impulsive force exerted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impulsive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erted o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12920" y="2736720"/>
          <a:ext cx="384984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2920" y="2736720"/>
                    <a:ext cx="384984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474920" y="4432320"/>
          <a:ext cx="63388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4920" y="4432320"/>
                    <a:ext cx="6338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205000" y="5246640"/>
          <a:ext cx="421812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5000" y="5246640"/>
                    <a:ext cx="42181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178000" y="6118200"/>
          <a:ext cx="439740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78000" y="6118200"/>
                    <a:ext cx="43974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ne Descartes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685520"/>
            <a:ext cx="6154920" cy="39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nent French mathematician &amp; philoso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toward end of Galileo’s car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d the nature of collisions betwee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introduced the concept of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26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efined momentum (“vis-à-vis”) as the product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ei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he Law of Conservation of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80692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Linear Momentu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5240" y="1131840"/>
            <a:ext cx="8723160" cy="540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momentum (    ) represents inertia in mo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wton momentum as the “quantity of motion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ly, the effort required to bring a moving object to rest depends not only on its mass (inertia) but also on how fast it is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entum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ntity with the same direction as the object’s 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units are k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wton’s 1</a:t>
            </a:r>
            <a:r>
              <a:rPr b="1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Law revisi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momentum of an object will remain constant unless it is acted upon by a net force (or impul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60440" y="2911320"/>
          <a:ext cx="1535400" cy="5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0440" y="2911320"/>
                    <a:ext cx="1535400" cy="5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992400" y="1117440"/>
          <a:ext cx="30492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2400" y="1117440"/>
                    <a:ext cx="3049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enter of Mas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nter of M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   ) refers to the average location of mass for a defined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the center of mass, take the sum of each mass multiplied by its position vector and divide by the total mass of the system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, if the objects in the system are in motion, the velocity of the system (center of mass)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e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en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c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on of all bodies even if they are changing individually will always have values such that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=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629080" y="870120"/>
          <a:ext cx="37764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9080" y="870120"/>
                    <a:ext cx="3776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90560" y="2379600"/>
          <a:ext cx="6478560" cy="120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2379600"/>
                    <a:ext cx="647856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206360" y="4186080"/>
          <a:ext cx="5605560" cy="117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6360" y="4186080"/>
                    <a:ext cx="560556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Impulse-Momentum Theore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ton’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, can be rewritten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rranging ter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Net Impuls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of Impulse associated with an applied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 units for impulse are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constant force (or average force)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u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mplifi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Impulse represents simultaneous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duct of the force times the t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nge in linear momentum of the obje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636560" y="1266840"/>
          <a:ext cx="4660920" cy="77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1266840"/>
                    <a:ext cx="466092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517760" y="2212920"/>
          <a:ext cx="402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7760" y="2212920"/>
                    <a:ext cx="402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554120" y="3772080"/>
          <a:ext cx="221940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54120" y="3772080"/>
                    <a:ext cx="22194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569960" y="5230800"/>
          <a:ext cx="2065320" cy="4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69960" y="5230800"/>
                    <a:ext cx="20653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222880" y="6076800"/>
          <a:ext cx="746280" cy="46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22880" y="6076800"/>
                    <a:ext cx="7462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880240" y="6440400"/>
          <a:ext cx="2149200" cy="408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80240" y="6440400"/>
                    <a:ext cx="214920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Notes on Impuls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es always occur as action-reaction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relationship is observed in many “real world”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obile safe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h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mple z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rofoam spa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nis: racket string 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ball: “juiced” baseballs &amp; baseball bats (corked &amp; aluminum vs. w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f: the “spring-like” effect of golf club 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ing gloves: (lower impulsive forces in the ha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A Superman Proble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well known that bullets and missiles bounce off Superman’s chest.  Suppose a bad guy sprays Superman’s chest with 0.003 kg bullets traveling at a speed of 300 m/s (fired from a machine gun at a rate of 100 rounds/min).  Each bullet bounces straight back with no loss in spe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bl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What is the impulse exerted on Superman’s chest by a single bull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What is the average force exerted by the stream of bullets on Superman’s ch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176640" y="2637000"/>
            <a:ext cx="2790720" cy="1951920"/>
            <a:chOff x="3176640" y="2637000"/>
            <a:chExt cx="2790720" cy="1951920"/>
          </a:xfrm>
        </p:grpSpPr>
        <p:sp>
          <p:nvSpPr>
            <p:cNvPr id="89" name=""/>
            <p:cNvSpPr/>
            <p:nvPr/>
          </p:nvSpPr>
          <p:spPr>
            <a:xfrm>
              <a:off x="3268800" y="2637000"/>
              <a:ext cx="2698560" cy="19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7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76640" y="3048120"/>
              <a:ext cx="18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80520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520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3144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ollision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3000" y="1252440"/>
            <a:ext cx="8645400" cy="497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fic type of interaction between 2 objects.  The basic assumptions of a coll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is short lived compared to the time of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latively large force acts on each colliding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on of one or both objects changes abruptly following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lean separation between the state of the object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sion vs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classifications for colli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ectly elasti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ding objects bounce off each other and no energy is lost due to heat formation or deformation 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er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ectly inelasti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ding objects stick together 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conser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what inela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asically all other type of collisions): KE is not con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onservation of Linear Momentu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5240" y="1397160"/>
            <a:ext cx="8723160" cy="39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total linear momentum of a system will remain constant when n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rn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et force acts upon the system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momentum vectors may change due to collisions, etc. but the linear momentum for the system remain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solving collision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all information is not known/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implify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Momentum is even more fundamental than Newton’s Law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16120" y="2116080"/>
          <a:ext cx="728172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2116080"/>
                    <a:ext cx="72817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09-24T01:53:44Z</dcterms:modified>
  <cp:revision>40</cp:revision>
  <dc:subject/>
  <dc:title>Phy 211: General Physics I</dc:title>
</cp:coreProperties>
</file>