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4435-1E85-4841-ADD5-E559987E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2EBC1-17BD-4E4F-9ED5-6663D7E5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2AB-999E-42D2-B5A6-FB85CEAD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AB0-7136-4574-8FC9-9054456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0B02-E6A8-400F-850B-B7CA3499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C82-A30F-4986-B371-16D0B53C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FD7-A341-494B-A159-A8032869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269-4497-47C2-A618-F995B24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4A63-E162-4207-9650-30E37E78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42C-782B-4A9F-A84D-3187B620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DD5-8243-4D71-8BDE-9E1E4730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8BC-D686-4901-B0DE-C7EF5AF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946-31A1-48CA-A287-B322631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3F7-05E8-460B-99FE-B83457D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EE5D-2483-44E2-BBD2-11A23294F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Potential Energy &amp;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) is the energy associated with the configuration of a system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position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formation of a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is a calculated quantity that represents the stored energy within the system (associated with a force) that has the potential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avitational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grav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he potential for gravitational force to perform work due to an object’s elev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astic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elasti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otential for elastic force to perform work due to a spring’s deform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1680" y="4834080"/>
          <a:ext cx="156384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1680" y="4834080"/>
                    <a:ext cx="15638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60880" y="5940360"/>
          <a:ext cx="17427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0880" y="5940360"/>
                    <a:ext cx="17427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66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0"/>
              <a:endCxn id="69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71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01680" y="5097600"/>
          <a:ext cx="554508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1680" y="5097600"/>
                    <a:ext cx="55450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192320" y="5786280"/>
          <a:ext cx="550692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2320" y="5786280"/>
                    <a:ext cx="5506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08000" y="6213600"/>
          <a:ext cx="508032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6213600"/>
                    <a:ext cx="50803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Mechanic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chanical systems whe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ces are present, the total mechanical energy of the system is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within the system may transform from one type of mechanical energy to another.  When this occur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39760" y="3592440"/>
          <a:ext cx="53024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3592440"/>
                    <a:ext cx="53024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82640" y="2274840"/>
          <a:ext cx="577692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274840"/>
                    <a:ext cx="57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6240" y="4179960"/>
            <a:ext cx="8578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1) A simple pendulum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2) An idea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79480" y="4651200"/>
            <a:ext cx="3646440" cy="2245680"/>
            <a:chOff x="1779480" y="4651200"/>
            <a:chExt cx="3646440" cy="2245680"/>
          </a:xfrm>
        </p:grpSpPr>
        <p:sp>
          <p:nvSpPr>
            <p:cNvPr id="93" name=""/>
            <p:cNvSpPr/>
            <p:nvPr/>
          </p:nvSpPr>
          <p:spPr>
            <a:xfrm>
              <a:off x="3083040" y="649116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33520" y="5791320"/>
              <a:ext cx="2955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87680" y="4815000"/>
              <a:ext cx="884160" cy="10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465000" y="4786200"/>
              <a:ext cx="4320" cy="1359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2800" y="6194520"/>
              <a:ext cx="2934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67160" y="5932440"/>
              <a:ext cx="16002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7280" y="634356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02200" y="5925960"/>
              <a:ext cx="0" cy="4096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5772240"/>
              <a:ext cx="69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4" idx="4"/>
              <a:endCxn id="97" idx="2"/>
            </p:cNvCxnSpPr>
            <p:nvPr/>
          </p:nvCxnSpPr>
          <p:spPr>
            <a:xfrm flipH="1" rot="16200000">
              <a:off x="2771280" y="5783040"/>
              <a:ext cx="262080" cy="842400"/>
            </a:xfrm>
            <a:prstGeom prst="curvedConnector2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2913120" y="4651200"/>
              <a:ext cx="1112760" cy="16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202280" y="5697360"/>
            <a:ext cx="268200" cy="41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02280" y="5697360"/>
                      <a:ext cx="2682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216320" y="6167520"/>
            <a:ext cx="1209600" cy="41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16320" y="6167520"/>
                      <a:ext cx="12096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6019920" y="4614840"/>
            <a:ext cx="3124080" cy="2044080"/>
            <a:chOff x="6019920" y="4614840"/>
            <a:chExt cx="3124080" cy="2044080"/>
          </a:xfrm>
        </p:grpSpPr>
        <p:sp>
          <p:nvSpPr>
            <p:cNvPr id="109" name=""/>
            <p:cNvSpPr/>
            <p:nvPr/>
          </p:nvSpPr>
          <p:spPr>
            <a:xfrm>
              <a:off x="6910560" y="5545080"/>
              <a:ext cx="2952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3440" y="6151680"/>
              <a:ext cx="2937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1120" y="63007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0000" y="5665680"/>
              <a:ext cx="0" cy="6271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9880" y="6253200"/>
              <a:ext cx="124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51988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6375240" y="4614840"/>
              <a:ext cx="13417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42040" y="56815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7520" y="5660640"/>
              <a:ext cx="0" cy="63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7845480" y="6087960"/>
            <a:ext cx="2952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5480" y="6087960"/>
                      <a:ext cx="295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7832880" y="5497560"/>
            <a:ext cx="1311120" cy="446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32880" y="5497560"/>
                      <a:ext cx="13111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 Potential Energy Graph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880" y="87948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 graph is plot of U vs r for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graph defined the force exerted along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39760" y="1751040"/>
          <a:ext cx="2864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751040"/>
                    <a:ext cx="2864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263520" y="2556000"/>
            <a:ext cx="2143080" cy="1864800"/>
            <a:chOff x="263520" y="2556000"/>
            <a:chExt cx="2143080" cy="1864800"/>
          </a:xfrm>
        </p:grpSpPr>
        <p:sp>
          <p:nvSpPr>
            <p:cNvPr id="127" name=""/>
            <p:cNvSpPr/>
            <p:nvPr/>
          </p:nvSpPr>
          <p:spPr>
            <a:xfrm flipV="1">
              <a:off x="633240" y="2556000"/>
              <a:ext cx="0" cy="15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240" y="4117680"/>
              <a:ext cx="177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2038320" y="4092480"/>
            <a:ext cx="23976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38320" y="4092480"/>
                      <a:ext cx="2397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63520" y="2654280"/>
            <a:ext cx="306360" cy="34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520" y="2654280"/>
                      <a:ext cx="306360" cy="34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20640" y="3508200"/>
              <a:ext cx="1701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819000" y="2874960"/>
            <a:ext cx="1451160" cy="53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19000" y="2874960"/>
                      <a:ext cx="14511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"/>
          <p:cNvGrpSpPr/>
          <p:nvPr/>
        </p:nvGrpSpPr>
        <p:grpSpPr>
          <a:xfrm>
            <a:off x="3809880" y="2448000"/>
            <a:ext cx="5243400" cy="2028240"/>
            <a:chOff x="3809880" y="2448000"/>
            <a:chExt cx="5243400" cy="2028240"/>
          </a:xfrm>
        </p:grpSpPr>
        <p:graphicFrame>
          <p:nvGraphicFramePr>
            <p:cNvPr id="137" name=""/>
            <p:cNvGraphicFramePr/>
            <p:nvPr/>
          </p:nvGraphicFramePr>
          <p:xfrm>
            <a:off x="5810040" y="2448000"/>
            <a:ext cx="3240000" cy="69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0040" y="2448000"/>
                      <a:ext cx="3240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flipV="1">
              <a:off x="4171680" y="247896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415116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547960" y="4124160"/>
            <a:ext cx="235080" cy="352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7960" y="4124160"/>
                      <a:ext cx="235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3809880" y="2585880"/>
            <a:ext cx="299880" cy="366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9880" y="2585880"/>
                      <a:ext cx="29988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4160520" y="2839320"/>
              <a:ext cx="1535040" cy="60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7000" y="3438360"/>
              <a:ext cx="1679400" cy="375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911560" y="3482640"/>
            <a:ext cx="3141720" cy="63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11560" y="3482640"/>
                      <a:ext cx="31417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333360" y="4554360"/>
            <a:ext cx="6841800" cy="2260800"/>
            <a:chOff x="333360" y="4554360"/>
            <a:chExt cx="6841800" cy="2260800"/>
          </a:xfrm>
        </p:grpSpPr>
        <p:graphicFrame>
          <p:nvGraphicFramePr>
            <p:cNvPr id="150" name=""/>
            <p:cNvGraphicFramePr/>
            <p:nvPr/>
          </p:nvGraphicFramePr>
          <p:xfrm>
            <a:off x="1927080" y="4554360"/>
            <a:ext cx="5248080" cy="76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7080" y="4554360"/>
                      <a:ext cx="5248080" cy="76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 flipV="1">
              <a:off x="695160" y="481788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160" y="648972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071440" y="6462720"/>
            <a:ext cx="235080" cy="35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6462720"/>
                      <a:ext cx="235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33360" y="4924440"/>
            <a:ext cx="299880" cy="366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33360" y="4924440"/>
                      <a:ext cx="2998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flipV="1">
              <a:off x="1083960" y="5009760"/>
              <a:ext cx="866880" cy="32868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V="1">
              <a:off x="690120" y="5107680"/>
              <a:ext cx="1122840" cy="1104120"/>
            </a:xfrm>
            <a:prstGeom prst="curvedConnector5">
              <a:avLst>
                <a:gd name="adj1" fmla="val 49903"/>
                <a:gd name="adj2" fmla="val 50000"/>
                <a:gd name="adj3" fmla="val 49903"/>
              </a:avLst>
            </a:prstGeom>
            <a:ln w="2844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6640" y="2936880"/>
          <a:ext cx="52401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936880"/>
                    <a:ext cx="5240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71720" y="4614840"/>
          <a:ext cx="4216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4614840"/>
                    <a:ext cx="4216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9480" y="6380280"/>
          <a:ext cx="680544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6380280"/>
                    <a:ext cx="680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65240" y="2457360"/>
          <a:ext cx="48243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457360"/>
                    <a:ext cx="4824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08240" y="3882960"/>
          <a:ext cx="66196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882960"/>
                    <a:ext cx="6619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54040" y="5365800"/>
          <a:ext cx="59770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4040" y="5365800"/>
                    <a:ext cx="597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06440" y="6303960"/>
          <a:ext cx="82771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440" y="6303960"/>
                    <a:ext cx="8277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4T01:52:20Z</dcterms:modified>
  <cp:revision>72</cp:revision>
  <dc:subject/>
  <dc:title>Phy 211: General Physics I</dc:title>
</cp:coreProperties>
</file>