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4.png" ContentType="image/png"/>
  <Override PartName="/ppt/media/image17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png" ContentType="image/png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329D0-6D0C-48C4-B0A5-23D614F02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FD8BA-E086-4C52-8A9C-1446F1EC2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5F30-1882-4CA9-BA2C-FF492634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8B1A-CFA9-42D2-9123-B6413EBD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A4D5-3656-4E39-86DB-1596506F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9FBE-5D29-4075-B02A-0D069156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BF77-1C2F-499F-A437-EF79DD72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01B-A052-4361-86CE-BD6A6D39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1DCD-858D-4F59-A638-A716CA40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4936-3448-4C40-8D6B-D0122CA8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B89C-0FD8-4462-87D2-A40555D2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E3C-71D2-48E5-AF4B-6CFA1FF7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6D45-34D5-444D-9048-082836B9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960E-E8D2-4629-902C-4E8B1622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833A-2B75-4136-A6BA-6B2F8D151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image" Target="../media/image16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.wmf"/><Relationship Id="rId2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8: Potential Energy &amp; Conservation of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eeper Thoughts on Cons. of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5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sts have identified by experiment 3 fundamental conservation laws associated with isolated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ervation of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ervation of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ervation of Electric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ed as accepted “facts”, these laws have allowed for experimental predictions that would not have been foreseen otherw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servation of 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d to the discovery of the neutrino during neutron decay within the atomic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servation of M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fundamental in the prediction of new substance formed during chemic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servation of Electric Cha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dicts the formation of neutrons do to the collision of protons with electrons, a process called Electron Cap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as accepted “facts”, these laws have allowed for experimental predictions that would not have been foreseen otherw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eynman on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2720" y="1496520"/>
            <a:ext cx="7010280" cy="27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re is a fac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or if you wish, a law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governing natural phenomena that are known to date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re is no known exception to this la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is exact so far we know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 law is called conservation of ener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[it states that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re is a certain quantity, which we call energy that does not change in manifold changes which nature undergo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]. That is a most abstract ide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Photograph"/>
          <p:cNvPicPr/>
          <p:nvPr/>
        </p:nvPicPr>
        <p:blipFill>
          <a:blip r:embed="rId1"/>
          <a:stretch/>
        </p:blipFill>
        <p:spPr>
          <a:xfrm>
            <a:off x="7242120" y="1182600"/>
            <a:ext cx="1571760" cy="2228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8400" y="4100400"/>
            <a:ext cx="828180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cause it is a mathematical principle; it says that there is a numerical quantity, which does not change when something happens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It is not a description of a mechanism, or anything concrete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t is just a strange fact that we can calculate some number, and when we finish watching nature go through her tricks and calculate the number again, it is the sam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18480" y="3484440"/>
            <a:ext cx="21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ichard Feynman (1918-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&amp; Potential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otenti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U) is the energy associated with the configuration of a system,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position of an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deformation of a sp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Energy is a calculated quantity that represents the stored energy within the system (associated with a force) that has the potential to perform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of Potential 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ravitational PE (U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grav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The potential for gravitational force to perform work due to an object’s elevation, defin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lastic PE (U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elastic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potential for elastic force to perform work due to a spring’s deformation, defin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71680" y="4834080"/>
          <a:ext cx="1563840" cy="47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1680" y="4834080"/>
                    <a:ext cx="156384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260880" y="5940360"/>
          <a:ext cx="1742760" cy="4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0880" y="5940360"/>
                    <a:ext cx="17427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servative vs. Nonconservative For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servative Fo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configuration of a system is altered, a force performs work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Reversing the configuration of the system results in the force performing work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The force is conservative if: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= -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ce that performs work independent of the path take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ce in which the net work it performs around a closed path is always zero 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0 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for closed path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vitational force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Elastic force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sp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and Electric force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Nonconservative Fo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k performed by the force depends on the path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configuration of a system is altered then reversed, the net work performed by the force is not zero: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0 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for closed path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performed results in energy transformed to therm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Drag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Dr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Kinetic friction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kine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9000" y="3747960"/>
            <a:ext cx="889776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With Kinetic Friction (nonconservative fo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 kg object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5 m/s) travels up a 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ine and back down against a 1.7 N kinetic friction force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e:  Block will not travel up as far as previous ex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 by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p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 by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ow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liding on an Inclin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036440"/>
            <a:ext cx="799956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No friction (conservative fo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 kg object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5 m/s) travels up a 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ine and back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The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 by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p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The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 by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ow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total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57400" y="2041560"/>
          <a:ext cx="384336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7400" y="2041560"/>
                    <a:ext cx="38433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" name=""/>
          <p:cNvGrpSpPr/>
          <p:nvPr/>
        </p:nvGrpSpPr>
        <p:grpSpPr>
          <a:xfrm>
            <a:off x="6122160" y="1635120"/>
            <a:ext cx="2817000" cy="1487520"/>
            <a:chOff x="6122160" y="1635120"/>
            <a:chExt cx="2817000" cy="1487520"/>
          </a:xfrm>
        </p:grpSpPr>
        <p:sp>
          <p:nvSpPr>
            <p:cNvPr id="66" name=""/>
            <p:cNvSpPr/>
            <p:nvPr/>
          </p:nvSpPr>
          <p:spPr>
            <a:xfrm flipH="1">
              <a:off x="6319800" y="1635120"/>
              <a:ext cx="2619360" cy="148752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9739400">
              <a:off x="6181560" y="2610000"/>
              <a:ext cx="511200" cy="3729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753240" y="1836720"/>
              <a:ext cx="1519200" cy="836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6707160" y="1697040"/>
              <a:ext cx="1471680" cy="806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"/>
            <p:cNvCxnSpPr>
              <a:stCxn id="68" idx="0"/>
              <a:endCxn id="69" idx="0"/>
            </p:cNvCxnSpPr>
            <p:nvPr/>
          </p:nvCxnSpPr>
          <p:spPr>
            <a:xfrm flipV="1" rot="16200000">
              <a:off x="8155440" y="1720800"/>
              <a:ext cx="141840" cy="92880"/>
            </a:xfrm>
            <a:prstGeom prst="curvedConnector5">
              <a:avLst>
                <a:gd name="adj1" fmla="val 96437"/>
                <a:gd name="adj2" fmla="val 49805"/>
                <a:gd name="adj3" fmla="val 96437"/>
              </a:avLst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  <p:graphicFrame>
        <p:nvGraphicFramePr>
          <p:cNvPr id="71" name=""/>
          <p:cNvGraphicFramePr/>
          <p:nvPr/>
        </p:nvGraphicFramePr>
        <p:xfrm>
          <a:off x="1181160" y="2787480"/>
          <a:ext cx="4309920" cy="53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1160" y="2787480"/>
                    <a:ext cx="43099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468600" y="3279600"/>
          <a:ext cx="4376880" cy="45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68600" y="3279600"/>
                    <a:ext cx="437688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201680" y="5097600"/>
          <a:ext cx="5545080" cy="43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01680" y="5097600"/>
                    <a:ext cx="554508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192320" y="5786280"/>
          <a:ext cx="5506920" cy="43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92320" y="5786280"/>
                    <a:ext cx="550692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192320" y="6454800"/>
          <a:ext cx="6953040" cy="407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92320" y="6454800"/>
                    <a:ext cx="69530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efining or Identifying a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93672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ystem is a defined object (or group of objects) that are considered distinct from the rest of it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defined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063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orces associated strictly with objects within the defined system are deemed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ternal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793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ternal force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do not transfer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energy into/out of the system when performing work within th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 The attractive forces that hold the atoms of a ball together.  These forces are ignored when applying Newton’s 2</a:t>
            </a:r>
            <a:r>
              <a:rPr b="0" lang="en-US" sz="1600" spc="-1" strike="noStrike" baseline="30000">
                <a:solidFill>
                  <a:srgbClr val="990033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Law to the b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063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orces exerted from outside the defined system are deemed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xternal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793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xternal force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transfer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nergy into/out of the system when performing work on a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 The gravitational force that performs work on a falling object (the system) increases the ball system’s (kinetic) energ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Note: 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When the ball </a:t>
            </a:r>
            <a:r>
              <a:rPr b="1" lang="en-US" sz="1600" spc="-1" strike="noStrike" u="sng">
                <a:solidFill>
                  <a:srgbClr val="990033"/>
                </a:solidFill>
                <a:uFillTx/>
                <a:latin typeface="Arial"/>
              </a:rPr>
              <a:t>and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the earth are together defined as the system, the work performed by the gravitational force on the ball does NOT transfer energy into the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propriate of a system determines when a force is considered internal or external &amp; can go a long way toward simplifying the analysis of a physics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energy associated with a defined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908000" y="6213600"/>
          <a:ext cx="5080320" cy="48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6213600"/>
                    <a:ext cx="508032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servation of Mechanical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echanical systems where on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erv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ces are present, the total mechanical energy of the system is conser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within the system may transform from one type of mechanical energy to another.  When this occur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039760" y="3592440"/>
          <a:ext cx="530244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9760" y="3592440"/>
                    <a:ext cx="53024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682640" y="2274840"/>
          <a:ext cx="577692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82640" y="2274840"/>
                    <a:ext cx="57769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46240" y="4179960"/>
            <a:ext cx="85788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Example: </a:t>
            </a: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 1) A simple pendulum</a:t>
            </a: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 2) An ideal 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79480" y="4651200"/>
            <a:ext cx="3646440" cy="2245680"/>
            <a:chOff x="1779480" y="4651200"/>
            <a:chExt cx="3646440" cy="2245680"/>
          </a:xfrm>
        </p:grpSpPr>
        <p:sp>
          <p:nvSpPr>
            <p:cNvPr id="93" name=""/>
            <p:cNvSpPr/>
            <p:nvPr/>
          </p:nvSpPr>
          <p:spPr>
            <a:xfrm>
              <a:off x="3083040" y="6491160"/>
              <a:ext cx="1249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K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Arial"/>
                </a:rPr>
                <a:t>bott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33520" y="5791320"/>
              <a:ext cx="295560" cy="282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587680" y="4815000"/>
              <a:ext cx="884160" cy="101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465000" y="4786200"/>
              <a:ext cx="4320" cy="135936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22800" y="6194520"/>
              <a:ext cx="293400" cy="282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67160" y="5932440"/>
              <a:ext cx="1600200" cy="0"/>
            </a:xfrm>
            <a:prstGeom prst="line">
              <a:avLst/>
            </a:prstGeom>
            <a:ln cap="rnd" w="28440">
              <a:solidFill>
                <a:srgbClr val="9900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7280" y="6343560"/>
              <a:ext cx="631800" cy="0"/>
            </a:xfrm>
            <a:prstGeom prst="line">
              <a:avLst/>
            </a:prstGeom>
            <a:ln cap="rnd" w="28440">
              <a:solidFill>
                <a:srgbClr val="9900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102200" y="5925960"/>
              <a:ext cx="0" cy="4096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79480" y="5772240"/>
              <a:ext cx="696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Arial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" name=""/>
            <p:cNvCxnSpPr>
              <a:stCxn id="94" idx="4"/>
              <a:endCxn id="97" idx="2"/>
            </p:cNvCxnSpPr>
            <p:nvPr/>
          </p:nvCxnSpPr>
          <p:spPr>
            <a:xfrm flipH="1" rot="16200000">
              <a:off x="2771280" y="5783040"/>
              <a:ext cx="262080" cy="842400"/>
            </a:xfrm>
            <a:prstGeom prst="curvedConnector2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  <a:tailEnd len="med" type="arrow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2913120" y="4651200"/>
              <a:ext cx="1112760" cy="163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4" name=""/>
            <p:cNvGraphicFramePr/>
            <p:nvPr/>
          </p:nvGraphicFramePr>
          <p:xfrm>
            <a:off x="4202280" y="5697360"/>
            <a:ext cx="268200" cy="416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202280" y="5697360"/>
                      <a:ext cx="268200" cy="4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4216320" y="6167520"/>
            <a:ext cx="1209600" cy="412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216320" y="6167520"/>
                      <a:ext cx="1209600" cy="41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8" name=""/>
          <p:cNvGrpSpPr/>
          <p:nvPr/>
        </p:nvGrpSpPr>
        <p:grpSpPr>
          <a:xfrm>
            <a:off x="6019920" y="4614840"/>
            <a:ext cx="3124080" cy="2044080"/>
            <a:chOff x="6019920" y="4614840"/>
            <a:chExt cx="3124080" cy="2044080"/>
          </a:xfrm>
        </p:grpSpPr>
        <p:sp>
          <p:nvSpPr>
            <p:cNvPr id="109" name=""/>
            <p:cNvSpPr/>
            <p:nvPr/>
          </p:nvSpPr>
          <p:spPr>
            <a:xfrm>
              <a:off x="6910560" y="5545080"/>
              <a:ext cx="295200" cy="282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13440" y="6151680"/>
              <a:ext cx="293760" cy="282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61120" y="6300720"/>
              <a:ext cx="631800" cy="0"/>
            </a:xfrm>
            <a:prstGeom prst="line">
              <a:avLst/>
            </a:prstGeom>
            <a:ln cap="rnd" w="28440">
              <a:solidFill>
                <a:srgbClr val="9900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650000" y="5665680"/>
              <a:ext cx="0" cy="62712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49880" y="6253200"/>
              <a:ext cx="124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Arial"/>
                </a:rPr>
                <a:t>bott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19920" y="5519880"/>
              <a:ext cx="1249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K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Arial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10"/>
            <a:stretch/>
          </p:blipFill>
          <p:spPr>
            <a:xfrm>
              <a:off x="6375240" y="4614840"/>
              <a:ext cx="134172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142040" y="5681520"/>
              <a:ext cx="631800" cy="0"/>
            </a:xfrm>
            <a:prstGeom prst="line">
              <a:avLst/>
            </a:prstGeom>
            <a:ln cap="rnd" w="28440">
              <a:solidFill>
                <a:srgbClr val="9900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7067520" y="5660640"/>
              <a:ext cx="0" cy="631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8" name=""/>
            <p:cNvGraphicFramePr/>
            <p:nvPr/>
          </p:nvGraphicFramePr>
          <p:xfrm>
            <a:off x="7845480" y="6087960"/>
            <a:ext cx="295200" cy="4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845480" y="6087960"/>
                      <a:ext cx="295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" name=""/>
            <p:cNvGraphicFramePr/>
            <p:nvPr/>
          </p:nvGraphicFramePr>
          <p:xfrm>
            <a:off x="7832880" y="5497560"/>
            <a:ext cx="1311120" cy="446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832880" y="5497560"/>
                      <a:ext cx="1311120" cy="44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nterpreting a Potential Energy Graph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880" y="879480"/>
            <a:ext cx="8839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tential graph is plot of U vs r for a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lope of the graph defined the force exerted along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039760" y="1751040"/>
          <a:ext cx="286416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9760" y="1751040"/>
                    <a:ext cx="286416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263520" y="2556000"/>
            <a:ext cx="2143080" cy="1864800"/>
            <a:chOff x="263520" y="2556000"/>
            <a:chExt cx="2143080" cy="1864800"/>
          </a:xfrm>
        </p:grpSpPr>
        <p:sp>
          <p:nvSpPr>
            <p:cNvPr id="127" name=""/>
            <p:cNvSpPr/>
            <p:nvPr/>
          </p:nvSpPr>
          <p:spPr>
            <a:xfrm flipV="1">
              <a:off x="633240" y="2556000"/>
              <a:ext cx="0" cy="156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3240" y="4117680"/>
              <a:ext cx="177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9" name=""/>
            <p:cNvGraphicFramePr/>
            <p:nvPr/>
          </p:nvGraphicFramePr>
          <p:xfrm>
            <a:off x="2038320" y="4092480"/>
            <a:ext cx="239760" cy="328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38320" y="4092480"/>
                      <a:ext cx="23976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"/>
            <p:cNvGraphicFramePr/>
            <p:nvPr/>
          </p:nvGraphicFramePr>
          <p:xfrm>
            <a:off x="263520" y="2654280"/>
            <a:ext cx="306360" cy="342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3520" y="2654280"/>
                      <a:ext cx="306360" cy="34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"/>
            <p:cNvSpPr/>
            <p:nvPr/>
          </p:nvSpPr>
          <p:spPr>
            <a:xfrm>
              <a:off x="620640" y="3508200"/>
              <a:ext cx="1701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4" name=""/>
            <p:cNvGraphicFramePr/>
            <p:nvPr/>
          </p:nvGraphicFramePr>
          <p:xfrm>
            <a:off x="819000" y="2874960"/>
            <a:ext cx="1451160" cy="539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19000" y="2874960"/>
                      <a:ext cx="145116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6" name=""/>
          <p:cNvGrpSpPr/>
          <p:nvPr/>
        </p:nvGrpSpPr>
        <p:grpSpPr>
          <a:xfrm>
            <a:off x="3809880" y="2448000"/>
            <a:ext cx="5243400" cy="2028240"/>
            <a:chOff x="3809880" y="2448000"/>
            <a:chExt cx="5243400" cy="2028240"/>
          </a:xfrm>
        </p:grpSpPr>
        <p:graphicFrame>
          <p:nvGraphicFramePr>
            <p:cNvPr id="137" name=""/>
            <p:cNvGraphicFramePr/>
            <p:nvPr/>
          </p:nvGraphicFramePr>
          <p:xfrm>
            <a:off x="5810040" y="2448000"/>
            <a:ext cx="3240000" cy="695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10040" y="2448000"/>
                      <a:ext cx="3240000" cy="69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 flipV="1">
              <a:off x="4171680" y="2478960"/>
              <a:ext cx="0" cy="167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71680" y="4151160"/>
              <a:ext cx="173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5547960" y="4124160"/>
            <a:ext cx="235080" cy="3520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547960" y="4124160"/>
                      <a:ext cx="235080" cy="35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" name=""/>
            <p:cNvGraphicFramePr/>
            <p:nvPr/>
          </p:nvGraphicFramePr>
          <p:xfrm>
            <a:off x="3809880" y="2585880"/>
            <a:ext cx="299880" cy="366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809880" y="2585880"/>
                      <a:ext cx="299880" cy="36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5" name=""/>
            <p:cNvSpPr/>
            <p:nvPr/>
          </p:nvSpPr>
          <p:spPr>
            <a:xfrm flipV="1">
              <a:off x="4160520" y="2839320"/>
              <a:ext cx="1535040" cy="603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67000" y="3438360"/>
              <a:ext cx="1679400" cy="375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5911560" y="3482640"/>
            <a:ext cx="3141720" cy="637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11560" y="3482640"/>
                      <a:ext cx="3141720" cy="63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9" name=""/>
          <p:cNvGrpSpPr/>
          <p:nvPr/>
        </p:nvGrpSpPr>
        <p:grpSpPr>
          <a:xfrm>
            <a:off x="333360" y="4554360"/>
            <a:ext cx="6841800" cy="2260800"/>
            <a:chOff x="333360" y="4554360"/>
            <a:chExt cx="6841800" cy="2260800"/>
          </a:xfrm>
        </p:grpSpPr>
        <p:graphicFrame>
          <p:nvGraphicFramePr>
            <p:cNvPr id="150" name=""/>
            <p:cNvGraphicFramePr/>
            <p:nvPr/>
          </p:nvGraphicFramePr>
          <p:xfrm>
            <a:off x="1927080" y="4554360"/>
            <a:ext cx="5248080" cy="7639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927080" y="4554360"/>
                      <a:ext cx="5248080" cy="76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" name=""/>
            <p:cNvSpPr/>
            <p:nvPr/>
          </p:nvSpPr>
          <p:spPr>
            <a:xfrm flipV="1">
              <a:off x="695160" y="4817880"/>
              <a:ext cx="0" cy="167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5160" y="6489720"/>
              <a:ext cx="173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4" name=""/>
            <p:cNvGraphicFramePr/>
            <p:nvPr/>
          </p:nvGraphicFramePr>
          <p:xfrm>
            <a:off x="2071440" y="6462720"/>
            <a:ext cx="235080" cy="352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071440" y="6462720"/>
                      <a:ext cx="23508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"/>
            <p:cNvGraphicFramePr/>
            <p:nvPr/>
          </p:nvGraphicFramePr>
          <p:xfrm>
            <a:off x="333360" y="4924440"/>
            <a:ext cx="299880" cy="366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33360" y="4924440"/>
                      <a:ext cx="29988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"/>
            <p:cNvSpPr/>
            <p:nvPr/>
          </p:nvSpPr>
          <p:spPr>
            <a:xfrm flipV="1">
              <a:off x="1083960" y="5009760"/>
              <a:ext cx="866880" cy="32868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/>
            <p:nvPr/>
          </p:nvCxnSpPr>
          <p:spPr>
            <a:xfrm flipV="1">
              <a:off x="690120" y="5107680"/>
              <a:ext cx="1122840" cy="1104120"/>
            </a:xfrm>
            <a:prstGeom prst="curvedConnector5">
              <a:avLst>
                <a:gd name="adj1" fmla="val 49903"/>
                <a:gd name="adj2" fmla="val 50000"/>
                <a:gd name="adj3" fmla="val 49903"/>
              </a:avLst>
            </a:prstGeom>
            <a:ln w="28440">
              <a:solidFill>
                <a:srgbClr val="0000ff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Done on a System by External For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defined system,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external fo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forces that ar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t defin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in the system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yet perform work up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forces transfer energy into or out of a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serv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ternal forces alter the U and 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.k.a. the mechanical energ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nconserv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ternal forces may alter the mechanical energ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, K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well as the non-mechanical energ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inte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thermal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006640" y="2936880"/>
          <a:ext cx="5240160" cy="9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6640" y="2936880"/>
                    <a:ext cx="524016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971720" y="4614840"/>
          <a:ext cx="421632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1720" y="4614840"/>
                    <a:ext cx="4216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149480" y="6380280"/>
          <a:ext cx="6805440" cy="49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6380280"/>
                    <a:ext cx="680544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servation of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, the total energy associated with a system of objects represents the complete state of the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represents the transfer of energy into/out of a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 isolated system, the total energy within a system remains a constant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, for any 2 mo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965240" y="2457360"/>
          <a:ext cx="4824360" cy="4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5240" y="2457360"/>
                    <a:ext cx="48243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308240" y="3882960"/>
          <a:ext cx="6619680" cy="47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8240" y="3882960"/>
                    <a:ext cx="66196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454040" y="5365800"/>
          <a:ext cx="5977080" cy="43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54040" y="5365800"/>
                    <a:ext cx="59770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06440" y="6303960"/>
          <a:ext cx="8277120" cy="423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440" y="6303960"/>
                    <a:ext cx="82771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09-24T01:52:20Z</dcterms:modified>
  <cp:revision>72</cp:revision>
  <dc:subject/>
  <dc:title>Phy 211: General Physics I</dc:title>
</cp:coreProperties>
</file>