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42.jpeg" ContentType="image/jpeg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1E6-48AE-4AC7-8947-8F6011FB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417-0CB8-4884-8B60-CC58C96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475-95EE-422F-B8C5-92DB9D1E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0BD-9C77-4BE9-B4D1-43D579A8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232-112B-49BB-B158-6D089981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11D-275D-44BB-ABA6-A6E3989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8C6-F679-489F-9BEB-A49D5310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8E6-56CE-414F-965C-331E5DC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220-B34E-4CAA-A334-DB286C1C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CE1-16F6-4C83-8506-8FA85BB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4D8-44A7-4589-8278-9C194DF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223-46EE-4CDB-8658-B75AD20C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4A0-065B-4FAC-8F11-7B1D165B2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Kinetic Energy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61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5" name=""/>
          <p:cNvGraphicFramePr/>
          <p:nvPr/>
        </p:nvGraphicFramePr>
        <p:xfrm>
          <a:off x="1168560" y="2039760"/>
          <a:ext cx="2226960" cy="12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8560" y="2039760"/>
                    <a:ext cx="22269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3840" y="3795840"/>
          <a:ext cx="3902040" cy="81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3795840"/>
                    <a:ext cx="39020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5280" y="5159520"/>
          <a:ext cx="4006800" cy="1285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159520"/>
                    <a:ext cx="40068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000" y="1036440"/>
            <a:ext cx="538488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astic (or “restoring”) force associated with the compression (or stretching of a simple spring increases linearly with the amount of deformation (this i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oke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ssumptions are m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is ideal &amp; mass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obeys Hook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2240" y="4821120"/>
          <a:ext cx="75816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4821120"/>
                    <a:ext cx="75816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rcRect l="0" t="0" r="0" b="24025"/>
          <a:stretch/>
        </p:blipFill>
        <p:spPr>
          <a:xfrm>
            <a:off x="5495760" y="965160"/>
            <a:ext cx="35942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320" y="1011240"/>
            <a:ext cx="5638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pring (k=10 N/m) attached to a wall at one end and a mass (1 kg) at the other.  The block is free to slide on a frictionless surface.  The block/spring system is compressed 0.5 m th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performed by the spring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360" y="4483080"/>
          <a:ext cx="65246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483080"/>
                    <a:ext cx="65246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5700600" y="927000"/>
            <a:ext cx="3218040" cy="3810240"/>
            <a:chOff x="5700600" y="927000"/>
            <a:chExt cx="3218040" cy="381024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5702040" y="2189160"/>
              <a:ext cx="2030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5702040" y="1108080"/>
              <a:ext cx="19702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5700600" y="3305160"/>
              <a:ext cx="24256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16800" y="162576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151480" y="38606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7694640" y="1046160"/>
            <a:ext cx="709560" cy="496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4640" y="1046160"/>
                      <a:ext cx="70956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8229600" y="3952800"/>
            <a:ext cx="68904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3952800"/>
                      <a:ext cx="689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6678360" y="12826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06960" y="24130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50040" y="351792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2840" y="927000"/>
              <a:ext cx="0" cy="38102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16520" y="46609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7320" y="4873680"/>
            <a:ext cx="8215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944800" y="3149640"/>
          <a:ext cx="21956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4800" y="3149640"/>
                    <a:ext cx="2195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324400" y="942840"/>
            <a:ext cx="3591000" cy="27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430360" y="2276640"/>
          <a:ext cx="22417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0360" y="2276640"/>
                    <a:ext cx="2241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832120" y="5767560"/>
          <a:ext cx="3556080" cy="8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32120" y="5767560"/>
                    <a:ext cx="35560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855880" y="4060800"/>
          <a:ext cx="3576600" cy="83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55880" y="4060800"/>
                    <a:ext cx="3576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65320" y="2668680"/>
          <a:ext cx="22957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668680"/>
                    <a:ext cx="2295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912000" y="2649600"/>
          <a:ext cx="216072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2000" y="2649600"/>
                    <a:ext cx="21607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20840" y="5850000"/>
          <a:ext cx="762300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840" y="5850000"/>
                    <a:ext cx="7623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quantity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 of Energy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7880" y="5300640"/>
            <a:ext cx="838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nergy is never created nor destroyed, it is merely transformed from 1 form to another.  Therefore, the total energy of a “closed” system remains constant unless affected upon by a force external 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view: The Scalar (Dot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aring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mportant Application: We will use the scalar product of the vectors of force and displacement to calculate work performed by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537240" y="1820880"/>
          <a:ext cx="22352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820880"/>
                    <a:ext cx="22352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343240" y="990720"/>
          <a:ext cx="15714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990720"/>
                    <a:ext cx="15714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30720" y="314784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0720" y="314784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90800" y="3983040"/>
          <a:ext cx="15051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0800" y="3983040"/>
                    <a:ext cx="1505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03640" y="433872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433872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89200" y="46926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9200" y="46926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14760" y="2655720"/>
          <a:ext cx="49672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655720"/>
                    <a:ext cx="49672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12960" y="1857240"/>
          <a:ext cx="437832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2960" y="1857240"/>
                    <a:ext cx="4378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736720" y="3421080"/>
          <a:ext cx="230040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3421080"/>
                    <a:ext cx="2300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187800" y="6138720"/>
          <a:ext cx="190476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87800" y="6138720"/>
                    <a:ext cx="19047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ergy transferred to/from an object by the exertion of a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essentially a measure of useful physical output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equival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97280" y="3203640"/>
          <a:ext cx="47289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03640"/>
                    <a:ext cx="47289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906640" y="3637080"/>
          <a:ext cx="222084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3637080"/>
                    <a:ext cx="22208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549440" y="2193840"/>
            <a:ext cx="5194080" cy="714240"/>
            <a:chOff x="1549440" y="2193840"/>
            <a:chExt cx="5194080" cy="714240"/>
          </a:xfrm>
        </p:grpSpPr>
        <p:sp>
          <p:nvSpPr>
            <p:cNvPr id="82" name=""/>
            <p:cNvSpPr/>
            <p:nvPr/>
          </p:nvSpPr>
          <p:spPr>
            <a:xfrm>
              <a:off x="2802600" y="2256480"/>
              <a:ext cx="1289520" cy="6314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549440" y="2506680"/>
              <a:ext cx="118080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28480" y="2547360"/>
              <a:ext cx="2615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1838520" y="2255040"/>
            <a:ext cx="349200" cy="3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8520" y="2255040"/>
                      <a:ext cx="34920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4875840" y="2193840"/>
            <a:ext cx="50580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5840" y="2193840"/>
                      <a:ext cx="5058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5442120" y="2276280"/>
              <a:ext cx="1289520" cy="6318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33840" y="4367160"/>
            <a:ext cx="2755800" cy="1022040"/>
            <a:chOff x="4533840" y="4367160"/>
            <a:chExt cx="2755800" cy="1022040"/>
          </a:xfrm>
        </p:grpSpPr>
        <p:sp>
          <p:nvSpPr>
            <p:cNvPr id="91" name=""/>
            <p:cNvSpPr/>
            <p:nvPr/>
          </p:nvSpPr>
          <p:spPr>
            <a:xfrm flipV="1">
              <a:off x="4559040" y="4635360"/>
              <a:ext cx="1244880" cy="355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3840" y="500364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787640" y="4367160"/>
            <a:ext cx="368280" cy="46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7640" y="4367160"/>
                      <a:ext cx="36828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5689440" y="4975200"/>
            <a:ext cx="533520" cy="414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89440" y="4975200"/>
                      <a:ext cx="5335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4991040" y="49273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477504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3130560" y="58388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58388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5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eneral definition of Work, for a varying (as well as constant)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work is the “area” beneath the Force vs. Displacemen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16400" y="1546200"/>
          <a:ext cx="2811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1546200"/>
                    <a:ext cx="2811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663480" y="3330720"/>
            <a:ext cx="2463840" cy="1949400"/>
            <a:chOff x="663480" y="3330720"/>
            <a:chExt cx="2463840" cy="1949400"/>
          </a:xfrm>
        </p:grpSpPr>
        <p:sp>
          <p:nvSpPr>
            <p:cNvPr id="106" name=""/>
            <p:cNvSpPr/>
            <p:nvPr/>
          </p:nvSpPr>
          <p:spPr>
            <a:xfrm flipV="1">
              <a:off x="1549440" y="342432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6200" y="498636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20800" y="4129200"/>
              <a:ext cx="960480" cy="83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5200" y="4122720"/>
              <a:ext cx="94464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3480" y="3330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54280" y="4911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434016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95880" y="3305160"/>
            <a:ext cx="2458440" cy="1930320"/>
            <a:chOff x="4295880" y="3305160"/>
            <a:chExt cx="2458440" cy="1930320"/>
          </a:xfrm>
        </p:grpSpPr>
        <p:sp>
          <p:nvSpPr>
            <p:cNvPr id="114" name=""/>
            <p:cNvSpPr/>
            <p:nvPr/>
          </p:nvSpPr>
          <p:spPr>
            <a:xfrm>
              <a:off x="6276960" y="4867200"/>
              <a:ext cx="4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176800" y="339588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73560" y="495792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7000" y="4075200"/>
              <a:ext cx="852120" cy="868320"/>
            </a:xfrm>
            <a:prstGeom prst="flowChartDocumen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3760" y="4079880"/>
              <a:ext cx="850680" cy="142920"/>
            </a:xfrm>
            <a:custGeom>
              <a:avLst/>
              <a:gdLst/>
              <a:ahLst/>
              <a:rect l="l" t="t" r="r" b="b"/>
              <a:pathLst>
                <a:path w="536" h="90">
                  <a:moveTo>
                    <a:pt x="0" y="28"/>
                  </a:moveTo>
                  <a:cubicBezTo>
                    <a:pt x="32" y="18"/>
                    <a:pt x="65" y="8"/>
                    <a:pt x="96" y="4"/>
                  </a:cubicBezTo>
                  <a:cubicBezTo>
                    <a:pt x="127" y="0"/>
                    <a:pt x="159" y="0"/>
                    <a:pt x="186" y="4"/>
                  </a:cubicBezTo>
                  <a:cubicBezTo>
                    <a:pt x="213" y="8"/>
                    <a:pt x="238" y="20"/>
                    <a:pt x="258" y="28"/>
                  </a:cubicBezTo>
                  <a:cubicBezTo>
                    <a:pt x="278" y="36"/>
                    <a:pt x="289" y="44"/>
                    <a:pt x="306" y="52"/>
                  </a:cubicBezTo>
                  <a:cubicBezTo>
                    <a:pt x="323" y="60"/>
                    <a:pt x="339" y="70"/>
                    <a:pt x="360" y="76"/>
                  </a:cubicBezTo>
                  <a:cubicBezTo>
                    <a:pt x="381" y="82"/>
                    <a:pt x="411" y="86"/>
                    <a:pt x="432" y="88"/>
                  </a:cubicBezTo>
                  <a:cubicBezTo>
                    <a:pt x="453" y="90"/>
                    <a:pt x="469" y="88"/>
                    <a:pt x="486" y="88"/>
                  </a:cubicBezTo>
                  <a:cubicBezTo>
                    <a:pt x="503" y="88"/>
                    <a:pt x="536" y="89"/>
                    <a:pt x="534" y="88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330516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91000" y="43340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836720" y="5319720"/>
          <a:ext cx="48355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5319720"/>
                    <a:ext cx="4835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      , a change in state of motion &amp; kinetic energy is impl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2720" y="2004840"/>
          <a:ext cx="132732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004840"/>
                    <a:ext cx="1327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987640" y="1436760"/>
          <a:ext cx="44449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436760"/>
                    <a:ext cx="4444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6360" y="3359160"/>
          <a:ext cx="7581960" cy="32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359160"/>
                    <a:ext cx="75819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982960" y="2757600"/>
          <a:ext cx="53593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2960" y="2757600"/>
                    <a:ext cx="5359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435640" y="601992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7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5" name=""/>
          <p:cNvGraphicFramePr/>
          <p:nvPr/>
        </p:nvGraphicFramePr>
        <p:xfrm>
          <a:off x="182520" y="1530360"/>
          <a:ext cx="518148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1530360"/>
                    <a:ext cx="51814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8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1-06T17:46:24Z</dcterms:modified>
  <cp:revision>84</cp:revision>
  <dc:subject/>
  <dc:title>Phy 211: General Physics I</dc:title>
</cp:coreProperties>
</file>