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2ED-C729-4038-AEDB-2D01E70E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F9A-1D38-442E-89BD-5BC49140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6F0-FE65-44A2-8DCF-475D8FEF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540-067E-4C35-B49B-73EFCE62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DF0-BEBE-4975-9DD8-CF301BE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6AC-D443-4757-9D75-0D79D0B1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1B5-519E-4D6B-9F1B-5385B45D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9AD-D661-45E7-9896-93324161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8EF-D6C4-435D-87C4-B427B852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86D-789B-43F3-938D-6A34E0A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336-FD6F-42C9-8E12-8ED760D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185-A1A5-4DF4-BD34-819A1D99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51B2-9779-4393-A04B-AB4763F9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Force &amp; Mot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nsion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080" y="1166760"/>
            <a:ext cx="7151760" cy="48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pplied through a rope or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rope or cable is massl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gligible compared to the bodies it is attached t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can be treated as a connection between 2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ss means no force needed to accelerate 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of pull transfers unchanged along the 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force at one end is the same as the Reaction force at the othe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tached to a pulley the tension force can be used to change the direction of force acting on a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a tension force is usually an intermediate step to connecting the free-body diagrams between 2 attach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2171880" cy="2781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95960" y="3805200"/>
            <a:ext cx="1754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nsion Applic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81240"/>
            <a:ext cx="480060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ulley (flat surfac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wood Mach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921280" y="1155600"/>
            <a:ext cx="2710080" cy="1739880"/>
            <a:chOff x="5921280" y="1155600"/>
            <a:chExt cx="2710080" cy="1739880"/>
          </a:xfrm>
        </p:grpSpPr>
        <p:sp>
          <p:nvSpPr>
            <p:cNvPr id="119" name=""/>
            <p:cNvSpPr/>
            <p:nvPr/>
          </p:nvSpPr>
          <p:spPr>
            <a:xfrm>
              <a:off x="6259680" y="1339560"/>
              <a:ext cx="261720" cy="263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57880" y="148896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2240" y="1338120"/>
              <a:ext cx="104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21280" y="2541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1640" y="1155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702480" y="1511280"/>
              <a:ext cx="19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2480" y="151128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173400" y="2667960"/>
            <a:ext cx="2908440" cy="2207160"/>
            <a:chOff x="3173400" y="2667960"/>
            <a:chExt cx="2908440" cy="2207160"/>
          </a:xfrm>
        </p:grpSpPr>
        <p:sp>
          <p:nvSpPr>
            <p:cNvPr id="127" name=""/>
            <p:cNvSpPr/>
            <p:nvPr/>
          </p:nvSpPr>
          <p:spPr>
            <a:xfrm>
              <a:off x="4056120" y="3162240"/>
              <a:ext cx="0" cy="98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0000">
              <a:off x="3598560" y="2728800"/>
              <a:ext cx="322200" cy="339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3320" y="2982960"/>
              <a:ext cx="15840" cy="14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63880" y="2773080"/>
              <a:ext cx="1063800" cy="71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73400" y="4416480"/>
              <a:ext cx="838080" cy="45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40000">
              <a:off x="4857480" y="3499920"/>
              <a:ext cx="838080" cy="459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043520" y="3173400"/>
              <a:ext cx="195552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3720" y="4174920"/>
              <a:ext cx="70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95800" y="453528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762600" y="4710240"/>
            <a:ext cx="1239840" cy="1912320"/>
            <a:chOff x="6762600" y="4710240"/>
            <a:chExt cx="1239840" cy="1912320"/>
          </a:xfrm>
        </p:grpSpPr>
        <p:sp>
          <p:nvSpPr>
            <p:cNvPr id="137" name=""/>
            <p:cNvSpPr/>
            <p:nvPr/>
          </p:nvSpPr>
          <p:spPr>
            <a:xfrm>
              <a:off x="7067520" y="4710240"/>
              <a:ext cx="627120" cy="58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66080" y="499248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62600" y="6045120"/>
              <a:ext cx="446400" cy="35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5040" y="6040440"/>
              <a:ext cx="617400" cy="58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94640" y="4983120"/>
              <a:ext cx="0" cy="10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3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468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hen an object exerts a force on a second object, the second object exerts an equal but oppositely directed force on the firs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s always occur in action-reaction pairs (never by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force in an action-reaction pair acts 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orta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identifies th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by interactions between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l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the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ccel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each object under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90920" y="2332080"/>
          <a:ext cx="7794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0920" y="2332080"/>
                    <a:ext cx="779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643040" y="2106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92440" y="2309760"/>
            <a:ext cx="8683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133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276800" y="2305080"/>
            <a:ext cx="8683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79640" y="2351160"/>
          <a:ext cx="7304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2351160"/>
                    <a:ext cx="730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276200" y="3046320"/>
          <a:ext cx="190512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6200" y="3046320"/>
                    <a:ext cx="19051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r Isaac Newton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1642-1727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685200" cy="56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scientific mind of the lat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the “calculus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ependently but simultaneously with Gottfried Wilhelm Leibni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his accomplishments 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cle Theory Light &amp; O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eory of Heat &amp; 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3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the Law of Universal Gravitation (to settle a parlor b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t was actually between Edward Haley &amp; Robert Hoo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heory successfully explained planetary motion and elliptical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46760" y="1158840"/>
            <a:ext cx="2057400" cy="261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72320" y="3911760"/>
            <a:ext cx="204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f I have seen further it is by standing on the shoulders of giant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1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bject continues in its state of rest, or of motion unless compelled to change that state by forces impressed up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the “Law of Inert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moving in uniform motion it has no net force acting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o force acting on an object, it will stay at rest or maintain its constant speed in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imply p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e is laz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17720" y="4826160"/>
          <a:ext cx="560700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7720" y="4826160"/>
                    <a:ext cx="5607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0596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t force is exerted on an object its velocity wil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change of motion (acceleration) is rel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to the size of the net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ly proportional to the mass of the object (i.e. its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     will always correspond to the dir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90720" y="4124160"/>
          <a:ext cx="3300120" cy="7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24160"/>
                    <a:ext cx="330012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100480" y="4262400"/>
          <a:ext cx="33181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0480" y="4262400"/>
                    <a:ext cx="3318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152800" y="1498680"/>
          <a:ext cx="4082760" cy="84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2800" y="1498680"/>
                    <a:ext cx="40827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056040" y="4861080"/>
          <a:ext cx="26172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6040" y="4861080"/>
                    <a:ext cx="261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276200" y="5183280"/>
          <a:ext cx="50004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76200" y="5183280"/>
                    <a:ext cx="500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-Body Diagra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2504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body diagrams a simplified drawing of the forces acting on it specified, essentially force vecto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are drawn a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Body diagrams facilitate the application of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96880" y="3825720"/>
            <a:ext cx="2044800" cy="2489040"/>
            <a:chOff x="596880" y="3825720"/>
            <a:chExt cx="2044800" cy="2489040"/>
          </a:xfrm>
        </p:grpSpPr>
        <p:sp>
          <p:nvSpPr>
            <p:cNvPr id="68" name=""/>
            <p:cNvSpPr/>
            <p:nvPr/>
          </p:nvSpPr>
          <p:spPr>
            <a:xfrm>
              <a:off x="871560" y="43351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28840" y="56322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1508400" y="5663880"/>
            <a:ext cx="438120" cy="4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8400" y="5663880"/>
                      <a:ext cx="43812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596880" y="382572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in “Free Fall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814480" y="3179880"/>
            <a:ext cx="2649600" cy="3273480"/>
            <a:chOff x="2814480" y="3179880"/>
            <a:chExt cx="2649600" cy="3273480"/>
          </a:xfrm>
        </p:grpSpPr>
        <p:sp>
          <p:nvSpPr>
            <p:cNvPr id="74" name=""/>
            <p:cNvSpPr/>
            <p:nvPr/>
          </p:nvSpPr>
          <p:spPr>
            <a:xfrm>
              <a:off x="3340080" y="44737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7360" y="5770440"/>
              <a:ext cx="0" cy="682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3976560" y="5802480"/>
            <a:ext cx="438120" cy="46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76560" y="5802480"/>
                      <a:ext cx="4381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4033800" y="3801960"/>
            <a:ext cx="733320" cy="58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3800" y="3801960"/>
                      <a:ext cx="73332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3925800" y="37213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14480" y="317988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977080" y="3176640"/>
            <a:ext cx="2690280" cy="3463920"/>
            <a:chOff x="5977080" y="3176640"/>
            <a:chExt cx="2690280" cy="3463920"/>
          </a:xfrm>
        </p:grpSpPr>
        <p:sp>
          <p:nvSpPr>
            <p:cNvPr id="83" name=""/>
            <p:cNvSpPr/>
            <p:nvPr/>
          </p:nvSpPr>
          <p:spPr>
            <a:xfrm>
              <a:off x="6502320" y="4660920"/>
              <a:ext cx="114588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59600" y="59580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7138800" y="5989680"/>
            <a:ext cx="43776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38800" y="5989680"/>
                      <a:ext cx="4377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7196040" y="3989520"/>
            <a:ext cx="732960" cy="587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96040" y="3989520"/>
                      <a:ext cx="73296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7088040" y="39085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77080" y="3176640"/>
              <a:ext cx="26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getting slapped while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21280" y="5068800"/>
              <a:ext cx="387000" cy="1555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7992720" y="4692600"/>
            <a:ext cx="67464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92720" y="4692600"/>
                      <a:ext cx="67464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Non-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ravit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i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766800"/>
            <a:ext cx="853416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world, forces can be categorized as one of 2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 is exerted over a distance of space with out direct conta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.k.a. “action-at-a-distance” fo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is exerted due to direct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Note: at the microscopic level, ALL forces are non-cont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w still applies to the forces pres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ore on this late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Examples of each type of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993600"/>
            <a:ext cx="570564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weight” of an object is the gravitational force exerted on it by the gravitational attraction between the object and its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urface of the Earth, the gravitational force is referred to as we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54680" y="1806480"/>
            <a:ext cx="3268800" cy="309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120760" y="1693800"/>
          <a:ext cx="222588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0760" y="1693800"/>
                    <a:ext cx="22258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131920" y="2770200"/>
          <a:ext cx="2835360" cy="57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1920" y="2770200"/>
                    <a:ext cx="28353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96920" y="5146560"/>
            <a:ext cx="85424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orm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support” force between 2 surfaces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is always perpendi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norm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plane of the area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rce of floor that supports your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tanding on a scale on the floor of an elevator.  The reading of the scale is equal to the normal force it exerts on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free body diagrams for the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up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down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Norm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470480" cy="368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7939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18T16:57:28Z</dcterms:modified>
  <cp:revision>42</cp:revision>
  <dc:subject/>
  <dc:title>Phy 211: General Physics I</dc:title>
</cp:coreProperties>
</file>