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B68-CBC7-45CC-B8F5-550D0920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EA5-485A-426E-9268-D611FB66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BC2-9479-46BE-B1F8-B7B897F3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A07C-9000-4981-878A-97810EEE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784-EA49-43C6-9535-DF463141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96E-AE10-48FD-B66C-76A56782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387-7C9C-4872-AE96-D4298AF2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47B-87FA-4913-9A42-29C9ED41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63600"/>
            <a:ext cx="82296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B88-D887-4206-9D78-E1AF380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4A3-4188-47E7-BA60-16F72B27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37FB-C336-4214-825E-8CBEC85E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A60-9603-4C91-A753-C01CD99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5B8C-73FC-4EA0-ADE9-261C65C8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Motion in 2 &amp; 3 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2-Dimensional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120" y="13712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tion that is not along a straight line is a two- or three-dimensional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, displacement, velocity and acceleration vectors are not necessarily along the same directions; the rules for vector addition and subtraction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velocity vector (       ) is always tangent to the trajecto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velocity  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acceleration vector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slope of the velocity at each instant in ti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acceleration (        ) is always in the dire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09080" y="2997360"/>
            <a:ext cx="973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222960" y="1765440"/>
            <a:ext cx="2648880" cy="2539080"/>
            <a:chOff x="6222960" y="1765440"/>
            <a:chExt cx="2648880" cy="2539080"/>
          </a:xfrm>
        </p:grpSpPr>
        <p:sp>
          <p:nvSpPr>
            <p:cNvPr id="49" name=""/>
            <p:cNvSpPr/>
            <p:nvPr/>
          </p:nvSpPr>
          <p:spPr>
            <a:xfrm>
              <a:off x="6222960" y="3887640"/>
              <a:ext cx="250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6222960" y="1944000"/>
              <a:ext cx="0" cy="23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10480" y="2361600"/>
              <a:ext cx="1474200" cy="1113120"/>
            </a:xfrm>
            <a:custGeom>
              <a:avLst/>
              <a:gdLst/>
              <a:ahLst/>
              <a:rect l="l" t="t" r="r" b="b"/>
              <a:pathLst>
                <a:path w="657" h="547">
                  <a:moveTo>
                    <a:pt x="0" y="0"/>
                  </a:moveTo>
                  <a:lnTo>
                    <a:pt x="58" y="4"/>
                  </a:lnTo>
                  <a:lnTo>
                    <a:pt x="114" y="9"/>
                  </a:lnTo>
                  <a:lnTo>
                    <a:pt x="169" y="15"/>
                  </a:lnTo>
                  <a:lnTo>
                    <a:pt x="222" y="21"/>
                  </a:lnTo>
                  <a:lnTo>
                    <a:pt x="271" y="30"/>
                  </a:lnTo>
                  <a:lnTo>
                    <a:pt x="294" y="35"/>
                  </a:lnTo>
                  <a:lnTo>
                    <a:pt x="317" y="40"/>
                  </a:lnTo>
                  <a:lnTo>
                    <a:pt x="338" y="46"/>
                  </a:lnTo>
                  <a:lnTo>
                    <a:pt x="358" y="53"/>
                  </a:lnTo>
                  <a:lnTo>
                    <a:pt x="377" y="60"/>
                  </a:lnTo>
                  <a:lnTo>
                    <a:pt x="394" y="68"/>
                  </a:lnTo>
                  <a:lnTo>
                    <a:pt x="410" y="77"/>
                  </a:lnTo>
                  <a:lnTo>
                    <a:pt x="424" y="87"/>
                  </a:lnTo>
                  <a:lnTo>
                    <a:pt x="435" y="97"/>
                  </a:lnTo>
                  <a:lnTo>
                    <a:pt x="446" y="109"/>
                  </a:lnTo>
                  <a:lnTo>
                    <a:pt x="454" y="120"/>
                  </a:lnTo>
                  <a:lnTo>
                    <a:pt x="463" y="132"/>
                  </a:lnTo>
                  <a:lnTo>
                    <a:pt x="476" y="158"/>
                  </a:lnTo>
                  <a:lnTo>
                    <a:pt x="488" y="186"/>
                  </a:lnTo>
                  <a:lnTo>
                    <a:pt x="498" y="214"/>
                  </a:lnTo>
                  <a:lnTo>
                    <a:pt x="510" y="243"/>
                  </a:lnTo>
                  <a:lnTo>
                    <a:pt x="525" y="273"/>
                  </a:lnTo>
                  <a:lnTo>
                    <a:pt x="533" y="289"/>
                  </a:lnTo>
                  <a:lnTo>
                    <a:pt x="541" y="306"/>
                  </a:lnTo>
                  <a:lnTo>
                    <a:pt x="551" y="325"/>
                  </a:lnTo>
                  <a:lnTo>
                    <a:pt x="559" y="345"/>
                  </a:lnTo>
                  <a:lnTo>
                    <a:pt x="577" y="385"/>
                  </a:lnTo>
                  <a:lnTo>
                    <a:pt x="595" y="427"/>
                  </a:lnTo>
                  <a:lnTo>
                    <a:pt x="603" y="446"/>
                  </a:lnTo>
                  <a:lnTo>
                    <a:pt x="612" y="466"/>
                  </a:lnTo>
                  <a:lnTo>
                    <a:pt x="620" y="484"/>
                  </a:lnTo>
                  <a:lnTo>
                    <a:pt x="628" y="501"/>
                  </a:lnTo>
                  <a:lnTo>
                    <a:pt x="636" y="515"/>
                  </a:lnTo>
                  <a:lnTo>
                    <a:pt x="642" y="528"/>
                  </a:lnTo>
                  <a:lnTo>
                    <a:pt x="650" y="538"/>
                  </a:lnTo>
                  <a:lnTo>
                    <a:pt x="656" y="54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222960" y="2361240"/>
              <a:ext cx="587520" cy="15260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249600" y="3425400"/>
              <a:ext cx="1911240" cy="4150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10480" y="2361600"/>
              <a:ext cx="1471680" cy="1111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46320" y="2361600"/>
              <a:ext cx="589320" cy="416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45880" y="1765440"/>
              <a:ext cx="19130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(t</a:t>
              </a:r>
              <a:r>
                <a:rPr b="0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63560" y="2042280"/>
              <a:ext cx="908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4444920" y="3236760"/>
          <a:ext cx="58104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4920" y="3236760"/>
                    <a:ext cx="5810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03360" y="3718080"/>
          <a:ext cx="5220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360" y="3718080"/>
                    <a:ext cx="52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375080" y="3730680"/>
          <a:ext cx="52380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75080" y="3730680"/>
                    <a:ext cx="523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959360" y="4187880"/>
          <a:ext cx="520560" cy="35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9360" y="4187880"/>
                    <a:ext cx="5205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499000" y="4670280"/>
          <a:ext cx="495360" cy="4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99000" y="4670280"/>
                    <a:ext cx="49536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645000" y="4916520"/>
          <a:ext cx="419040" cy="325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45000" y="4916520"/>
                    <a:ext cx="419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xample of 2-D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40240" cy="4673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608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Displacement, Velocity &amp; Accelerat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08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nsidering motion problems in 2-D, the definitions for the motion vectors described in Chapter 2 still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useful to break problems into two 1-D problems, u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c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asic trigonometry relations to obtain vertical &amp; horizontal components for al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8800" y="3398760"/>
          <a:ext cx="23176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98760"/>
                    <a:ext cx="2317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362320" y="4241880"/>
          <a:ext cx="2361960" cy="6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241880"/>
                    <a:ext cx="236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19280" y="2695680"/>
          <a:ext cx="335304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9280" y="2695680"/>
                    <a:ext cx="33530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814320"/>
            <a:ext cx="845820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t replac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n the abo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Vector 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s of Kinematics in 2-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3480"/>
            <a:ext cx="3809880" cy="26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rizo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203120"/>
            <a:ext cx="3809880" cy="25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619440" y="4552920"/>
          <a:ext cx="476244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9440" y="4552920"/>
                    <a:ext cx="476244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4902120" cy="2390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521240" cy="311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311720" y="1249200"/>
            <a:ext cx="466416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lassic 2-D motion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motion is treated the same as free-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9.8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ownwar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motion is independent of vertical motion but connected by time but no acceleration vector in horizontal di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ith Free Fall Motion, air resistance is neg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 (cont.)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121440" cy="2379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612144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Uniform Circular Mo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52600" y="1308240"/>
            <a:ext cx="83008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ravels in a circular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 of motion (r)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(v) is 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changes as object continually change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hanging (v is not but direction is), the object must be accel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acceleration vector is always toward the center of the circular motion is referred to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ripetal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centripetal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48280" y="3540240"/>
          <a:ext cx="302256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8280" y="3540240"/>
                    <a:ext cx="30225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"/>
          <p:cNvGrpSpPr/>
          <p:nvPr/>
        </p:nvGrpSpPr>
        <p:grpSpPr>
          <a:xfrm>
            <a:off x="6481800" y="733320"/>
            <a:ext cx="2743200" cy="1905120"/>
            <a:chOff x="6481800" y="733320"/>
            <a:chExt cx="2743200" cy="1905120"/>
          </a:xfrm>
        </p:grpSpPr>
        <p:sp>
          <p:nvSpPr>
            <p:cNvPr id="99" name=""/>
            <p:cNvSpPr/>
            <p:nvPr/>
          </p:nvSpPr>
          <p:spPr>
            <a:xfrm>
              <a:off x="6488280" y="739800"/>
              <a:ext cx="1892160" cy="18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40760" y="1577880"/>
              <a:ext cx="292320" cy="2919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386920" y="111420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39200" y="11905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862680" y="733320"/>
              <a:ext cx="5331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472520" y="2638440"/>
              <a:ext cx="5335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481800" y="172404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472160" y="1114200"/>
              <a:ext cx="685800" cy="6098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8840" y="103824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6951600" y="5322960"/>
          <a:ext cx="146700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0" y="5322960"/>
                    <a:ext cx="1467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rivation of Centrifugal Acceler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4900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object in uniform circular motion, 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 = constant {radius of travel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 = constant {speed of objec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centripetal acceleration (              ) can be obtained by applying the Pythagorean theor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s of the velocity vector continuous change as the objects travels around the circle and are related to the angl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89360" y="2503440"/>
          <a:ext cx="1485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2503440"/>
                    <a:ext cx="1485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5649840" y="4221000"/>
            <a:ext cx="3462120" cy="2442960"/>
            <a:chOff x="5649840" y="4221000"/>
            <a:chExt cx="3462120" cy="2442960"/>
          </a:xfrm>
        </p:grpSpPr>
        <p:sp>
          <p:nvSpPr>
            <p:cNvPr id="115" name=""/>
            <p:cNvSpPr/>
            <p:nvPr/>
          </p:nvSpPr>
          <p:spPr>
            <a:xfrm>
              <a:off x="8389080" y="5671800"/>
              <a:ext cx="72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49840" y="4847040"/>
              <a:ext cx="1994760" cy="1816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78120" y="5066640"/>
              <a:ext cx="307440" cy="28044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7058520" y="4797000"/>
              <a:ext cx="272520" cy="2815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04760" y="4645800"/>
              <a:ext cx="72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6687360" y="5207040"/>
              <a:ext cx="722880" cy="5850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7640" y="5133600"/>
              <a:ext cx="72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680880" y="4339800"/>
              <a:ext cx="12960" cy="144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80880" y="5781240"/>
              <a:ext cx="2084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320" y="4221000"/>
              <a:ext cx="72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69800" y="5649120"/>
              <a:ext cx="186480" cy="16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79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79236"/>
                </a:path>
              </a:pathLst>
            </a:cu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21720" y="5478120"/>
              <a:ext cx="720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662160" y="5776560"/>
              <a:ext cx="729720" cy="61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398360" y="5216040"/>
              <a:ext cx="0" cy="56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03000" y="5682600"/>
              <a:ext cx="520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6600" y="5353200"/>
              <a:ext cx="52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5479920" y="1700280"/>
          <a:ext cx="94788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9920" y="1700280"/>
                    <a:ext cx="9478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2920" y="3656160"/>
          <a:ext cx="6046560" cy="29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920" y="3656160"/>
                    <a:ext cx="6046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11T16:23:10Z</dcterms:modified>
  <cp:revision>35</cp:revision>
  <dc:subject/>
  <dc:title>Phy 211: General Physics I</dc:title>
</cp:coreProperties>
</file>