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6AA6A3-5A52-4CA1-A550-6D215842F5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ABB853-DFFB-4FE5-8523-802CAEB658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260360" y="722160"/>
            <a:ext cx="4795920" cy="359748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402629-4FA9-4507-BA87-D24EC3C416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60360" y="722160"/>
            <a:ext cx="4795920" cy="359748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2415DB-E54A-4C94-BFA3-C81D06DE17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60360" y="722160"/>
            <a:ext cx="4795920" cy="359748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D7F58F-B00E-4EDA-97DF-8A259116B2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260360" y="722160"/>
            <a:ext cx="4795920" cy="359748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D0E3EC-071F-4DFE-928F-CE5DD07D37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260360" y="722160"/>
            <a:ext cx="4795920" cy="359748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E8334C-9751-406C-8A4A-B3007F61BB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260360" y="722160"/>
            <a:ext cx="4795920" cy="359748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5635AC-DFF7-44EE-9E5C-73899D562D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260360" y="722160"/>
            <a:ext cx="4795920" cy="359748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B4BA7-EE87-45FC-85A5-C78C66A67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380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8394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52280" y="3639600"/>
            <a:ext cx="88394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4FE71-E1CD-4263-9859-F6608C322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380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52280" y="36396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81800" y="36396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5B672-5FD0-4CC7-B0DC-A887DD289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80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41000" y="10368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30080" y="10368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52280" y="36396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41000" y="36396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30080" y="36396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B3DA4-4C78-4238-A5D6-1A7291FE9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3613B-F804-4F9A-9BCF-3C7CF124B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15BD1-7616-478F-91AD-B39A3474A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380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723CE-B778-462A-A474-3D66A010F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4FF3B-BEE0-4C20-9FF1-9EA68A6BA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8F01E-BC34-4331-97AC-F326857FC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80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52280" y="36396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98C5F-F04C-422D-BE1A-01813A8E2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380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81800" y="36396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3A717-E85C-4F7C-8B76-6D8D8B302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380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52280" y="3639600"/>
            <a:ext cx="88394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33F56-3576-4942-9053-917756822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45CE6-95BE-4F01-9264-B202F1B65F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104840" cy="36180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1114560" y="0"/>
            <a:ext cx="8029440" cy="36360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8.wmf"/><Relationship Id="rId11" Type="http://schemas.openxmlformats.org/officeDocument/2006/relationships/slideLayout" Target="../slideLayouts/slideLayout3.xml"/><Relationship Id="rId1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3.wmf"/><Relationship Id="rId13" Type="http://schemas.openxmlformats.org/officeDocument/2006/relationships/slideLayout" Target="../slideLayouts/slideLayout3.xml"/><Relationship Id="rId1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8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9.wmf"/><Relationship Id="rId13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1.wmf"/><Relationship Id="rId7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scienceworld.wolfram.com/biography/photo-credits.html" TargetMode="External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Phy 211: General Physics I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837720" y="3886200"/>
            <a:ext cx="7543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pter 3: Ve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cture No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Physics Humor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do you get when you cross an apple with a grap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A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do you get when you cross an apple with a alligato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ns.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Nothing, alligators are scalar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1905120" y="2006640"/>
          <a:ext cx="3733560" cy="61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2006640"/>
                    <a:ext cx="3733560" cy="61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Vectors &amp; Scalars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4920" y="838080"/>
            <a:ext cx="8610480" cy="601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511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physical quantities can categorized as one of 2 types (tensors notwithstanding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alar Quantit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77680" indent="-438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d by a single number &amp; a unit (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77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the length of the driveway is 3.5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ectors Quantit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77680" indent="-438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d by a value (magnitude) &amp; dire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77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Example: the wind is blowing 20 m/s due nor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77680" indent="-438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ctors are represented by an arrow, whe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43440" indent="-365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length of the arrow is proportional to the magnitude of the vect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43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43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43440" indent="-365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direction of the arrow represents the direction of the ve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138640" y="4966920"/>
            <a:ext cx="2372040" cy="565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590920" y="5249880"/>
            <a:ext cx="11430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2590920" y="5326200"/>
          <a:ext cx="1218960" cy="54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5326200"/>
                    <a:ext cx="1218960" cy="54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6324480" y="5334120"/>
          <a:ext cx="1905120" cy="530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324480" y="5334120"/>
                    <a:ext cx="1905120" cy="53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304920" y="60948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ly vectors of the same kind can be added togeth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 or more vectors can be added together to obtain a “resultant” ve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“resultant” vector represents the combined effects of multiple vectors acting on the same object/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ection as well as magnitude must be taken into account when adding vec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vectors are co-linear they can be added like scal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Properties of Vectors</a:t>
            </a:r>
            <a:endParaRPr b="0" lang="en-US" sz="2800" spc="-1" strike="noStrike">
              <a:solidFill>
                <a:srgbClr val="a50021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1371600" y="2895480"/>
            <a:ext cx="6400800" cy="610560"/>
            <a:chOff x="1371600" y="2895480"/>
            <a:chExt cx="6400800" cy="610560"/>
          </a:xfrm>
        </p:grpSpPr>
        <p:sp>
          <p:nvSpPr>
            <p:cNvPr id="63" name=""/>
            <p:cNvSpPr/>
            <p:nvPr/>
          </p:nvSpPr>
          <p:spPr>
            <a:xfrm>
              <a:off x="1371600" y="3124080"/>
              <a:ext cx="106668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429000" y="3124080"/>
              <a:ext cx="106668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638680" y="3124080"/>
              <a:ext cx="213372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676520" y="3047760"/>
              <a:ext cx="3808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733920" y="3047760"/>
              <a:ext cx="3808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553080" y="3047760"/>
              <a:ext cx="3812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743200" y="2895480"/>
              <a:ext cx="3808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876920" y="2895480"/>
              <a:ext cx="3808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"/>
          <p:cNvGrpSpPr/>
          <p:nvPr/>
        </p:nvGrpSpPr>
        <p:grpSpPr>
          <a:xfrm>
            <a:off x="1371600" y="3657600"/>
            <a:ext cx="4800600" cy="610560"/>
            <a:chOff x="1371600" y="3657600"/>
            <a:chExt cx="4800600" cy="610560"/>
          </a:xfrm>
        </p:grpSpPr>
        <p:sp>
          <p:nvSpPr>
            <p:cNvPr id="72" name=""/>
            <p:cNvSpPr/>
            <p:nvPr/>
          </p:nvSpPr>
          <p:spPr>
            <a:xfrm>
              <a:off x="1371600" y="3885840"/>
              <a:ext cx="106668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29000" y="3885840"/>
              <a:ext cx="76212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638680" y="3885840"/>
              <a:ext cx="53352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676520" y="3809880"/>
              <a:ext cx="3808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733920" y="3809880"/>
              <a:ext cx="3808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638680" y="3809880"/>
              <a:ext cx="3812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743200" y="3657600"/>
              <a:ext cx="3808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876920" y="3657600"/>
              <a:ext cx="3808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304920" y="4191120"/>
            <a:ext cx="883908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5000"/>
          </a:bodyPr>
          <a:p>
            <a:pPr marL="453240" indent="-453240"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y single vector can be treated as a “resultant” vector and represented as 2 or more “component vec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3240" indent="-453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3240" indent="-4532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3240" indent="-4532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3240" indent="-453240"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add vectors of this type requires sophisticated mathematics or use of graphical techniq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1371600" y="4876560"/>
            <a:ext cx="5866920" cy="1223640"/>
            <a:chOff x="1371600" y="4876560"/>
            <a:chExt cx="5866920" cy="1223640"/>
          </a:xfrm>
        </p:grpSpPr>
        <p:sp>
          <p:nvSpPr>
            <p:cNvPr id="82" name=""/>
            <p:cNvSpPr/>
            <p:nvPr/>
          </p:nvSpPr>
          <p:spPr>
            <a:xfrm>
              <a:off x="2800800" y="5662800"/>
              <a:ext cx="1052640" cy="144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flipV="1">
              <a:off x="5049720" y="4876560"/>
              <a:ext cx="1080" cy="78588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flipV="1">
              <a:off x="1371600" y="4888440"/>
              <a:ext cx="1052640" cy="78624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101400" y="5591520"/>
              <a:ext cx="526320" cy="50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66"/>
                  </a:solidFill>
                  <a:latin typeface="Times New Roman"/>
                </a:rPr>
                <a:t>A</a:t>
              </a:r>
              <a:r>
                <a:rPr b="1" lang="en-US" sz="2400" spc="-1" strike="noStrike" baseline="-25000">
                  <a:solidFill>
                    <a:srgbClr val="ff0066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057280" y="5019480"/>
              <a:ext cx="525960" cy="50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66"/>
                  </a:solidFill>
                  <a:latin typeface="Times New Roman"/>
                </a:rPr>
                <a:t>A</a:t>
              </a:r>
              <a:r>
                <a:rPr b="1" lang="en-US" sz="2400" spc="-1" strike="noStrike" baseline="-25000">
                  <a:solidFill>
                    <a:srgbClr val="ff0066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596960" y="4876920"/>
              <a:ext cx="3758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154760" y="5091120"/>
              <a:ext cx="37584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499840" y="5091120"/>
              <a:ext cx="37584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85880" y="5662800"/>
              <a:ext cx="1052640" cy="144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V="1">
              <a:off x="6177960" y="4876560"/>
              <a:ext cx="1080" cy="78588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486480" y="5591520"/>
              <a:ext cx="601920" cy="50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66"/>
                  </a:solidFill>
                  <a:latin typeface="Times New Roman"/>
                </a:rPr>
                <a:t>A</a:t>
              </a:r>
              <a:r>
                <a:rPr b="1" lang="en-US" sz="2400" spc="-1" strike="noStrike" baseline="-25000">
                  <a:solidFill>
                    <a:srgbClr val="ff0066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734440" y="4876920"/>
              <a:ext cx="525960" cy="50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66"/>
                  </a:solidFill>
                  <a:latin typeface="Times New Roman"/>
                </a:rPr>
                <a:t>A</a:t>
              </a:r>
              <a:r>
                <a:rPr b="1" lang="en-US" sz="2400" spc="-1" strike="noStrike" baseline="-25000">
                  <a:solidFill>
                    <a:srgbClr val="ff0066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508720" y="5091120"/>
              <a:ext cx="37584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V="1">
              <a:off x="6185880" y="4876560"/>
              <a:ext cx="1052640" cy="78588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Trigonometry Review</a:t>
            </a:r>
            <a:br>
              <a:rPr sz="2800"/>
            </a:b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(remember: SOHCAHTOA)</a:t>
            </a:r>
            <a:endParaRPr b="0" lang="en-US" sz="2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229600" cy="477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elationships between the sides and angles of right triangles are well def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ider the following right triang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ree primary “trig” relations (relative to </a:t>
            </a:r>
            <a:r>
              <a:rPr b="0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e of </a:t>
            </a:r>
            <a:r>
              <a:rPr b="0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sin </a:t>
            </a:r>
            <a:r>
              <a:rPr b="0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= opposite/hypotenuse = A/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sine of </a:t>
            </a:r>
            <a:r>
              <a:rPr b="0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cos </a:t>
            </a:r>
            <a:r>
              <a:rPr b="0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= adjacent/hypotenuse = B/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ngent of </a:t>
            </a:r>
            <a:r>
              <a:rPr b="0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tan </a:t>
            </a:r>
            <a:r>
              <a:rPr b="0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= opposite/adjacent = A/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5486400" y="2057400"/>
            <a:ext cx="3048120" cy="2210760"/>
            <a:chOff x="5486400" y="2057400"/>
            <a:chExt cx="3048120" cy="2210760"/>
          </a:xfrm>
        </p:grpSpPr>
        <p:sp>
          <p:nvSpPr>
            <p:cNvPr id="99" name=""/>
            <p:cNvSpPr/>
            <p:nvPr/>
          </p:nvSpPr>
          <p:spPr>
            <a:xfrm>
              <a:off x="5867280" y="2057400"/>
              <a:ext cx="0" cy="175248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7280" y="3809880"/>
              <a:ext cx="266724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 flipV="1">
              <a:off x="5866920" y="2057400"/>
              <a:ext cx="2667240" cy="175248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696080" y="3352680"/>
              <a:ext cx="3812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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58000" y="3809880"/>
              <a:ext cx="3808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Symbol"/>
                  <a:ea typeface="Symbol"/>
                </a:rPr>
                <a:t>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742840"/>
              <a:ext cx="3808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438280"/>
              <a:ext cx="3808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Adding Vectors ( </a:t>
            </a:r>
            <a:r>
              <a:rPr b="0" lang="en-US" sz="4400" spc="-1" strike="noStrike" baseline="-25000">
                <a:solidFill>
                  <a:srgbClr val="a50021"/>
                </a:solidFill>
                <a:latin typeface="Arial"/>
                <a:ea typeface="Arial"/>
              </a:rPr>
              <a:t>┴</a:t>
            </a: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 or otherwise)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839440" cy="385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6000"/>
          </a:bodyPr>
          <a:p>
            <a:pPr marL="40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. Graphic 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add 2 vectors, place them tail-to-head, without changing their direction; the sum (resultant) is the vector obtained by connecting the tail of the first vector with the head of the second ve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5360" indent="-40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an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the vecto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the sum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 vector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5360" indent="-40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ote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the magnitude of the vecto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cessarily equal to the sum of the magnitudes of vector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 In genera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4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0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ther Not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4800" indent="-347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co-linear vectors pointing in the same direction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4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4800" indent="-347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co-linear vectors pointing in opposite directions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5257800" y="3809880"/>
            <a:ext cx="2514600" cy="1240920"/>
            <a:chOff x="5257800" y="3809880"/>
            <a:chExt cx="2514600" cy="1240920"/>
          </a:xfrm>
        </p:grpSpPr>
        <p:grpSp>
          <p:nvGrpSpPr>
            <p:cNvPr id="109" name=""/>
            <p:cNvGrpSpPr/>
            <p:nvPr/>
          </p:nvGrpSpPr>
          <p:grpSpPr>
            <a:xfrm>
              <a:off x="5257800" y="3809880"/>
              <a:ext cx="2514600" cy="1240920"/>
              <a:chOff x="5257800" y="3809880"/>
              <a:chExt cx="2514600" cy="1240920"/>
            </a:xfrm>
          </p:grpSpPr>
          <p:sp>
            <p:nvSpPr>
              <p:cNvPr id="110" name=""/>
              <p:cNvSpPr/>
              <p:nvPr/>
            </p:nvSpPr>
            <p:spPr>
              <a:xfrm>
                <a:off x="5257800" y="4705200"/>
                <a:ext cx="1523880" cy="0"/>
              </a:xfrm>
              <a:prstGeom prst="line">
                <a:avLst/>
              </a:prstGeom>
              <a:ln w="38160">
                <a:solidFill>
                  <a:srgbClr val="ff0066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V="1">
                <a:off x="6781680" y="3921120"/>
                <a:ext cx="990720" cy="784080"/>
              </a:xfrm>
              <a:prstGeom prst="line">
                <a:avLst/>
              </a:prstGeom>
              <a:ln w="38160">
                <a:solidFill>
                  <a:srgbClr val="ff0066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5257800" y="3921120"/>
                <a:ext cx="2514600" cy="78408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5715000" y="3809880"/>
                <a:ext cx="45720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ff"/>
                    </a:solidFill>
                    <a:latin typeface="Times New Roman"/>
                  </a:rPr>
                  <a:t>R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867280" y="4592520"/>
                <a:ext cx="45720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7315200" y="4145040"/>
                <a:ext cx="45720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6" name=""/>
            <p:cNvSpPr/>
            <p:nvPr/>
          </p:nvSpPr>
          <p:spPr>
            <a:xfrm>
              <a:off x="6934320" y="4419720"/>
              <a:ext cx="3808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782040" y="4724280"/>
              <a:ext cx="76176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18" name=""/>
          <p:cNvGraphicFramePr/>
          <p:nvPr/>
        </p:nvGraphicFramePr>
        <p:xfrm>
          <a:off x="787320" y="2400480"/>
          <a:ext cx="1346400" cy="336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2400480"/>
                    <a:ext cx="1346400" cy="33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0" name=""/>
          <p:cNvGraphicFramePr/>
          <p:nvPr/>
        </p:nvGraphicFramePr>
        <p:xfrm>
          <a:off x="1600200" y="3048120"/>
          <a:ext cx="1371600" cy="490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00200" y="3048120"/>
                    <a:ext cx="1371600" cy="49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2" name=""/>
          <p:cNvGraphicFramePr/>
          <p:nvPr/>
        </p:nvGraphicFramePr>
        <p:xfrm>
          <a:off x="380880" y="4041720"/>
          <a:ext cx="4800600" cy="758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80880" y="4041720"/>
                    <a:ext cx="4800600" cy="75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4" name=""/>
          <p:cNvGraphicFramePr/>
          <p:nvPr/>
        </p:nvGraphicFramePr>
        <p:xfrm>
          <a:off x="7010280" y="5172120"/>
          <a:ext cx="1447920" cy="542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010280" y="5172120"/>
                    <a:ext cx="1447920" cy="5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7015320" y="5791320"/>
          <a:ext cx="1519200" cy="6174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015320" y="5791320"/>
                    <a:ext cx="1519200" cy="61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Vector Addition (cont.)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4920" y="762120"/>
            <a:ext cx="8610480" cy="5790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52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. Component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press each vector as the sum of 2 “component” vectors.  The direction of each component vector should be the same for both vectors.  It is common to use the horizontal and vertical directions (These vectors are the horizontal and vertical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omponent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f the vec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mple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ctor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A</a:t>
            </a:r>
            <a:r>
              <a:rPr b="1" lang="en-US" sz="1600" spc="-1" strike="noStrike" baseline="-25000">
                <a:solidFill>
                  <a:srgbClr val="0000ff"/>
                </a:solidFill>
                <a:latin typeface="Arial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horizontal) and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A</a:t>
            </a:r>
            <a:r>
              <a:rPr b="1" lang="en-US" sz="1600" spc="-1" strike="noStrike" baseline="-25000">
                <a:solidFill>
                  <a:srgbClr val="0000ff"/>
                </a:solidFill>
                <a:latin typeface="Arial"/>
              </a:rPr>
              <a:t>y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vertical) 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ctor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B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B</a:t>
            </a:r>
            <a:r>
              <a:rPr b="1" lang="en-US" sz="1600" spc="-1" strike="noStrike" baseline="-25000">
                <a:solidFill>
                  <a:srgbClr val="0000ff"/>
                </a:solidFill>
                <a:latin typeface="Arial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horizontal) and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B</a:t>
            </a:r>
            <a:r>
              <a:rPr b="1" lang="en-US" sz="1600" spc="-1" strike="noStrike" baseline="-25000">
                <a:solidFill>
                  <a:srgbClr val="0000ff"/>
                </a:solidFill>
                <a:latin typeface="Arial"/>
              </a:rPr>
              <a:t>y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vertical) 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ff"/>
                </a:solidFill>
                <a:latin typeface="Arial"/>
              </a:rPr>
              <a:t>Note:  The unit vectors </a:t>
            </a:r>
            <a:r>
              <a:rPr b="1" i="1" lang="en-US" sz="1600" spc="-1" strike="noStrike">
                <a:solidFill>
                  <a:srgbClr val="0000ff"/>
                </a:solidFill>
                <a:latin typeface="Arial"/>
              </a:rPr>
              <a:t>i</a:t>
            </a:r>
            <a:r>
              <a:rPr b="0" i="1" lang="en-US" sz="1600" spc="-1" strike="noStrike">
                <a:solidFill>
                  <a:srgbClr val="0000ff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0000ff"/>
                </a:solidFill>
                <a:latin typeface="Arial"/>
              </a:rPr>
              <a:t>j</a:t>
            </a:r>
            <a:r>
              <a:rPr b="0" i="1" lang="en-US" sz="1600" spc="-1" strike="noStrike">
                <a:solidFill>
                  <a:srgbClr val="0000ff"/>
                </a:solidFill>
                <a:latin typeface="Arial"/>
              </a:rPr>
              <a:t> indicate the directions of the vector compon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magnitudes for corresponding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ompone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vectors for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an now be added together like scalars to obtain the component vectors for the resultant vector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R</a:t>
            </a:r>
            <a:r>
              <a:rPr b="0" lang="en-US" sz="1600" spc="-1" strike="noStrike" baseline="-25000">
                <a:solidFill>
                  <a:srgbClr val="0000ff"/>
                </a:solidFill>
                <a:latin typeface="Arial"/>
              </a:rPr>
              <a:t>x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 = A</a:t>
            </a:r>
            <a:r>
              <a:rPr b="0" lang="en-US" sz="1600" spc="-1" strike="noStrike" baseline="-25000">
                <a:solidFill>
                  <a:srgbClr val="0000ff"/>
                </a:solidFill>
                <a:latin typeface="Arial"/>
              </a:rPr>
              <a:t>x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 + B</a:t>
            </a:r>
            <a:r>
              <a:rPr b="0" lang="en-US" sz="1600" spc="-1" strike="noStrike" baseline="-25000">
                <a:solidFill>
                  <a:srgbClr val="0000ff"/>
                </a:solidFill>
                <a:latin typeface="Arial"/>
              </a:rPr>
              <a:t>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R</a:t>
            </a:r>
            <a:r>
              <a:rPr b="0" lang="en-US" sz="1600" spc="-1" strike="noStrike" baseline="-25000">
                <a:solidFill>
                  <a:srgbClr val="0000ff"/>
                </a:solidFill>
                <a:latin typeface="Arial"/>
              </a:rPr>
              <a:t>y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 = A</a:t>
            </a:r>
            <a:r>
              <a:rPr b="0" lang="en-US" sz="1600" spc="-1" strike="noStrike" baseline="-25000">
                <a:solidFill>
                  <a:srgbClr val="0000ff"/>
                </a:solidFill>
                <a:latin typeface="Arial"/>
              </a:rPr>
              <a:t>y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 + B</a:t>
            </a:r>
            <a:r>
              <a:rPr b="0" lang="en-US" sz="1600" spc="-1" strike="noStrike" baseline="-25000">
                <a:solidFill>
                  <a:srgbClr val="0000ff"/>
                </a:solidFill>
                <a:latin typeface="Arial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d thus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magnitude of the resultant is then obtained from the component vectors by using the Pythagorean Theorem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 calculate the components, we need to know the magnitude R of the vector and the angle a it makes with the horizontal direction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96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96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os </a:t>
            </a:r>
            <a:r>
              <a:rPr b="1" lang="en-US" sz="1400" spc="-1" strike="noStrike">
                <a:solidFill>
                  <a:srgbClr val="0000ff"/>
                </a:solidFill>
                <a:latin typeface="Symbol"/>
                <a:ea typeface="Symbol"/>
              </a:rPr>
              <a:t>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=R</a:t>
            </a:r>
            <a:r>
              <a:rPr b="1" lang="en-US" sz="1400" spc="-1" strike="noStrike" baseline="-6000">
                <a:solidFill>
                  <a:srgbClr val="0000ff"/>
                </a:solidFill>
                <a:latin typeface="Arial"/>
              </a:rPr>
              <a:t>x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/R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,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ince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R</a:t>
            </a:r>
            <a:r>
              <a:rPr b="1" lang="en-US" sz="1400" spc="-1" strike="noStrike" baseline="-6000">
                <a:solidFill>
                  <a:srgbClr val="0000ff"/>
                </a:solidFill>
                <a:latin typeface="Arial"/>
              </a:rPr>
              <a:t>x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=Rcos </a:t>
            </a:r>
            <a:r>
              <a:rPr b="1" lang="en-US" sz="1400" spc="-1" strike="noStrike">
                <a:solidFill>
                  <a:srgbClr val="0000ff"/>
                </a:solidFill>
                <a:latin typeface="Symbol"/>
                <a:ea typeface="Symbol"/>
              </a:rPr>
              <a:t>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96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96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sin </a:t>
            </a:r>
            <a:r>
              <a:rPr b="1" lang="en-US" sz="1400" spc="-1" strike="noStrike">
                <a:solidFill>
                  <a:srgbClr val="0000ff"/>
                </a:solidFill>
                <a:latin typeface="Symbol"/>
                <a:ea typeface="Symbol"/>
              </a:rPr>
              <a:t>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=R</a:t>
            </a:r>
            <a:r>
              <a:rPr b="1" lang="en-US" sz="1400" spc="-1" strike="noStrike" baseline="6000">
                <a:solidFill>
                  <a:srgbClr val="0000ff"/>
                </a:solidFill>
                <a:latin typeface="Arial"/>
              </a:rPr>
              <a:t>y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/R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,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ince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R</a:t>
            </a:r>
            <a:r>
              <a:rPr b="1" lang="en-US" sz="1400" spc="-1" strike="noStrike" baseline="-3000">
                <a:solidFill>
                  <a:srgbClr val="0000ff"/>
                </a:solidFill>
                <a:latin typeface="Arial"/>
              </a:rPr>
              <a:t>y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=Rsin </a:t>
            </a:r>
            <a:r>
              <a:rPr b="1" lang="en-US" sz="1400" spc="-1" strike="noStrike">
                <a:solidFill>
                  <a:srgbClr val="0000ff"/>
                </a:solidFill>
                <a:latin typeface="Symbol"/>
                <a:ea typeface="Symbol"/>
              </a:rPr>
              <a:t>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683600" y="421632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600880" y="5218200"/>
            <a:ext cx="3504600" cy="1694880"/>
            <a:chOff x="5600880" y="5218200"/>
            <a:chExt cx="3504600" cy="1694880"/>
          </a:xfrm>
        </p:grpSpPr>
        <p:sp>
          <p:nvSpPr>
            <p:cNvPr id="132" name=""/>
            <p:cNvSpPr/>
            <p:nvPr/>
          </p:nvSpPr>
          <p:spPr>
            <a:xfrm flipV="1">
              <a:off x="8375400" y="5548680"/>
              <a:ext cx="0" cy="925200"/>
            </a:xfrm>
            <a:prstGeom prst="line">
              <a:avLst/>
            </a:prstGeom>
            <a:ln w="25560">
              <a:solidFill>
                <a:srgbClr val="ffcc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061040" y="6473880"/>
              <a:ext cx="730080" cy="43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768720" y="6143400"/>
              <a:ext cx="4381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184800" y="6473880"/>
              <a:ext cx="2190600" cy="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 flipV="1">
              <a:off x="6184800" y="5548680"/>
              <a:ext cx="0" cy="9252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184800" y="5548680"/>
              <a:ext cx="2190600" cy="0"/>
            </a:xfrm>
            <a:prstGeom prst="line">
              <a:avLst/>
            </a:prstGeom>
            <a:ln w="25560">
              <a:solidFill>
                <a:srgbClr val="ffcc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6184800" y="5548680"/>
              <a:ext cx="2190600" cy="925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206840" y="5614560"/>
              <a:ext cx="7300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600880" y="5747040"/>
              <a:ext cx="729720" cy="43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375400" y="6458760"/>
              <a:ext cx="7300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892480" y="5218200"/>
              <a:ext cx="7300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43" name=""/>
          <p:cNvGraphicFramePr/>
          <p:nvPr/>
        </p:nvGraphicFramePr>
        <p:xfrm>
          <a:off x="4749840" y="2158920"/>
          <a:ext cx="2438280" cy="40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49840" y="2158920"/>
                    <a:ext cx="2438280" cy="4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5" name=""/>
          <p:cNvGraphicFramePr/>
          <p:nvPr/>
        </p:nvGraphicFramePr>
        <p:xfrm>
          <a:off x="4784760" y="2516040"/>
          <a:ext cx="2479680" cy="425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84760" y="2516040"/>
                    <a:ext cx="2479680" cy="42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7" name=""/>
          <p:cNvGraphicFramePr/>
          <p:nvPr/>
        </p:nvGraphicFramePr>
        <p:xfrm>
          <a:off x="3022560" y="2362320"/>
          <a:ext cx="914400" cy="207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22560" y="2362320"/>
                    <a:ext cx="914400" cy="20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9" name=""/>
          <p:cNvGraphicFramePr/>
          <p:nvPr/>
        </p:nvGraphicFramePr>
        <p:xfrm>
          <a:off x="2217600" y="4138560"/>
          <a:ext cx="3186360" cy="534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217600" y="4138560"/>
                    <a:ext cx="318636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1" name=""/>
          <p:cNvGraphicFramePr/>
          <p:nvPr/>
        </p:nvGraphicFramePr>
        <p:xfrm>
          <a:off x="3022560" y="2362320"/>
          <a:ext cx="914400" cy="207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022560" y="2362320"/>
                    <a:ext cx="914400" cy="20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3" name=""/>
          <p:cNvGraphicFramePr/>
          <p:nvPr/>
        </p:nvGraphicFramePr>
        <p:xfrm>
          <a:off x="3544920" y="4727520"/>
          <a:ext cx="2982960" cy="4842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544920" y="4727520"/>
                    <a:ext cx="298296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The Scalar (Dot) Product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76312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vectors                    can be multiplied to product a scalar resultant, called the scalar (or Dot) produ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using the magnitudes of the vect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where </a:t>
            </a:r>
            <a:r>
              <a:rPr b="0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is the angle between vectors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and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using vector compon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ful properties of scalar produ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Example: The scalar product of the vectors of force and displacement is used to calculate work performed by the fo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6473880" y="1698480"/>
          <a:ext cx="2336760" cy="64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73880" y="1698480"/>
                    <a:ext cx="2336760" cy="64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9" name=""/>
          <p:cNvGraphicFramePr/>
          <p:nvPr/>
        </p:nvGraphicFramePr>
        <p:xfrm>
          <a:off x="2286000" y="990720"/>
          <a:ext cx="1571760" cy="490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0" y="990720"/>
                    <a:ext cx="1571760" cy="49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1" name=""/>
          <p:cNvGraphicFramePr/>
          <p:nvPr/>
        </p:nvGraphicFramePr>
        <p:xfrm>
          <a:off x="5073480" y="3343320"/>
          <a:ext cx="2514600" cy="542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073480" y="3343320"/>
                    <a:ext cx="2514600" cy="5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3" name=""/>
          <p:cNvGraphicFramePr/>
          <p:nvPr/>
        </p:nvGraphicFramePr>
        <p:xfrm>
          <a:off x="5592600" y="4214880"/>
          <a:ext cx="1505160" cy="412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592600" y="4214880"/>
                    <a:ext cx="1505160" cy="41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5" name=""/>
          <p:cNvGraphicFramePr/>
          <p:nvPr/>
        </p:nvGraphicFramePr>
        <p:xfrm>
          <a:off x="5597640" y="4584600"/>
          <a:ext cx="1268280" cy="4129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597640" y="4584600"/>
                    <a:ext cx="1268280" cy="41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7" name=""/>
          <p:cNvGraphicFramePr/>
          <p:nvPr/>
        </p:nvGraphicFramePr>
        <p:xfrm>
          <a:off x="5635800" y="4924440"/>
          <a:ext cx="2927160" cy="5158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635800" y="4924440"/>
                    <a:ext cx="2927160" cy="51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The Vector (Cross) Product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52280" y="1036440"/>
            <a:ext cx="8763120" cy="55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vectors                    can be multiplied to produce a vector resultant, called the vector (or cross) produ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using the magnitudes of the vect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angle between vectors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direction of the vector product is perpendicular to the plane of the vector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using vector compon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Not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The presence of the vector product implies that 3 spatial dimensions are specif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The vector product is perpendicular to both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 and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2681280" y="2120760"/>
          <a:ext cx="2333520" cy="62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1280" y="2120760"/>
                    <a:ext cx="2333520" cy="62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3" name=""/>
          <p:cNvGraphicFramePr/>
          <p:nvPr/>
        </p:nvGraphicFramePr>
        <p:xfrm>
          <a:off x="2390760" y="990720"/>
          <a:ext cx="1571760" cy="490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90760" y="990720"/>
                    <a:ext cx="1571760" cy="49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711360" y="4255920"/>
          <a:ext cx="7602480" cy="622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11360" y="4255920"/>
                    <a:ext cx="7602480" cy="62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J. Willard Gibbs </a:t>
            </a:r>
            <a:r>
              <a:rPr b="0" lang="en-US" sz="2400" spc="-1" strike="noStrike">
                <a:solidFill>
                  <a:srgbClr val="a50021"/>
                </a:solidFill>
                <a:latin typeface="Arial"/>
              </a:rPr>
              <a:t>(1839-1903)</a:t>
            </a:r>
            <a:endParaRPr b="0" lang="en-US" sz="2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31840" y="1320480"/>
            <a:ext cx="654984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idered one of the greatest scientists of the 19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entu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jor contributions in the fields o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modynamics &amp; Statistical mechan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ulated a concept of thermodynamic equilibrium of a system in terms of energy   and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mis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mical equilibrium, and equilibria between phases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(I’m sure you’ve heard of the Gibb’s Free Energy…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hema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eloped the foundation of vector mathema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629400" y="1066680"/>
            <a:ext cx="2241720" cy="322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01:09:15Z</dcterms:created>
  <dc:creator>Tony Zable</dc:creator>
  <dc:description/>
  <dc:language>en-US</dc:language>
  <cp:lastModifiedBy>pccuser</cp:lastModifiedBy>
  <dcterms:modified xsi:type="dcterms:W3CDTF">2007-10-04T16:54:29Z</dcterms:modified>
  <cp:revision>24</cp:revision>
  <dc:subject/>
  <dc:title>Phy 211: General Physics I</dc:title>
</cp:coreProperties>
</file>