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3D6C7-2D2D-4AE2-B533-489163511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A4BC6-B98B-4674-9055-2388CA99E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0E20E-A789-40E4-A4A1-E40E5E2F1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B4F4A-26D3-4884-80F1-6002C1793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82EFA-959A-4B05-A11E-DAB947B58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C5EDC-EEF4-4A47-926C-EB438BB89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321CF-1120-47F9-856E-53D4579A9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6BFA7-9418-44AF-A705-9335E63EE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9D3-306D-456D-99B6-A1B60D90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6D0-304D-4A29-A849-FE07297F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300-D1CA-4EEB-B0E8-10C24E5D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6E8-78BA-4652-AAA1-89306A78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97E-3D3F-4F7C-9993-07502DBD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750-EF5E-428A-AD78-1FBF9BDF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075-2495-4574-97A5-6328B25B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EA3-A5FA-49D2-9212-887A7DF3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CE4-BCB7-40AA-90AA-772F403E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A93-0E5D-4B08-A46B-1798F445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D97-1D1C-4AD4-AB6D-C0559B90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1FE-324E-4E85-A63A-91768DB8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413D-97CC-4058-8FE5-904DCFFF9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ienceworld.wolfram.com/biography/photo-credits.html" TargetMode="Externa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V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sics Humo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get when you cross an apple with a gra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get when you cross an apple with a alliga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s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hing, alligators are scal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905120" y="2006640"/>
          <a:ext cx="37335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06640"/>
                    <a:ext cx="37335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ectors &amp; Scala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hysical quantities can categorized as one of 2 types (tensors notwithstandi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r Qua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by a single number &amp; a unit 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length of the driveway is 3.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s Quant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by a value (magnitude) &amp;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the wind is blowing 20 m/s due no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s are represented by an arrow,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ngth of the arrow is proportional to the magnitude of the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3440" indent="-365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arrow represents the direction of the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138640" y="4966920"/>
            <a:ext cx="2372040" cy="565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52498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90920" y="5326200"/>
          <a:ext cx="1218960" cy="54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326200"/>
                    <a:ext cx="121896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324480" y="5334120"/>
          <a:ext cx="1905120" cy="5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334120"/>
                    <a:ext cx="19051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vectors of the same kind can be added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r more vectors can be added together to obtain a “resultant”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resultant” vector represents the combined effects of multiple vectors acting on the same object/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on as well as magnitude must be taken into account when adding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vectors are co-linear they can be added like sca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roperties of Vector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371600" y="2895480"/>
            <a:ext cx="6400800" cy="610560"/>
            <a:chOff x="1371600" y="2895480"/>
            <a:chExt cx="6400800" cy="610560"/>
          </a:xfrm>
        </p:grpSpPr>
        <p:sp>
          <p:nvSpPr>
            <p:cNvPr id="63" name=""/>
            <p:cNvSpPr/>
            <p:nvPr/>
          </p:nvSpPr>
          <p:spPr>
            <a:xfrm>
              <a:off x="1371600" y="3124080"/>
              <a:ext cx="106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124080"/>
              <a:ext cx="106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38680" y="3124080"/>
              <a:ext cx="21337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6520" y="304776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04776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53080" y="3047760"/>
              <a:ext cx="3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43200" y="28954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920" y="28954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371600" y="3657600"/>
            <a:ext cx="4800600" cy="610560"/>
            <a:chOff x="1371600" y="3657600"/>
            <a:chExt cx="4800600" cy="610560"/>
          </a:xfrm>
        </p:grpSpPr>
        <p:sp>
          <p:nvSpPr>
            <p:cNvPr id="72" name=""/>
            <p:cNvSpPr/>
            <p:nvPr/>
          </p:nvSpPr>
          <p:spPr>
            <a:xfrm>
              <a:off x="1371600" y="3885840"/>
              <a:ext cx="106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9000" y="3885840"/>
              <a:ext cx="762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3885840"/>
              <a:ext cx="5335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76520" y="38098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33920" y="38098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38680" y="3809880"/>
              <a:ext cx="3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3200" y="365760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6920" y="365760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04920" y="4191120"/>
            <a:ext cx="88390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453240" indent="-4532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single vector can be treated as a “resultant” vector and represented as 2 or more “component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vectors of this type requires sophisticated mathematics or use of graphic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371600" y="4876560"/>
            <a:ext cx="5866920" cy="1223640"/>
            <a:chOff x="1371600" y="4876560"/>
            <a:chExt cx="5866920" cy="1223640"/>
          </a:xfrm>
        </p:grpSpPr>
        <p:sp>
          <p:nvSpPr>
            <p:cNvPr id="82" name=""/>
            <p:cNvSpPr/>
            <p:nvPr/>
          </p:nvSpPr>
          <p:spPr>
            <a:xfrm>
              <a:off x="2800800" y="5662800"/>
              <a:ext cx="105264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049720" y="4876560"/>
              <a:ext cx="1080" cy="785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371600" y="4888440"/>
              <a:ext cx="1052640" cy="78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01400" y="5591520"/>
              <a:ext cx="5263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57280" y="5019480"/>
              <a:ext cx="5259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96960" y="4876920"/>
              <a:ext cx="375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54760" y="5091120"/>
              <a:ext cx="375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99840" y="5091120"/>
              <a:ext cx="375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85880" y="5662800"/>
              <a:ext cx="1052640" cy="1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177960" y="4876560"/>
              <a:ext cx="1080" cy="785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86480" y="5591520"/>
              <a:ext cx="601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34440" y="4876920"/>
              <a:ext cx="5259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08720" y="5091120"/>
              <a:ext cx="375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185880" y="4876560"/>
              <a:ext cx="1052640" cy="785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rigonometry Review</a:t>
            </a:r>
            <a:br>
              <a:rPr sz="2800"/>
            </a:b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remember: SOHCAHTOA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77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s between the sides and angles of right triangles are well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ollowing right triang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primary “trig” relations (relative to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e of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n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opposite/hypotenuse = A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ine of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s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adjacent/hypotenuse = B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gent of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n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opposite/adjacent = A/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486400" y="2057400"/>
            <a:ext cx="3048120" cy="2210760"/>
            <a:chOff x="5486400" y="2057400"/>
            <a:chExt cx="3048120" cy="2210760"/>
          </a:xfrm>
        </p:grpSpPr>
        <p:sp>
          <p:nvSpPr>
            <p:cNvPr id="99" name=""/>
            <p:cNvSpPr/>
            <p:nvPr/>
          </p:nvSpPr>
          <p:spPr>
            <a:xfrm>
              <a:off x="5867280" y="2057400"/>
              <a:ext cx="0" cy="1752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809880"/>
              <a:ext cx="26672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5866920" y="2057400"/>
              <a:ext cx="2667240" cy="17524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96080" y="3352680"/>
              <a:ext cx="3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0" y="38098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74284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4382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dding Vectors ( </a:t>
            </a:r>
            <a:r>
              <a:rPr b="0" lang="en-US" sz="4400" spc="-1" strike="noStrike" baseline="-25000">
                <a:solidFill>
                  <a:srgbClr val="a50021"/>
                </a:solidFill>
                <a:latin typeface="Arial"/>
                <a:ea typeface="Arial"/>
              </a:rPr>
              <a:t>┴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or otherwise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38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Graph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d 2 vectors, place them tail-to-head, without changing their direction; the sum (resultant) is the vector obtained by connecting the tail of the first vector with the head of the second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the ve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ve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-40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magnitude of the vect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essarily equal to the sum of the magnitudes of vec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n gener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480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-linear vectors pointing in the same direc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4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4800" indent="-347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-linear vectors pointing in opposite direc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257800" y="3809880"/>
            <a:ext cx="2514600" cy="1240920"/>
            <a:chOff x="5257800" y="3809880"/>
            <a:chExt cx="2514600" cy="1240920"/>
          </a:xfrm>
        </p:grpSpPr>
        <p:grpSp>
          <p:nvGrpSpPr>
            <p:cNvPr id="109" name=""/>
            <p:cNvGrpSpPr/>
            <p:nvPr/>
          </p:nvGrpSpPr>
          <p:grpSpPr>
            <a:xfrm>
              <a:off x="5257800" y="3809880"/>
              <a:ext cx="2514600" cy="1240920"/>
              <a:chOff x="5257800" y="3809880"/>
              <a:chExt cx="2514600" cy="1240920"/>
            </a:xfrm>
          </p:grpSpPr>
          <p:sp>
            <p:nvSpPr>
              <p:cNvPr id="110" name=""/>
              <p:cNvSpPr/>
              <p:nvPr/>
            </p:nvSpPr>
            <p:spPr>
              <a:xfrm>
                <a:off x="5257800" y="4705200"/>
                <a:ext cx="1523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6781680" y="3921120"/>
                <a:ext cx="990720" cy="7840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5257800" y="3921120"/>
                <a:ext cx="2514600" cy="784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15000" y="3809880"/>
                <a:ext cx="4572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7280" y="4592520"/>
                <a:ext cx="4572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15200" y="4145040"/>
                <a:ext cx="4572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6934320" y="4419720"/>
              <a:ext cx="38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82040" y="472428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8" name=""/>
          <p:cNvGraphicFramePr/>
          <p:nvPr/>
        </p:nvGraphicFramePr>
        <p:xfrm>
          <a:off x="787320" y="2400480"/>
          <a:ext cx="1346400" cy="33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2400480"/>
                    <a:ext cx="13464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600200" y="3048120"/>
          <a:ext cx="137160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048120"/>
                    <a:ext cx="13716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0880" y="4041720"/>
          <a:ext cx="480060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41720"/>
                    <a:ext cx="48006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010280" y="5172120"/>
          <a:ext cx="144792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5172120"/>
                    <a:ext cx="1447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7015320" y="5791320"/>
          <a:ext cx="1519200" cy="61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5320" y="5791320"/>
                    <a:ext cx="15192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ector Addition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Componen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 each vector as the sum of 2 “component” vectors.  The direction of each component vector should be the same for both vectors.  It is common to use the horizontal and vertical directions (These vectors are the horizontal and vertica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on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he vec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cto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orizontal)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ertical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cto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orizontal)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vertical)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Note:  The unit vectors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indicate the directions of the vector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gnitudes for correspond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ectors fo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now be added together like scalars to obtain the component vectors for the resultant vect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=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+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= A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+ B</a:t>
            </a:r>
            <a:r>
              <a:rPr b="0" lang="en-US" sz="16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u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agnitude of the resultant is then obtained from the component vectors by using the Pythagorean Theor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alculate the components, we need to know the magnitude R of the vector and the angle a it makes with the horizontal direc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os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=R</a:t>
            </a:r>
            <a:r>
              <a:rPr b="1" lang="en-US" sz="1400" spc="-1" strike="noStrike" baseline="-6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/R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,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400" spc="-1" strike="noStrike" baseline="-6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=Rcos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in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=R</a:t>
            </a:r>
            <a:r>
              <a:rPr b="1" lang="en-US" sz="1400" spc="-1" strike="noStrike" baseline="6000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/R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,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400" spc="-1" strike="noStrike" baseline="-3000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=Rsin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0" y="421632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600880" y="5218200"/>
            <a:ext cx="3504600" cy="1694880"/>
            <a:chOff x="5600880" y="5218200"/>
            <a:chExt cx="3504600" cy="1694880"/>
          </a:xfrm>
        </p:grpSpPr>
        <p:sp>
          <p:nvSpPr>
            <p:cNvPr id="132" name=""/>
            <p:cNvSpPr/>
            <p:nvPr/>
          </p:nvSpPr>
          <p:spPr>
            <a:xfrm flipV="1">
              <a:off x="8375400" y="5548680"/>
              <a:ext cx="0" cy="925200"/>
            </a:xfrm>
            <a:prstGeom prst="line">
              <a:avLst/>
            </a:prstGeom>
            <a:ln w="255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61040" y="6473880"/>
              <a:ext cx="73008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68720" y="61434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84800" y="6473880"/>
              <a:ext cx="21906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184800" y="5548680"/>
              <a:ext cx="0" cy="9252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84800" y="5548680"/>
              <a:ext cx="2190600" cy="0"/>
            </a:xfrm>
            <a:prstGeom prst="line">
              <a:avLst/>
            </a:prstGeom>
            <a:ln w="2556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184800" y="5548680"/>
              <a:ext cx="2190600" cy="92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206840" y="5614560"/>
              <a:ext cx="73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00880" y="5747040"/>
              <a:ext cx="72972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75400" y="6458760"/>
              <a:ext cx="73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2480" y="5218200"/>
              <a:ext cx="730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4749840" y="2158920"/>
          <a:ext cx="243828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2158920"/>
                    <a:ext cx="243828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84760" y="2516040"/>
          <a:ext cx="2479680" cy="4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516040"/>
                    <a:ext cx="24796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22560" y="2362320"/>
          <a:ext cx="914400" cy="20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2362320"/>
                    <a:ext cx="91440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217600" y="4138560"/>
          <a:ext cx="318636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17600" y="4138560"/>
                    <a:ext cx="31863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022560" y="2362320"/>
          <a:ext cx="914400" cy="20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22560" y="2362320"/>
                    <a:ext cx="91440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544920" y="4727520"/>
          <a:ext cx="298296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44920" y="4727520"/>
                    <a:ext cx="29829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Scalar (Dot) Produ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t a scalar resultant, called the scalar (or Dot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the angle between vector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ple: The scalar product of the vectors of force and displacement is used to calculate work performed by th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473880" y="1698480"/>
          <a:ext cx="23367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3880" y="1698480"/>
                    <a:ext cx="23367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28600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073480" y="3343320"/>
          <a:ext cx="25146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3480" y="3343320"/>
                    <a:ext cx="2514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592600" y="4214880"/>
          <a:ext cx="150516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92600" y="4214880"/>
                    <a:ext cx="1505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597640" y="4584600"/>
          <a:ext cx="12682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97640" y="4584600"/>
                    <a:ext cx="1268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635800" y="4924440"/>
          <a:ext cx="292716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5800" y="4924440"/>
                    <a:ext cx="292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Vector (Cross) Produ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76312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e a vector resultant, called the vector (or cross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angle between vecto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vector product is perpendicular to the plane of the vecto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presence of the vector product implies that 3 spatial dimensions ar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 vector product is perpendicular to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681280" y="2120760"/>
          <a:ext cx="233352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2120760"/>
                    <a:ext cx="2333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239076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076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711360" y="4255920"/>
          <a:ext cx="760248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" y="4255920"/>
                    <a:ext cx="76024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J. Willard Gibb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839-1903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1840" y="1320480"/>
            <a:ext cx="65498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one of the greatest scientists of the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ontributions in the field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modynamics &amp; Statistical 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ted a concept of thermodynamic equilibrium of a system in terms of energy   and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equilibrium, and equilibria between phas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I’m sure you’ve heard of the Gibb’s Free Energy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the foundation of vector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066680"/>
            <a:ext cx="22417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0-04T16:54:29Z</dcterms:modified>
  <cp:revision>24</cp:revision>
  <dc:subject/>
  <dc:title>Phy 211: General Physics I</dc:title>
</cp:coreProperties>
</file>