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D8F-4805-42D1-A114-BECC7AAD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791-E177-422D-91F9-17B704A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AFA-C435-47B9-B21A-48FBF08A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413-BD2A-48E5-B0D3-8511DBA3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02E-2E90-4DE9-A7C0-2A045EA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63C-665D-4E2E-AFD6-E2CEDB9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65F-6B06-4975-A0D0-87358FEC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760-48B4-4403-84E4-1A934636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2B8-FF72-46EF-A4AB-78624BE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967-0087-4810-8D03-CE7395C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8A6-F1FB-426D-AE1F-E71BAFD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54F-6A14-4572-80E0-6EDE4C9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459-10DE-4655-B60C-BC3DBD4F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527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   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35160" y="3008160"/>
          <a:ext cx="438120" cy="3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5160" y="3008160"/>
                    <a:ext cx="43812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54320" y="1785960"/>
          <a:ext cx="26820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785960"/>
                    <a:ext cx="2682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838080"/>
            <a:ext cx="8470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that reflects the time rate of change of displacement.  The direction of the velocity vector is the same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magnitude of a velocity vector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Both velocity and speed are measured in m/s (SI uni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8120" y="3865680"/>
          <a:ext cx="2666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65680"/>
                    <a:ext cx="2666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821040" y="5259240"/>
          <a:ext cx="2590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1040" y="5259240"/>
                    <a:ext cx="2590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56320" y="25909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752480" y="2057400"/>
            <a:ext cx="5726160" cy="1555200"/>
            <a:chOff x="1752480" y="2057400"/>
            <a:chExt cx="5726160" cy="1555200"/>
          </a:xfrm>
        </p:grpSpPr>
        <p:sp>
          <p:nvSpPr>
            <p:cNvPr id="75" name=""/>
            <p:cNvSpPr/>
            <p:nvPr/>
          </p:nvSpPr>
          <p:spPr>
            <a:xfrm>
              <a:off x="4343400" y="3246480"/>
              <a:ext cx="303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2057400"/>
              <a:ext cx="2156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igin (0,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1520" y="2847960"/>
              <a:ext cx="752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99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3440" y="2089440"/>
              <a:ext cx="709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720"/>
              <a:ext cx="21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Displac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8720" y="2579760"/>
              <a:ext cx="96840" cy="1094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71800" y="2414880"/>
              <a:ext cx="44085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800" y="2855880"/>
              <a:ext cx="13716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45120" y="2524320"/>
              <a:ext cx="196560" cy="2206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81720" y="2524320"/>
              <a:ext cx="196920" cy="2206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08560" y="2635200"/>
              <a:ext cx="39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2362320"/>
              <a:ext cx="60984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637000"/>
              <a:ext cx="851040" cy="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2960" y="2611440"/>
              <a:ext cx="154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v (veloc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1828800" y="6195960"/>
          <a:ext cx="41148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6195960"/>
                    <a:ext cx="4114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830680" y="4584600"/>
          <a:ext cx="32763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0680" y="4584600"/>
                    <a:ext cx="3276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189240" y="1471680"/>
          <a:ext cx="414360" cy="32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89240" y="1471680"/>
                    <a:ext cx="4143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2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ball descends in water with a velocity defined by: v(t) = -1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10t + 5 (assume SI units). Find the instantaneous acceleration after 2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62520" y="2895480"/>
          <a:ext cx="32763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3276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00400" y="208116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08116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24080" y="4191120"/>
          <a:ext cx="2743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91120"/>
                    <a:ext cx="2743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90920" y="5638680"/>
          <a:ext cx="46260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46260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nalyzing 1-D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7840" y="863280"/>
            <a:ext cx="8773920" cy="54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definitions of displacement, velocity and acceleration applied to describe linear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ball rolls down an incline, from rest at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s, at an acceleration of 2.5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locity down the inclin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2 ways to approach this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69840" y="2446200"/>
          <a:ext cx="56674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2446200"/>
                    <a:ext cx="56674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80" y="3365640"/>
          <a:ext cx="61959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80" y="3365640"/>
                    <a:ext cx="61959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28840" y="3043080"/>
          <a:ext cx="90792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3043080"/>
                    <a:ext cx="907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46160" y="4762440"/>
          <a:ext cx="5856120" cy="80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6160" y="4762440"/>
                    <a:ext cx="58561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3280" y="5389560"/>
          <a:ext cx="8275680" cy="13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3280" y="5389560"/>
                    <a:ext cx="82756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6716880" y="3392640"/>
            <a:ext cx="2144160" cy="1450440"/>
            <a:chOff x="6716880" y="3392640"/>
            <a:chExt cx="2144160" cy="1450440"/>
          </a:xfrm>
        </p:grpSpPr>
        <p:sp>
          <p:nvSpPr>
            <p:cNvPr id="118" name=""/>
            <p:cNvSpPr/>
            <p:nvPr/>
          </p:nvSpPr>
          <p:spPr>
            <a:xfrm>
              <a:off x="6716880" y="3704040"/>
              <a:ext cx="2144160" cy="113904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79520" y="3395880"/>
              <a:ext cx="428400" cy="3826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15560" y="3754440"/>
              <a:ext cx="491040" cy="268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7506360" y="3392640"/>
            <a:ext cx="289440" cy="453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06360" y="3392640"/>
                      <a:ext cx="289440" cy="4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nalyzing 1-D Motion (cont.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0120" indent="-412920"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itial and final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roblem, time is not explicitly given so we have to identify a workaro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50880" y="1389240"/>
          <a:ext cx="5924520" cy="13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389240"/>
                    <a:ext cx="592452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93720" y="3651120"/>
          <a:ext cx="7835760" cy="24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720" y="3651120"/>
                    <a:ext cx="78357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49160" y="6073920"/>
          <a:ext cx="7347240" cy="59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" y="6073920"/>
                    <a:ext cx="73472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ummarize the previous 2 slides, whe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   is constant), a useful set of equations of motion has been derived for 1-D motion in 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at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Velocity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+ ½ at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Displacement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½(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Average Velocit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2a(r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Galileo’s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477120" y="873000"/>
          <a:ext cx="225360" cy="3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873000"/>
                    <a:ext cx="225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3320" y="2728800"/>
          <a:ext cx="3694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728800"/>
                    <a:ext cx="3694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7097760" y="2133720"/>
            <a:ext cx="709560" cy="1218600"/>
            <a:chOff x="7097760" y="2133720"/>
            <a:chExt cx="709560" cy="1218600"/>
          </a:xfrm>
        </p:grpSpPr>
        <p:sp>
          <p:nvSpPr>
            <p:cNvPr id="140" name=""/>
            <p:cNvSpPr/>
            <p:nvPr/>
          </p:nvSpPr>
          <p:spPr>
            <a:xfrm>
              <a:off x="7250040" y="251424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7760" y="2133720"/>
              <a:ext cx="304560" cy="3045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7332480" y="2554200"/>
            <a:ext cx="474840" cy="60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32480" y="2554200"/>
                      <a:ext cx="474840" cy="60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pccuser</cp:lastModifiedBy>
  <dcterms:modified xsi:type="dcterms:W3CDTF">2007-09-28T22:48:43Z</dcterms:modified>
  <cp:revision>35</cp:revision>
  <dc:subject/>
  <dc:title>Phy 211: General Physics I</dc:title>
</cp:coreProperties>
</file>