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E22-A568-41BE-B2C6-D57BD0EF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89D-1D5B-4326-8178-B61EBED9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38F-C944-43D5-A28D-A61B99DE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ABF-D8FB-4E72-AC6E-58D70AA0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165-4B5F-49EF-9E76-5927634A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DDC-DC1D-49FC-AEB0-3AE2C8FA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027-BED2-4296-8DD8-88533C0A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A81-85C9-4929-BE43-90413FB1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2E0-017C-4F8A-A8F6-6C85D554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D5D-DAAC-4346-901B-928FBF2D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285-7137-440C-A1C7-867E72B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AD3-D361-4E00-9191-16B3DAF1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3227-CF8D-4553-8E6A-4B552EA14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otion along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phical Analysis of Velocity &amp;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61000" cy="51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vs. tim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vs. tim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under the curve is th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lileo Galilei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1564-1642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5867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ed with establishing the “scientific meth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his scientific hypotheses on observation and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elescope for astronomical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aters and features on the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ons of Jupiter &amp; the rings of Sa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is observations supported Copernica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vely refuted Aristotelian ide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contradicted Church doctr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under “house arrest” as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d accelerated motion and established the first equations of kin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e Law of Inertia, which later became known as Newton’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of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00800" y="838080"/>
            <a:ext cx="25272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object is in motion if it changes its position relative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 point (Origin). Motion is rel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(   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that connects an object’s location to a reference point (origin). As an object moves, the its positio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is the difference between the final position and the initial position of a moving object; its magnitude is measured in meters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608800"/>
            <a:ext cx="3036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19720"/>
            <a:ext cx="21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4320" y="5172120"/>
            <a:ext cx="264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79960" y="4464000"/>
            <a:ext cx="24494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52840" y="560880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7840" y="4941720"/>
            <a:ext cx="96840" cy="109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4776840"/>
            <a:ext cx="44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5218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6388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0084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27320" y="49975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75440" y="499896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4724280"/>
            <a:ext cx="60948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35160" y="3008160"/>
          <a:ext cx="438120" cy="3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5160" y="3008160"/>
                    <a:ext cx="438120" cy="3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254320" y="1785960"/>
          <a:ext cx="26820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785960"/>
                    <a:ext cx="26820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ed &amp; Veloc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838080"/>
            <a:ext cx="8470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ector that reflects the time rate of change of displacement.  The direction of the velocity vector is the same as the displacement vecto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The magnitude of a velocity vector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Both velocity and speed are measured in m/s (SI uni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Spe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ntaneous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8120" y="3865680"/>
          <a:ext cx="26668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865680"/>
                    <a:ext cx="2666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821040" y="5259240"/>
          <a:ext cx="25909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1040" y="5259240"/>
                    <a:ext cx="2590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56320" y="25909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752480" y="2057400"/>
            <a:ext cx="5726160" cy="1555200"/>
            <a:chOff x="1752480" y="2057400"/>
            <a:chExt cx="5726160" cy="1555200"/>
          </a:xfrm>
        </p:grpSpPr>
        <p:sp>
          <p:nvSpPr>
            <p:cNvPr id="75" name=""/>
            <p:cNvSpPr/>
            <p:nvPr/>
          </p:nvSpPr>
          <p:spPr>
            <a:xfrm>
              <a:off x="4343400" y="3246480"/>
              <a:ext cx="303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2057400"/>
              <a:ext cx="2156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rigin (0,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1520" y="2847960"/>
              <a:ext cx="7527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99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3440" y="2089440"/>
              <a:ext cx="709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1" lang="en-US" sz="1600" spc="-1" strike="noStrike" baseline="-25000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720"/>
              <a:ext cx="2154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Displac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8720" y="2579760"/>
              <a:ext cx="96840" cy="1094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71800" y="2414880"/>
              <a:ext cx="440856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71800" y="2855880"/>
              <a:ext cx="13716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45120" y="2524320"/>
              <a:ext cx="196560" cy="2206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81720" y="2524320"/>
              <a:ext cx="196920" cy="2206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08560" y="2635200"/>
              <a:ext cx="392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09680" y="2362320"/>
              <a:ext cx="609840" cy="2286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2637000"/>
              <a:ext cx="851040" cy="4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82960" y="2611440"/>
              <a:ext cx="1541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v (veloc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1828800" y="6195960"/>
          <a:ext cx="41148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6195960"/>
                    <a:ext cx="4114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830680" y="4584600"/>
          <a:ext cx="32763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0680" y="4584600"/>
                    <a:ext cx="3276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189240" y="1471680"/>
          <a:ext cx="414360" cy="32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89240" y="1471680"/>
                    <a:ext cx="41436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3800" y="837720"/>
            <a:ext cx="866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velocity vector is changing in tim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ctor describes the time rate of change of the velocity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vector with the same direction as the change in velocity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vector. It is measured in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1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car accelerates from 0 to 30 m/s in 6 s.  Find the average acce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30 m/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2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ball descends in water with a velocity defined by: v(t) = -1t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+ 10t + 5 (assume SI units). Find the instantaneous acceleration after 2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62520" y="2895480"/>
          <a:ext cx="32763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95480"/>
                    <a:ext cx="3276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00400" y="2081160"/>
          <a:ext cx="357192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081160"/>
                    <a:ext cx="357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124080" y="4191120"/>
          <a:ext cx="27432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191120"/>
                    <a:ext cx="2743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90920" y="5638680"/>
          <a:ext cx="4626000" cy="6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638680"/>
                    <a:ext cx="46260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nalyzing 1-D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7840" y="863280"/>
            <a:ext cx="8773920" cy="54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definitions of displacement, velocity and acceleration applied to describe linear mo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ball rolls down an incline, from rest at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s, at an acceleration of 2.5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elocity down the inclin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2 ways to approach this 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69840" y="2446200"/>
          <a:ext cx="56674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2446200"/>
                    <a:ext cx="56674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28680" y="3365640"/>
          <a:ext cx="619596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80" y="3365640"/>
                    <a:ext cx="61959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428840" y="3043080"/>
          <a:ext cx="90792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8840" y="3043080"/>
                    <a:ext cx="90792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046160" y="4762440"/>
          <a:ext cx="5856120" cy="80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6160" y="4762440"/>
                    <a:ext cx="58561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03280" y="5389560"/>
          <a:ext cx="8275680" cy="139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3280" y="5389560"/>
                    <a:ext cx="82756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6716880" y="3392640"/>
            <a:ext cx="2144160" cy="1450440"/>
            <a:chOff x="6716880" y="3392640"/>
            <a:chExt cx="2144160" cy="1450440"/>
          </a:xfrm>
        </p:grpSpPr>
        <p:sp>
          <p:nvSpPr>
            <p:cNvPr id="118" name=""/>
            <p:cNvSpPr/>
            <p:nvPr/>
          </p:nvSpPr>
          <p:spPr>
            <a:xfrm>
              <a:off x="6716880" y="3704040"/>
              <a:ext cx="2144160" cy="1139040"/>
            </a:xfrm>
            <a:prstGeom prst="rtTriangl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79520" y="3395880"/>
              <a:ext cx="428400" cy="3826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15560" y="3754440"/>
              <a:ext cx="491040" cy="2685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7506360" y="3392640"/>
            <a:ext cx="289440" cy="453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506360" y="3392640"/>
                      <a:ext cx="289440" cy="45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nalyzing 1-D Motion (cont.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0120" indent="-412920"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initial and final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problem, time is not explicitly given so we have to identify a workarou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50880" y="1389240"/>
          <a:ext cx="5924520" cy="13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1389240"/>
                    <a:ext cx="5924520" cy="13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93720" y="3651120"/>
          <a:ext cx="7835760" cy="241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720" y="3651120"/>
                    <a:ext cx="78357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49160" y="6073920"/>
          <a:ext cx="7347240" cy="59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9160" y="6073920"/>
                    <a:ext cx="734724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s of Kinema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ummarize the previous 2 slides, whe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    is constant), a useful set of equations of motion has been derived for 1-D motion in scala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at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Velocity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+ ½ at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Displacement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½(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Average Velocit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2a(r -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Galileo’s Equatio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These equations will allow us to completely describe the motion of a moving object and represent our “toolbox” for studying kinemat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477120" y="873000"/>
          <a:ext cx="225360" cy="3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873000"/>
                    <a:ext cx="22536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 Falling Bod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-D motion of objects subject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motion considered is vertic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or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of falling object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Consider a rock dropped from 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2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onsider a rock tossed into the air with an initial upward velocity of 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long would it take for the rock to return to the thrower (initial he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highest position the rock reaches during its asc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03320" y="2728800"/>
          <a:ext cx="3694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728800"/>
                    <a:ext cx="3694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7097760" y="2133720"/>
            <a:ext cx="709560" cy="1218600"/>
            <a:chOff x="7097760" y="2133720"/>
            <a:chExt cx="709560" cy="1218600"/>
          </a:xfrm>
        </p:grpSpPr>
        <p:sp>
          <p:nvSpPr>
            <p:cNvPr id="140" name=""/>
            <p:cNvSpPr/>
            <p:nvPr/>
          </p:nvSpPr>
          <p:spPr>
            <a:xfrm>
              <a:off x="7250040" y="2514240"/>
              <a:ext cx="0" cy="83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7760" y="2133720"/>
              <a:ext cx="304560" cy="3045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2" name=""/>
            <p:cNvGraphicFramePr/>
            <p:nvPr/>
          </p:nvGraphicFramePr>
          <p:xfrm>
            <a:off x="7332480" y="2554200"/>
            <a:ext cx="474840" cy="601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32480" y="2554200"/>
                      <a:ext cx="474840" cy="60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23:47:29Z</dcterms:created>
  <dc:creator>Tony Zable</dc:creator>
  <dc:description/>
  <dc:language>en-US</dc:language>
  <cp:lastModifiedBy>pccuser</cp:lastModifiedBy>
  <dcterms:modified xsi:type="dcterms:W3CDTF">2007-09-28T22:48:43Z</dcterms:modified>
  <cp:revision>35</cp:revision>
  <dc:subject/>
  <dc:title>Phy 211: General Physics I</dc:title>
</cp:coreProperties>
</file>