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42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48.png" ContentType="image/png"/>
  <Override PartName="/ppt/media/image51.wmf" ContentType="image/x-wmf"/>
  <Override PartName="/ppt/media/image12.wmf" ContentType="image/x-wmf"/>
  <Override PartName="/ppt/media/image49.wmf" ContentType="image/x-wmf"/>
  <Override PartName="/ppt/media/image50.wmf" ContentType="image/x-wmf"/>
  <Override PartName="/ppt/media/image13.wmf" ContentType="image/x-wmf"/>
  <Override PartName="/ppt/media/image52.wmf" ContentType="image/x-wmf"/>
  <Override PartName="/ppt/media/image53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31.wmf" ContentType="image/x-wmf"/>
  <Override PartName="/ppt/media/image30.wmf" ContentType="image/x-wmf"/>
  <Override PartName="/ppt/media/image10.jpeg" ContentType="image/jpeg"/>
  <Override PartName="/ppt/media/image54.wmf" ContentType="image/x-wmf"/>
  <Override PartName="/ppt/media/image39.wmf" ContentType="image/x-wmf"/>
  <Override PartName="/ppt/media/image9.wmf" ContentType="image/x-wmf"/>
  <Override PartName="/ppt/media/image37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5F2C6-CFF8-493C-BF43-AD055EA2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F34-E6DB-4B5C-9D68-F862B961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812-E22B-4A5B-AAB4-76FFE9C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8E1-89A3-4C69-96EA-569FF892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40D-991F-4AC3-BA8C-8826E2CE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AEF-5B2C-4FFC-9E90-DF7B059D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B0F-80D4-4FE1-A025-2F982234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998-5785-47D2-9DFD-6326A7A8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907-1AF1-4056-B365-A478A64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3DE-9604-401B-B5AF-EC847695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8AA-4BFA-4C91-9A7A-8ABB906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09-190E-4645-A10D-F9FD4781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422-9521-44CF-B4F3-BF8F659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5416-45BC-44C9-8E94-F824269D6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2.wmf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0: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11360" y="2220840"/>
          <a:ext cx="36860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220840"/>
                    <a:ext cx="3686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31880" y="3714840"/>
          <a:ext cx="146700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3714840"/>
                    <a:ext cx="1467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ous mass distribu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discrete distribution of m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41320" y="4417920"/>
          <a:ext cx="50151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4417920"/>
                    <a:ext cx="50151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01720" y="3479760"/>
          <a:ext cx="64627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479760"/>
                    <a:ext cx="6462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3680" y="1336680"/>
          <a:ext cx="291960" cy="3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336680"/>
                    <a:ext cx="2919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753160" y="1380960"/>
          <a:ext cx="2079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380960"/>
                    <a:ext cx="2079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219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4135320" y="1442160"/>
            <a:ext cx="171360" cy="280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35320" y="1442160"/>
                      <a:ext cx="1713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4753080" y="2876400"/>
          <a:ext cx="4049640" cy="153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3080" y="2876400"/>
                    <a:ext cx="404964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229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2890800" y="3327480"/>
            <a:ext cx="22860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0800" y="3327480"/>
                      <a:ext cx="22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6" name=""/>
          <p:cNvGraphicFramePr/>
          <p:nvPr/>
        </p:nvGraphicFramePr>
        <p:xfrm>
          <a:off x="4586400" y="4892760"/>
          <a:ext cx="4620960" cy="16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86400" y="4892760"/>
                    <a:ext cx="46209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239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240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256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3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66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768760" y="1839960"/>
          <a:ext cx="200628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839960"/>
                    <a:ext cx="20062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92200" y="3160800"/>
          <a:ext cx="601344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3160800"/>
                    <a:ext cx="6013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498680" y="4049640"/>
          <a:ext cx="6165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4049640"/>
                    <a:ext cx="6165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73080"/>
            <a:ext cx="8839440" cy="49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  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27280" y="4390920"/>
          <a:ext cx="12207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390920"/>
                    <a:ext cx="1220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3395520"/>
          <a:ext cx="213336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395520"/>
                    <a:ext cx="21333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95520" y="5572080"/>
          <a:ext cx="148608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5520" y="5572080"/>
                    <a:ext cx="14860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59200" y="2428920"/>
          <a:ext cx="2156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59200" y="2428920"/>
                    <a:ext cx="215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and linear variables for an object in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931360" y="4394160"/>
            <a:ext cx="2514240" cy="2057040"/>
            <a:chOff x="5931360" y="4394160"/>
            <a:chExt cx="2514240" cy="2057040"/>
          </a:xfrm>
        </p:grpSpPr>
        <p:sp>
          <p:nvSpPr>
            <p:cNvPr id="65" name=""/>
            <p:cNvSpPr/>
            <p:nvPr/>
          </p:nvSpPr>
          <p:spPr>
            <a:xfrm flipV="1">
              <a:off x="6540480" y="5460480"/>
              <a:ext cx="167652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77480" y="577836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2040" y="543528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545520" y="445248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31360" y="447012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12080" y="43941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438960" y="1816200"/>
            <a:ext cx="2209680" cy="1294920"/>
            <a:chOff x="6438960" y="1816200"/>
            <a:chExt cx="2209680" cy="1294920"/>
          </a:xfrm>
        </p:grpSpPr>
        <p:sp>
          <p:nvSpPr>
            <p:cNvPr id="72" name=""/>
            <p:cNvSpPr/>
            <p:nvPr/>
          </p:nvSpPr>
          <p:spPr>
            <a:xfrm flipV="1">
              <a:off x="6438960" y="2121120"/>
              <a:ext cx="167616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43880" y="2654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00720" y="250200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48440" y="21211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115120" y="18162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38960" y="2882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102520" y="212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4287960"/>
            <a:ext cx="883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51192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40" y="3830760"/>
            <a:ext cx="71629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Scalar) 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841400" y="1351080"/>
          <a:ext cx="16131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351080"/>
                    <a:ext cx="1613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600200" y="1814400"/>
          <a:ext cx="5154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14400"/>
                    <a:ext cx="515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7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both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22400" y="3173400"/>
          <a:ext cx="3391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3173400"/>
                    <a:ext cx="3391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819520" y="3787920"/>
          <a:ext cx="365112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87920"/>
                    <a:ext cx="3651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30924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chimed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 me a point of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 will move the Ear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35640" y="380880"/>
            <a:ext cx="2808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476440" y="3727440"/>
          <a:ext cx="194796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440" y="3727440"/>
                    <a:ext cx="19479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956040" y="5880240"/>
          <a:ext cx="2343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6040" y="5880240"/>
                    <a:ext cx="2343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107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121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-D using vector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vecto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vecto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e vector product of vectors A &amp; B is perpendicular to both A &amp;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f vectors A &amp; B lie within an x-y plane, the vector product points in the z-dir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676600" y="3119400"/>
          <a:ext cx="21715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119400"/>
                    <a:ext cx="2171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946080" y="2243160"/>
          <a:ext cx="690084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6080" y="2243160"/>
                    <a:ext cx="6900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65680" y="4037040"/>
          <a:ext cx="17272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65680" y="4037040"/>
                    <a:ext cx="1727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673600" y="4457880"/>
          <a:ext cx="11113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3600" y="4457880"/>
                    <a:ext cx="11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715000" y="4848120"/>
          <a:ext cx="11667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48120"/>
                    <a:ext cx="1166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048120" y="6058080"/>
          <a:ext cx="25621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6058080"/>
                    <a:ext cx="25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(Cross) Produc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41200" y="855720"/>
            <a:ext cx="6080400" cy="3430440"/>
            <a:chOff x="241200" y="855720"/>
            <a:chExt cx="6080400" cy="3430440"/>
          </a:xfrm>
        </p:grpSpPr>
        <p:sp>
          <p:nvSpPr>
            <p:cNvPr id="151" name=""/>
            <p:cNvSpPr/>
            <p:nvPr/>
          </p:nvSpPr>
          <p:spPr>
            <a:xfrm>
              <a:off x="851040" y="2158920"/>
              <a:ext cx="4140000" cy="1384200"/>
            </a:xfrm>
            <a:prstGeom prst="parallelogram">
              <a:avLst>
                <a:gd name="adj" fmla="val 747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8195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413080" y="2679840"/>
              <a:ext cx="1511280" cy="12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25680" y="18669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2260800" y="2919240"/>
            <a:ext cx="34272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800" y="2919240"/>
                      <a:ext cx="342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800440" y="2262240"/>
            <a:ext cx="3078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00440" y="2262240"/>
                      <a:ext cx="3078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2292480" y="1407960"/>
            <a:ext cx="861840" cy="47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2480" y="1407960"/>
                      <a:ext cx="8618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079960" y="21589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6072120" y="1860480"/>
            <a:ext cx="24948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2120" y="1860480"/>
                      <a:ext cx="2494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 flipH="1">
              <a:off x="482760" y="354312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241200" y="3713040"/>
            <a:ext cx="330480" cy="573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200" y="3713040"/>
                      <a:ext cx="3304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 flipV="1">
              <a:off x="1892160" y="13838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1739880" y="855720"/>
            <a:ext cx="295200" cy="50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39880" y="8557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2984400" y="3382920"/>
            <a:ext cx="6080040" cy="3430440"/>
            <a:chOff x="2984400" y="3382920"/>
            <a:chExt cx="6080040" cy="3430440"/>
          </a:xfrm>
        </p:grpSpPr>
        <p:sp>
          <p:nvSpPr>
            <p:cNvPr id="171" name=""/>
            <p:cNvSpPr/>
            <p:nvPr/>
          </p:nvSpPr>
          <p:spPr>
            <a:xfrm>
              <a:off x="3594240" y="4686120"/>
              <a:ext cx="4140000" cy="1384560"/>
            </a:xfrm>
            <a:prstGeom prst="parallelogram">
              <a:avLst>
                <a:gd name="adj" fmla="val 747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1480" y="53467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56280" y="5206680"/>
              <a:ext cx="1511280" cy="12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168880" y="43941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5" name=""/>
            <p:cNvGraphicFramePr/>
            <p:nvPr/>
          </p:nvGraphicFramePr>
          <p:xfrm>
            <a:off x="5046480" y="5475240"/>
            <a:ext cx="257400" cy="399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46480" y="5475240"/>
                      <a:ext cx="2574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556240" y="4789440"/>
            <a:ext cx="2808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56240" y="4789440"/>
                      <a:ext cx="2808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5048280" y="3908520"/>
            <a:ext cx="1219320" cy="506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048280" y="3908520"/>
                      <a:ext cx="121932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7823160" y="46861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2" name=""/>
            <p:cNvGraphicFramePr/>
            <p:nvPr/>
          </p:nvGraphicFramePr>
          <p:xfrm>
            <a:off x="8815320" y="4387680"/>
            <a:ext cx="249120" cy="62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815320" y="4387680"/>
                      <a:ext cx="2491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 flipH="1">
              <a:off x="3225960" y="607068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2984400" y="6240600"/>
            <a:ext cx="330120" cy="57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0" y="6240600"/>
                      <a:ext cx="33012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7" name=""/>
            <p:cNvSpPr/>
            <p:nvPr/>
          </p:nvSpPr>
          <p:spPr>
            <a:xfrm flipV="1">
              <a:off x="4635360" y="39110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4483080" y="3382920"/>
            <a:ext cx="295200" cy="503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483080" y="33829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22640" y="5407200"/>
          <a:ext cx="5452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5407200"/>
                    <a:ext cx="5452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179800" y="2805120"/>
          <a:ext cx="483048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2805120"/>
                    <a:ext cx="48304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847880" y="1539720"/>
          <a:ext cx="355680" cy="4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39720"/>
                    <a:ext cx="3556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282840" y="1878120"/>
          <a:ext cx="5731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1878120"/>
                    <a:ext cx="573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2-05T17:31:46Z</dcterms:modified>
  <cp:revision>50</cp:revision>
  <dc:subject/>
  <dc:title>Phy 211: General Physics I</dc:title>
</cp:coreProperties>
</file>