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36.wmf" ContentType="image/x-wmf"/>
  <Override PartName="/ppt/media/image42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47.wmf" ContentType="image/x-wmf"/>
  <Override PartName="/ppt/media/image48.png" ContentType="image/png"/>
  <Override PartName="/ppt/media/image51.wmf" ContentType="image/x-wmf"/>
  <Override PartName="/ppt/media/image12.wmf" ContentType="image/x-wmf"/>
  <Override PartName="/ppt/media/image49.wmf" ContentType="image/x-wmf"/>
  <Override PartName="/ppt/media/image50.wmf" ContentType="image/x-wmf"/>
  <Override PartName="/ppt/media/image13.wmf" ContentType="image/x-wmf"/>
  <Override PartName="/ppt/media/image52.wmf" ContentType="image/x-wmf"/>
  <Override PartName="/ppt/media/image53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1.wmf" ContentType="image/x-wmf"/>
  <Override PartName="/ppt/media/image30.wmf" ContentType="image/x-wmf"/>
  <Override PartName="/ppt/media/image10.jpeg" ContentType="image/jpeg"/>
  <Override PartName="/ppt/media/image54.wmf" ContentType="image/x-wmf"/>
  <Override PartName="/ppt/media/image39.wmf" ContentType="image/x-wmf"/>
  <Override PartName="/ppt/media/image9.wmf" ContentType="image/x-wmf"/>
  <Override PartName="/ppt/media/image37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96725-7EDC-4D6B-9C03-63B935418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e-s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flag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003-98B2-4913-AB0C-0A5E71DF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1A9-1BE0-40EB-990E-568B6DE5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63F-76DF-4358-ADB3-B4DF33DF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258-C99C-446E-BA13-7AB5C85B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425-8963-47A1-946C-0D4743C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E8B-241A-4F0D-88C4-8561C182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01F-E877-4DEC-B12A-456DE77F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113-B8D7-4DC7-B104-5DBA1198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E05-11AF-4284-9387-239CC73B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00E-0B7F-446A-810A-AE2FFDD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5BB-B0AA-428E-B899-837978C7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6C1-65E8-4ABA-8066-3A8AC3BB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D186-EBD5-4C36-BC9A-9A25BA640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0: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in Equilibri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8600" y="105552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id body is in equilibrium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for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 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torq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 above conditions must be met for an object to be in mechanical equilibri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object can be bo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t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till be in mechanical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11360" y="2220840"/>
          <a:ext cx="36860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2220840"/>
                    <a:ext cx="3686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631880" y="3714840"/>
          <a:ext cx="146700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3714840"/>
                    <a:ext cx="1467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Moment of Inertia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istance of a rigid body to changes in its state of rotational motion (    ) is calle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ment of iner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rotational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ment of Inertia (I) depend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of the object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(position) of mass about 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ous mass distributio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a discrete distribution of m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 the mass of a small segment of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 the distance of the mass mi from 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f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41320" y="4417920"/>
          <a:ext cx="50151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4417920"/>
                    <a:ext cx="50151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701720" y="3479760"/>
          <a:ext cx="64627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1720" y="3479760"/>
                    <a:ext cx="64627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63680" y="1336680"/>
          <a:ext cx="291960" cy="3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680" y="1336680"/>
                    <a:ext cx="2919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 (common 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pendul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cyli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753160" y="1380960"/>
          <a:ext cx="2079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3160" y="1380960"/>
                    <a:ext cx="2079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3418920" y="10440"/>
            <a:ext cx="2814120" cy="2835360"/>
            <a:chOff x="3418920" y="10440"/>
            <a:chExt cx="2814120" cy="2835360"/>
          </a:xfrm>
        </p:grpSpPr>
        <p:sp>
          <p:nvSpPr>
            <p:cNvPr id="219" name=""/>
            <p:cNvSpPr/>
            <p:nvPr/>
          </p:nvSpPr>
          <p:spPr>
            <a:xfrm>
              <a:off x="3808800" y="1966320"/>
              <a:ext cx="329760" cy="33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086360" y="1179720"/>
              <a:ext cx="687960" cy="8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03680" y="197244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9800" y="1046160"/>
              <a:ext cx="866520" cy="133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4135320" y="1442160"/>
            <a:ext cx="171360" cy="280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35320" y="1442160"/>
                      <a:ext cx="1713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 rot="7896000">
              <a:off x="3762720" y="489960"/>
              <a:ext cx="2125800" cy="18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4753080" y="2876400"/>
          <a:ext cx="4049640" cy="153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53080" y="2876400"/>
                    <a:ext cx="4049640" cy="15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"/>
          <p:cNvGrpSpPr/>
          <p:nvPr/>
        </p:nvGrpSpPr>
        <p:grpSpPr>
          <a:xfrm>
            <a:off x="2138040" y="2122560"/>
            <a:ext cx="2675880" cy="2697480"/>
            <a:chOff x="2138040" y="2122560"/>
            <a:chExt cx="2675880" cy="2697480"/>
          </a:xfrm>
        </p:grpSpPr>
        <p:sp>
          <p:nvSpPr>
            <p:cNvPr id="229" name=""/>
            <p:cNvSpPr/>
            <p:nvPr/>
          </p:nvSpPr>
          <p:spPr>
            <a:xfrm>
              <a:off x="2592360" y="2778120"/>
              <a:ext cx="1482840" cy="1403280"/>
            </a:xfrm>
            <a:prstGeom prst="donut">
              <a:avLst>
                <a:gd name="adj" fmla="val 55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873520" y="3502080"/>
              <a:ext cx="425520" cy="423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436600">
              <a:off x="2803320" y="3918960"/>
              <a:ext cx="76320" cy="79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06600" y="3919320"/>
              <a:ext cx="80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3" name=""/>
            <p:cNvGraphicFramePr/>
            <p:nvPr/>
          </p:nvGraphicFramePr>
          <p:xfrm>
            <a:off x="2890800" y="3327480"/>
            <a:ext cx="228600" cy="360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90800" y="3327480"/>
                      <a:ext cx="2286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"/>
            <p:cNvSpPr/>
            <p:nvPr/>
          </p:nvSpPr>
          <p:spPr>
            <a:xfrm rot="7896000">
              <a:off x="2459880" y="2583720"/>
              <a:ext cx="2031480" cy="177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6" name=""/>
          <p:cNvGraphicFramePr/>
          <p:nvPr/>
        </p:nvGraphicFramePr>
        <p:xfrm>
          <a:off x="4586400" y="4892760"/>
          <a:ext cx="4620960" cy="1682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86400" y="4892760"/>
                    <a:ext cx="46209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2387160" y="5008680"/>
            <a:ext cx="2093040" cy="1774440"/>
            <a:chOff x="2387160" y="5008680"/>
            <a:chExt cx="2093040" cy="1774440"/>
          </a:xfrm>
        </p:grpSpPr>
        <p:grpSp>
          <p:nvGrpSpPr>
            <p:cNvPr id="239" name=""/>
            <p:cNvGrpSpPr/>
            <p:nvPr/>
          </p:nvGrpSpPr>
          <p:grpSpPr>
            <a:xfrm>
              <a:off x="2387160" y="5038920"/>
              <a:ext cx="2093040" cy="1496880"/>
              <a:chOff x="2387160" y="5038920"/>
              <a:chExt cx="2093040" cy="1496880"/>
            </a:xfrm>
          </p:grpSpPr>
          <p:sp>
            <p:nvSpPr>
              <p:cNvPr id="240" name=""/>
              <p:cNvSpPr/>
              <p:nvPr/>
            </p:nvSpPr>
            <p:spPr>
              <a:xfrm rot="3745200">
                <a:off x="2811240" y="5235120"/>
                <a:ext cx="1112040" cy="11037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3767760" y="5247000"/>
                <a:ext cx="712440" cy="37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2387160" y="6065280"/>
                <a:ext cx="501480" cy="26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556080" y="6414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6000" y="55926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81600" y="6122880"/>
              <a:ext cx="11448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5040" y="6516720"/>
              <a:ext cx="11412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333600" y="6243480"/>
              <a:ext cx="692280" cy="36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9930800">
              <a:off x="3652920" y="5173560"/>
              <a:ext cx="177840" cy="826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59480" y="5621040"/>
              <a:ext cx="25200" cy="311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21240" y="50086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allel Axis Theor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llel Axis Theorem is used to determine the moment of inertia for a body rotated about an axis a distance, l, from the center of m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0.2 kg cylinder (r=0.1 m) rotated about an axis located 0.5 m from its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814480" y="2583000"/>
          <a:ext cx="243540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583000"/>
                    <a:ext cx="2435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495360" y="4711680"/>
            <a:ext cx="3251160" cy="1752480"/>
            <a:chOff x="495360" y="4711680"/>
            <a:chExt cx="3251160" cy="1752480"/>
          </a:xfrm>
        </p:grpSpPr>
        <p:sp>
          <p:nvSpPr>
            <p:cNvPr id="256" name=""/>
            <p:cNvSpPr/>
            <p:nvPr/>
          </p:nvSpPr>
          <p:spPr>
            <a:xfrm>
              <a:off x="2184480" y="47116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3960" y="4902120"/>
              <a:ext cx="3022560" cy="1206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360" y="4889520"/>
              <a:ext cx="546120" cy="8636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851040" y="5384880"/>
              <a:ext cx="1333440" cy="3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9760" y="50418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346400" y="5523840"/>
              <a:ext cx="21081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976680" y="4762440"/>
              <a:ext cx="210924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4199040" y="4359240"/>
          <a:ext cx="4330440" cy="238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4359240"/>
                    <a:ext cx="433044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Rotational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rque is applied to an object and a rotation is produced, the torque does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et t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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al kinetic energy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an object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is is the Work-Energy Theorem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768760" y="1839960"/>
          <a:ext cx="200628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8760" y="1839960"/>
                    <a:ext cx="200628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92200" y="3160800"/>
          <a:ext cx="601344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2200" y="3160800"/>
                    <a:ext cx="6013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498680" y="4049640"/>
          <a:ext cx="61657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8680" y="4049640"/>
                    <a:ext cx="6165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12640" y="5510160"/>
          <a:ext cx="818208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2640" y="5510160"/>
                    <a:ext cx="8182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otational Motion &amp; Angular 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973080"/>
            <a:ext cx="8839440" cy="49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moves in a circular path (or rotat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mains a fixed distance (r) from the center of the circular path (or axis of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radial distance is fixed, position can be described by its angular positio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position (  ) describes the position of an object along a circular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radians (or deg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displa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veloc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e at which angular position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accele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ate at which angular velocity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627280" y="4390920"/>
          <a:ext cx="122076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390920"/>
                    <a:ext cx="12207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962520" y="3395520"/>
          <a:ext cx="213336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395520"/>
                    <a:ext cx="21333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495520" y="5572080"/>
          <a:ext cx="1486080" cy="9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5520" y="5572080"/>
                    <a:ext cx="148608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959200" y="2428920"/>
          <a:ext cx="2156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9200" y="2428920"/>
                    <a:ext cx="215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elationship between rotational and linear variables for an object in circular mo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97160"/>
            <a:ext cx="7772400" cy="27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(arc length)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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(tangential) speed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ccele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931360" y="4394160"/>
            <a:ext cx="2514240" cy="2057040"/>
            <a:chOff x="5931360" y="4394160"/>
            <a:chExt cx="2514240" cy="2057040"/>
          </a:xfrm>
        </p:grpSpPr>
        <p:sp>
          <p:nvSpPr>
            <p:cNvPr id="65" name=""/>
            <p:cNvSpPr/>
            <p:nvPr/>
          </p:nvSpPr>
          <p:spPr>
            <a:xfrm flipV="1">
              <a:off x="6540480" y="5460480"/>
              <a:ext cx="167652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77480" y="577836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2040" y="543528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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545520" y="4452480"/>
              <a:ext cx="523800" cy="1762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31360" y="4470120"/>
              <a:ext cx="228528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12080" y="439416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438960" y="1816200"/>
            <a:ext cx="2209680" cy="1294920"/>
            <a:chOff x="6438960" y="1816200"/>
            <a:chExt cx="2209680" cy="1294920"/>
          </a:xfrm>
        </p:grpSpPr>
        <p:sp>
          <p:nvSpPr>
            <p:cNvPr id="72" name=""/>
            <p:cNvSpPr/>
            <p:nvPr/>
          </p:nvSpPr>
          <p:spPr>
            <a:xfrm flipV="1">
              <a:off x="6438960" y="2121120"/>
              <a:ext cx="1676160" cy="76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43880" y="265428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00720" y="250200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48440" y="21211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15120" y="181620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38960" y="288288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8102520" y="2121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4287960"/>
            <a:ext cx="883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marL="51192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½(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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040" y="3830760"/>
            <a:ext cx="71629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Scalar) Equations of Rotational 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841400" y="1351080"/>
          <a:ext cx="161316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1351080"/>
                    <a:ext cx="16131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600200" y="1814400"/>
          <a:ext cx="5154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814400"/>
                    <a:ext cx="5154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104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&amp; Tangential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9777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object moving in uniform circular motion, the magnitude of its centripetal accelera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)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f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constant, the effect of angular acceleration must also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n object’s circular motion can be generalized in terms of both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 components of acceleration are perpendicular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magnitude &amp; direction of a, they must be treate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822400" y="3173400"/>
          <a:ext cx="3391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3173400"/>
                    <a:ext cx="3391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819520" y="3787920"/>
          <a:ext cx="365112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87920"/>
                    <a:ext cx="3651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309240"/>
            <a:ext cx="624816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rchimed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287-212 BC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6172200" cy="50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the greatest mathematician i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n early form of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Buoya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called Archimedes’ Princ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Leve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rq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uilt several machines based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 me a point of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I will move the Ear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35640" y="380880"/>
            <a:ext cx="28083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&amp; Torqu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9000" y="923760"/>
            <a:ext cx="8748720" cy="593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is a vector quantity that represents the application of force to a body resulting in ro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change in rotation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torque ar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to be confused with jo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r arm (leverag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force perpendicular to lever a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63960" y="5180040"/>
          <a:ext cx="2602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3960" y="5180040"/>
                    <a:ext cx="260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476440" y="3727440"/>
          <a:ext cx="194796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440" y="3727440"/>
                    <a:ext cx="19479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956040" y="5880240"/>
          <a:ext cx="234324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6040" y="5880240"/>
                    <a:ext cx="2343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796080" y="5521320"/>
          <a:ext cx="199548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96080" y="5521320"/>
                    <a:ext cx="1995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54016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016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165960" y="1709640"/>
            <a:ext cx="3707640" cy="2592000"/>
            <a:chOff x="165960" y="1709640"/>
            <a:chExt cx="3707640" cy="2592000"/>
          </a:xfrm>
        </p:grpSpPr>
        <p:sp>
          <p:nvSpPr>
            <p:cNvPr id="107" name=""/>
            <p:cNvSpPr/>
            <p:nvPr/>
          </p:nvSpPr>
          <p:spPr>
            <a:xfrm rot="19653600">
              <a:off x="1044720" y="2674800"/>
              <a:ext cx="2712960" cy="350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36880" y="3554640"/>
              <a:ext cx="117360" cy="13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741400" y="1915920"/>
              <a:ext cx="4680" cy="69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 rot="9225600">
              <a:off x="485640" y="2198880"/>
              <a:ext cx="165312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270080" y="261432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2274840" y="1995480"/>
            <a:ext cx="324000" cy="501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74840" y="1995480"/>
                      <a:ext cx="3240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2187720" y="3183120"/>
            <a:ext cx="290520" cy="438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187720" y="318312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 flipV="1">
              <a:off x="2757600" y="192420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 rot="10501800">
              <a:off x="2338920" y="222336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2949840" y="1709640"/>
            <a:ext cx="360360" cy="561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49840" y="170964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"/>
          <p:cNvGrpSpPr/>
          <p:nvPr/>
        </p:nvGrpSpPr>
        <p:grpSpPr>
          <a:xfrm>
            <a:off x="5692680" y="1690560"/>
            <a:ext cx="2737080" cy="2177280"/>
            <a:chOff x="5692680" y="1690560"/>
            <a:chExt cx="2737080" cy="2177280"/>
          </a:xfrm>
        </p:grpSpPr>
        <p:sp>
          <p:nvSpPr>
            <p:cNvPr id="121" name=""/>
            <p:cNvSpPr/>
            <p:nvPr/>
          </p:nvSpPr>
          <p:spPr>
            <a:xfrm>
              <a:off x="5692680" y="3535200"/>
              <a:ext cx="117720" cy="13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297560" y="1896840"/>
              <a:ext cx="5040" cy="69372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826240" y="259524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718320" y="2998800"/>
            <a:ext cx="290520" cy="438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18320" y="299880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 flipV="1">
              <a:off x="7313760" y="190512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 rot="10501800">
              <a:off x="6895080" y="220428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7505640" y="1690560"/>
            <a:ext cx="360360" cy="561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505640" y="169056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 flipH="1" flipV="1">
              <a:off x="6986160" y="1998360"/>
              <a:ext cx="297000" cy="57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6553080" y="1962000"/>
            <a:ext cx="463680" cy="662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553080" y="1962000"/>
                      <a:ext cx="4636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he Vector (Cross) Produc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e a vector resultant, called the vector (or Cross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-D using vector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vector 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vecto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o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e vector product of vectors A &amp; B is perpendicular to both A &amp;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f vectors A &amp; B lie within an x-y plane, the vector product points in the z-dir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676600" y="3119400"/>
          <a:ext cx="217152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119400"/>
                    <a:ext cx="2171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46080" y="2243160"/>
          <a:ext cx="690084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6080" y="2243160"/>
                    <a:ext cx="69008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665680" y="4037040"/>
          <a:ext cx="172728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65680" y="4037040"/>
                    <a:ext cx="1727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673600" y="4457880"/>
          <a:ext cx="11113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73600" y="4457880"/>
                    <a:ext cx="1111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715000" y="4848120"/>
          <a:ext cx="116676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4848120"/>
                    <a:ext cx="11667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48120" y="6058080"/>
          <a:ext cx="256212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6058080"/>
                    <a:ext cx="2562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ctor (Cross) Produc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41200" y="855720"/>
            <a:ext cx="6080400" cy="3430440"/>
            <a:chOff x="241200" y="855720"/>
            <a:chExt cx="6080400" cy="3430440"/>
          </a:xfrm>
        </p:grpSpPr>
        <p:sp>
          <p:nvSpPr>
            <p:cNvPr id="151" name=""/>
            <p:cNvSpPr/>
            <p:nvPr/>
          </p:nvSpPr>
          <p:spPr>
            <a:xfrm>
              <a:off x="851040" y="2158920"/>
              <a:ext cx="4140000" cy="1384200"/>
            </a:xfrm>
            <a:prstGeom prst="parallelogram">
              <a:avLst>
                <a:gd name="adj" fmla="val 747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819520"/>
              <a:ext cx="63504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413080" y="2679840"/>
              <a:ext cx="1511280" cy="12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25680" y="18669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2260800" y="2919240"/>
            <a:ext cx="34272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0800" y="2919240"/>
                      <a:ext cx="3427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2800440" y="2262240"/>
            <a:ext cx="3078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00440" y="2262240"/>
                      <a:ext cx="3078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292480" y="1407960"/>
            <a:ext cx="861840" cy="476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92480" y="1407960"/>
                      <a:ext cx="8618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5079960" y="2158920"/>
              <a:ext cx="8892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6072120" y="1860480"/>
            <a:ext cx="249480" cy="622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72120" y="1860480"/>
                      <a:ext cx="24948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 flipH="1">
              <a:off x="482760" y="3543120"/>
              <a:ext cx="38088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241200" y="3713040"/>
            <a:ext cx="330480" cy="573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1200" y="3713040"/>
                      <a:ext cx="33048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 flipV="1">
              <a:off x="1892160" y="1383840"/>
              <a:ext cx="1296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1739880" y="855720"/>
            <a:ext cx="295200" cy="50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39880" y="855720"/>
                      <a:ext cx="29520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2984400" y="3382920"/>
            <a:ext cx="6080040" cy="3430440"/>
            <a:chOff x="2984400" y="3382920"/>
            <a:chExt cx="6080040" cy="3430440"/>
          </a:xfrm>
        </p:grpSpPr>
        <p:sp>
          <p:nvSpPr>
            <p:cNvPr id="171" name=""/>
            <p:cNvSpPr/>
            <p:nvPr/>
          </p:nvSpPr>
          <p:spPr>
            <a:xfrm>
              <a:off x="3594240" y="4686120"/>
              <a:ext cx="4140000" cy="1384560"/>
            </a:xfrm>
            <a:prstGeom prst="parallelogram">
              <a:avLst>
                <a:gd name="adj" fmla="val 747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81480" y="5346720"/>
              <a:ext cx="63504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56280" y="5206680"/>
              <a:ext cx="1511280" cy="12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168880" y="43941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5046480" y="5475240"/>
            <a:ext cx="257400" cy="399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46480" y="5475240"/>
                      <a:ext cx="2574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5556240" y="4789440"/>
            <a:ext cx="2808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56240" y="4789440"/>
                      <a:ext cx="2808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5048280" y="3908520"/>
            <a:ext cx="1219320" cy="5061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048280" y="3908520"/>
                      <a:ext cx="121932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7823160" y="4686120"/>
              <a:ext cx="8892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8815320" y="4387680"/>
            <a:ext cx="249120" cy="62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815320" y="4387680"/>
                      <a:ext cx="2491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 flipH="1">
              <a:off x="3225960" y="6070680"/>
              <a:ext cx="38088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2984400" y="6240600"/>
            <a:ext cx="330120" cy="572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84400" y="6240600"/>
                      <a:ext cx="33012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 flipV="1">
              <a:off x="4635360" y="3911040"/>
              <a:ext cx="1296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4483080" y="3382920"/>
            <a:ext cx="295200" cy="5032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483080" y="3382920"/>
                      <a:ext cx="29520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for Rotational Moti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a net torque exerted on a rigid body its state of rotation (    ) will change depend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net tor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 inertia of object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net torque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the net torque exerted on a body is equal to the product of the rotational inertia and the angular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is is Newton’s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aw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22640" y="5407200"/>
          <a:ext cx="54529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5407200"/>
                    <a:ext cx="5452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179800" y="2805120"/>
          <a:ext cx="483048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9800" y="2805120"/>
                    <a:ext cx="48304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847880" y="1539720"/>
          <a:ext cx="355680" cy="4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7880" y="1539720"/>
                    <a:ext cx="35568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282840" y="1878120"/>
          <a:ext cx="57312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2840" y="1878120"/>
                    <a:ext cx="5731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2-05T17:31:46Z</dcterms:modified>
  <cp:revision>50</cp:revision>
  <dc:subject/>
  <dc:title>Phy 211: General Physics I</dc:title>
</cp:coreProperties>
</file>