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2240" y="698040"/>
            <a:ext cx="4645080" cy="348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6D0070-71DA-4FF2-82FD-14346B1ED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CD9490-CEBA-4F8C-AE51-D2B4B31F6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4B2-4322-4C23-B43B-06EA965BB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5640" y="837720"/>
            <a:ext cx="8636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15640" y="3584160"/>
            <a:ext cx="8636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D2F-EACB-4303-A973-A0657126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5640" y="83772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0760" y="83772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5640" y="358416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0760" y="358416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6FE-EDB1-4B39-B817-6E40ADA9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5640" y="837720"/>
            <a:ext cx="27806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837720"/>
            <a:ext cx="27806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5920" y="837720"/>
            <a:ext cx="27806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15640" y="3584160"/>
            <a:ext cx="27806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584160"/>
            <a:ext cx="27806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5920" y="3584160"/>
            <a:ext cx="27806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B85-9B74-4EBE-B1A6-D98F2A2C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15640" y="8377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000-B9A6-4E30-84E7-032B923C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5640" y="8377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B4D-6A4D-4B69-A9FD-98E48C86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5640" y="837720"/>
            <a:ext cx="421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0760" y="837720"/>
            <a:ext cx="421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334-A43A-4F97-8DB6-78D32BA2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95BE-2C36-493B-86A9-0BB206E9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53800"/>
            <a:ext cx="7772400" cy="29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518-15F3-4419-AB8C-01B3B2EA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5640" y="83772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837720"/>
            <a:ext cx="421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15640" y="358416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6FF-1B98-4BF2-8813-7C5B386B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5640" y="837720"/>
            <a:ext cx="421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83772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0760" y="358416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F90-4BA2-4845-B33B-3762DED3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5640" y="83772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0760" y="837720"/>
            <a:ext cx="42141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5640" y="3584160"/>
            <a:ext cx="863604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160-6D98-4768-AC09-E4F08FF4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5640" y="8377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0B01-C16E-4AC7-BC13-72B4D87BC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4840" cy="361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Phy 211: General Physics I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iences are ultimately based on observations of the natural (&amp; unnatural)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2 types of observ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ive, touchy-fee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xample: the outside temperature is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hot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, based on a number and a reference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ative observations are referred to a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Example: the outside temperature is 80</a:t>
            </a:r>
            <a:r>
              <a:rPr b="1" lang="en-US" sz="1600" spc="-1" strike="noStrike" baseline="30000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uantitative observations are only as reliable as the measurement device and the individual(s) performing the 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accuracy associated with a measurement (or set of measurements) is the often specified as the % Err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precision associated with a set of measurements is the often specified as the % Rang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tandard deviation is similar to ½ the range value for a set of 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324160" y="4635360"/>
          <a:ext cx="40384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4635360"/>
                    <a:ext cx="4038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492200" y="5481720"/>
          <a:ext cx="654048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2200" y="5481720"/>
                    <a:ext cx="65404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Errors in Measuremen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rror associated with calculated physical quantities, such as the area of a circle, can be estimated by the application of a little calcul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or a quantity f dependent on measured variables x, y, …, i.e.  f(x, y, …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Error (or uncertainty) =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where dx is ½ the range of x, dy is ½ the range of y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ample 1:  Consider a circle with a measured radius(r) of 0.10 m +/- 0.0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circle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(0.10 m)</a:t>
            </a: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= 0.031 m</a:t>
            </a: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ample 2:  Consider a sphere with a measured radius(r) of 0.10 m +/- 0.0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Arial"/>
              </a:rPr>
              <a:t>sphere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=(4/3)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(0.10 m)</a:t>
            </a: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= 0.0043 m</a:t>
            </a: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31880" y="4006800"/>
          <a:ext cx="643392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880" y="4006800"/>
                    <a:ext cx="64339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733920" y="1774800"/>
          <a:ext cx="263520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774800"/>
                    <a:ext cx="263520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39800" y="3540240"/>
          <a:ext cx="537696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800" y="3540240"/>
                    <a:ext cx="53769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762120" y="6008760"/>
          <a:ext cx="593064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6008760"/>
                    <a:ext cx="59306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752400" y="5375160"/>
          <a:ext cx="5337360" cy="5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00" y="5375160"/>
                    <a:ext cx="53373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ystems of Measuremen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1600" y="837720"/>
            <a:ext cx="85093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ts systems for measurement of physical qua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common unit systems are the metric and the USC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onsistency, the l’Systeme Internationale (or SI) was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 system is a special set of 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System (SI) base un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ilogram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ter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lv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mpe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del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mount of substa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f the other SI units are derived from these base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xamples of derived uni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 Newton = 1 N = 1 kg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/s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 Joule = 1 J = 1 kg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/s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 Coulomb = 1 C = 1 A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mmon Metric Prefix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365800"/>
            <a:ext cx="85345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Using Metric prefix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 mm = 1x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5 m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35 x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 or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.5 x 10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 kg = 1x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g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2 kg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12 x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g or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.2 x 10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99880" y="838080"/>
          <a:ext cx="8297640" cy="4265640"/>
        </p:xfrm>
        <a:graphic>
          <a:graphicData uri="http://schemas.openxmlformats.org/drawingml/2006/table">
            <a:tbl>
              <a:tblPr/>
              <a:tblGrid>
                <a:gridCol w="2074320"/>
                <a:gridCol w="2074320"/>
                <a:gridCol w="2074680"/>
                <a:gridCol w="207432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,000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Unit Convers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hysics, converting units from one unit system to another (especially within the Metric system) can appear daunting at first glance.  However, with a little guidance, and a lot of practice, you can develop the necessary skill set to master this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Example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 How is 25.2 miles/hour expressed in m/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{assign mi units to the denominator and hr units to the numerator of the conversion facto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c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{assign m units to the numerator and s units to the denominator of the conversion factor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{assign the corresponding value to its unit, 1 mi = 1609 m &amp; 1 hr = 3600 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69960" y="4765680"/>
          <a:ext cx="457200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9960" y="4765680"/>
                    <a:ext cx="45720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951200" y="3257640"/>
          <a:ext cx="402084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1200" y="3257640"/>
                    <a:ext cx="40208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905120" y="5997600"/>
          <a:ext cx="419076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5997600"/>
                    <a:ext cx="41907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72400" cy="63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Length, Time &amp; Mas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1-D measure of d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ies such as area and volume, and their associated units, are ultimately derived from measures of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inition of SI Unit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The meter is the length of the path traveled by light (in vacuum) during a time interval of 1/299,792,458 s (or roughly 3.33564 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Examples of units derived from length (in this case radius, 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rea of a circle = A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circle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{units are m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olume of a sphere = V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Arial"/>
              </a:rPr>
              <a:t>sphere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{units are m</a:t>
            </a:r>
            <a:r>
              <a:rPr b="0" lang="en-US" sz="2000" spc="-1" strike="noStrike" baseline="30000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i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physical quantity that measures ei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id an event take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uration of th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inition of the SI Unit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second is the time taken by 9,192,631,770 oscillations of the light emitted by a cesium-133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s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measure of inertia for a body (or loosely speaking the amount of matter pres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inition of the SI Unit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kilogram is the amount of mass in a platinum-iridium cylinder of 3.9 cm height and diam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178160" y="3124080"/>
          <a:ext cx="83844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8160" y="3124080"/>
                    <a:ext cx="8384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23:00:17Z</dcterms:created>
  <dc:creator>Tony Zable</dc:creator>
  <dc:description/>
  <dc:language>en-US</dc:language>
  <cp:lastModifiedBy>Tony Zable</cp:lastModifiedBy>
  <dcterms:modified xsi:type="dcterms:W3CDTF">2007-09-16T21:31:26Z</dcterms:modified>
  <cp:revision>60</cp:revision>
  <dc:subject/>
  <dc:title>Phy 101: Fundamentals of Physics I</dc:title>
</cp:coreProperties>
</file>