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79B0C6-7B46-423B-A37E-FDBBE818B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ys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be thought of as a single object consisting of a collection of atoms/molecules that are grouped to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1FD-EF9B-49A4-AFCE-D7B3CECA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800-12CE-4D9B-AE5E-5F614D18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9B3D-432B-44D2-B81B-AFB3B5EC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100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0080" y="10368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100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0080" y="3639600"/>
            <a:ext cx="2846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021-DA32-4C3A-806B-1C9F6BFB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E88-8B6C-4482-B0AB-E283ED51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55F-262E-4EB9-A1F8-B295B4ED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F35-6A3B-4549-83B9-F3F33ABA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5F1F-F5A9-498C-8D8A-03A01EAB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75840"/>
            <a:ext cx="8229600" cy="27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8C2-86F2-42F6-AEC4-33202262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846B-D80F-4174-B49D-9B5453B0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800" y="36396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61D-F4D8-4BCD-A509-E556DA8E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66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800" y="1036800"/>
            <a:ext cx="43135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3639600"/>
            <a:ext cx="883944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798-1EE8-4B6A-80E9-D0277F9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2B42-50EC-4C4E-BBC2-3C2572871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4560" cy="371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114560" y="0"/>
            <a:ext cx="8029440" cy="3636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95440" y="3886200"/>
            <a:ext cx="802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9: Center of Mass &amp; Linear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nservation of Momentum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(Examples)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036800"/>
            <a:ext cx="8839440" cy="498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listic pend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body collis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 can’t solve 3-body systems…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inelastic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re-colli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≠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ost-coll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ly elastic (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re-collisio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Arial"/>
              </a:rPr>
              <a:t>post-coll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s in 2-D or 3-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momentum is conserved b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46280" y="4950000"/>
          <a:ext cx="696132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6280" y="4950000"/>
                    <a:ext cx="69613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63720" y="3914640"/>
          <a:ext cx="60912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3720" y="3914640"/>
                    <a:ext cx="6091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276720" y="2044800"/>
          <a:ext cx="91440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620720" y="5769000"/>
          <a:ext cx="689616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20720" y="5769000"/>
                    <a:ext cx="689616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276720" y="2044800"/>
          <a:ext cx="914400" cy="19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20448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tes on Collisions &amp; Forc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44640"/>
            <a:ext cx="853416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collisions, the forces gener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 in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call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ulsive forc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impact forces or collision fo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vary in intensity/magnitude during the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escribed by an average collision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lf club collides with a 0.1 kg golf ball (initially at rest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0.01s.  The velocity of the ball following the impact is 25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mpulse exerted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ll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impulsive force exerted on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impulsive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rted o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12920" y="2736720"/>
          <a:ext cx="384984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2736720"/>
                    <a:ext cx="384984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474920" y="4432320"/>
          <a:ext cx="63388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4920" y="4432320"/>
                    <a:ext cx="6338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205000" y="5246640"/>
          <a:ext cx="4218120" cy="6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5000" y="5246640"/>
                    <a:ext cx="421812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178000" y="6118200"/>
          <a:ext cx="439740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78000" y="6118200"/>
                    <a:ext cx="43974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ne Descartes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85520"/>
            <a:ext cx="6154920" cy="39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t French mathematician &amp; philoso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oward end of Galileo’s car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d the nature of collisions betwee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introduced the concept of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26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efined momentum (“vis-à-vis”) as the product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e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d the Law of Conservation of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80692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Linear Moment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5240" y="1131840"/>
            <a:ext cx="8723160" cy="54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momentum (    ) represents inertia in mo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wton momentum as the “quantity of motio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ually, the effort required to bring a moving object to rest depends not only on its mass (inertia) but also on how fast it is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um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ntity with the same direction as the object’s 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its are k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ton’s 1</a:t>
            </a:r>
            <a:r>
              <a:rPr b="1" lang="en-US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Law revisi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momentum of an object will remain constant unless it is acted upon by a net force (or impul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60440" y="2911320"/>
          <a:ext cx="1535400" cy="5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2911320"/>
                    <a:ext cx="153540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992400" y="1117440"/>
          <a:ext cx="30492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2400" y="1117440"/>
                    <a:ext cx="3049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enter of Mas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4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nter of M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   ) refers to the average location of mass for a defined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the center of mass, take the sum of each mass multiplied by its position vector and divide by the total mass of the system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, if the objects in the system are in motion, the velocity of the system (center of mass)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syste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e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e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c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of all bodies even if they are changing individually will always have values such that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=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629080" y="870120"/>
          <a:ext cx="37764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9080" y="870120"/>
                    <a:ext cx="3776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790560" y="2379600"/>
          <a:ext cx="6478560" cy="12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2379600"/>
                    <a:ext cx="647856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206360" y="4186080"/>
          <a:ext cx="5605560" cy="117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6360" y="4186080"/>
                    <a:ext cx="560556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Impulse-Momentum Theore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, can be rewritten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rranging ter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Net Impuls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Impulse associated with an applied fo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 units for impulse are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constant force (or average force)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u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mplifi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Impulse represents simultaneous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duct of the force times the ti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ge in linear momentum of the obje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636560" y="1266840"/>
          <a:ext cx="4660920" cy="77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6560" y="1266840"/>
                    <a:ext cx="466092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517760" y="2212920"/>
          <a:ext cx="402120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7760" y="2212920"/>
                    <a:ext cx="402120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54120" y="3772080"/>
          <a:ext cx="2219400" cy="66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54120" y="3772080"/>
                    <a:ext cx="221940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569960" y="5230800"/>
          <a:ext cx="2065320" cy="47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69960" y="5230800"/>
                    <a:ext cx="20653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222880" y="6076800"/>
          <a:ext cx="74628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22880" y="6076800"/>
                    <a:ext cx="7462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880240" y="6440400"/>
          <a:ext cx="2149200" cy="408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80240" y="6440400"/>
                    <a:ext cx="214920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Notes on Impulse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s always occur as action-reaction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lationship is observed in many “real world”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bile safe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h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mple z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rofoam spac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nis: racket string 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: “juiced” baseballs &amp; baseball bats (corked &amp; aluminum vs. w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f: the “spring-like” effect of golf club 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ing gloves: (lower impulsive forces in the h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A Superman Proble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well known that bullets and missiles bounce off Superman’s chest.  Suppose a bad guy sprays Superman’s chest with 0.003 kg bullets traveling at a speed of 300 m/s (fired from a machine gun at a rate of 100 rounds/min).  Each bullet bounces straight back with no loss in spe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What is the impulse exerted on Superman’s chest by a single bull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average force exerted by the stream of bullets on Superman’s ch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176640" y="2637000"/>
            <a:ext cx="2790720" cy="1951920"/>
            <a:chOff x="3176640" y="2637000"/>
            <a:chExt cx="2790720" cy="1951920"/>
          </a:xfrm>
        </p:grpSpPr>
        <p:sp>
          <p:nvSpPr>
            <p:cNvPr id="89" name=""/>
            <p:cNvSpPr/>
            <p:nvPr/>
          </p:nvSpPr>
          <p:spPr>
            <a:xfrm>
              <a:off x="3268800" y="2637000"/>
              <a:ext cx="2698560" cy="19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76640" y="3048120"/>
              <a:ext cx="18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520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3144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llision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3000" y="1252440"/>
            <a:ext cx="8645400" cy="497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fic type of interaction between 2 objects.  The basic assumptions of a colli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is short lived compared to the time of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latively large force acts on each colliding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on of one or both objects changes abruptly following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lean separation between the state of the object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sion vs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classifications for coll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 ela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ding objects bounce off each other and no energy is lost due to heat formation or deformation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er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 inela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iding objects stick together 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conserv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what inelas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sically all other type of collisions): KE is not con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75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Conservation of Linear Momentum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5240" y="1397160"/>
            <a:ext cx="8723160" cy="39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total linear momentum of a system will remain constant when n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et force acts upon the system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momentum vectors may change due to collisions, etc. but the linear momentum for the system remain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solving collision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all information is not known/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implify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omentum is even more fundamental than Newton’s Law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16120" y="2116080"/>
          <a:ext cx="728172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116080"/>
                    <a:ext cx="72817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09:15Z</dcterms:created>
  <dc:creator>Tony Zable</dc:creator>
  <dc:description/>
  <dc:language>en-US</dc:language>
  <cp:lastModifiedBy>Tony Zable</cp:lastModifiedBy>
  <dcterms:modified xsi:type="dcterms:W3CDTF">2006-11-28T21:52:44Z</dcterms:modified>
  <cp:revision>39</cp:revision>
  <dc:subject/>
  <dc:title>Phy 211: General Physics I</dc:title>
</cp:coreProperties>
</file>