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EA014C-2E80-49B4-9715-87C7C4BD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22A-ABF6-415A-8BF4-23961903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011-3B01-42F7-AF64-BB9F9F5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A90-17DD-4BB8-9345-ADF6BF96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BAD-EB63-451F-979B-86D0BA50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C83-E1B6-4B4D-922B-4DAB061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B2E-BFF2-44CD-A9CF-E3EC6E1F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F3A-CBA6-4583-89A9-89618445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375-90D0-484F-8A28-B5530154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57B-B0C1-4DBD-BB35-E7F5D69A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737-B461-4158-9467-182AD9F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DF8-B0A7-4F98-B82C-CB67B0CB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395-B9BA-4350-B986-A1A9702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3491-01D5-474B-82EA-D450D6EA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5440" y="3886200"/>
            <a:ext cx="802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: Center of Mass &amp; Line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Momentum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istic pend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body colli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can’t solve 3-body systems…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in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s in 2-D or 3-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mentum is conserved b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46280" y="4950000"/>
          <a:ext cx="696132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50000"/>
                    <a:ext cx="6961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63720" y="3914640"/>
          <a:ext cx="6091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3914640"/>
                    <a:ext cx="609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620720" y="5769000"/>
          <a:ext cx="689616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720" y="5769000"/>
                    <a:ext cx="689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Collisions &amp;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4464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ollisions, the forces gen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 in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ive fo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impact forces or collision 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vary in intensity/magnitude during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escribed by an average collision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lf club collides with a 0.1 kg golf ball (initially at rest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0.01s.  The velocity of the ball following the impact is 2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exerte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 exerted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rted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12920" y="2736720"/>
          <a:ext cx="38498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736720"/>
                    <a:ext cx="38498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74920" y="4432320"/>
          <a:ext cx="6338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4432320"/>
                    <a:ext cx="633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05000" y="5246640"/>
          <a:ext cx="42181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5246640"/>
                    <a:ext cx="4218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178000" y="6118200"/>
          <a:ext cx="4397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8000" y="6118200"/>
                    <a:ext cx="4397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ne Descart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85520"/>
            <a:ext cx="615492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rench mathematician &amp; philos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oward end of Galileo’s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the nature of collisions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roduced the concept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6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fined momentum (“vis-à-vis”) as the produ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e Law of 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069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240" y="1131840"/>
            <a:ext cx="872316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omentum (    ) represents inertia in 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ton momentum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, the effort required to bring a 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are k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ton’s 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60440" y="2911320"/>
          <a:ext cx="153540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911320"/>
                    <a:ext cx="15354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992400" y="1117440"/>
          <a:ext cx="30492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2400" y="1117440"/>
                    <a:ext cx="304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er of Mas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refers to the average location of mass for a defined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center of mass, take the sum of each mass multiplied by its position vector and divide by the total mass of the syste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if the objects in the system are in motion, the velocity of the system (center of mass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e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all bodies even if they are changing individually will always have values such th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629080" y="870120"/>
          <a:ext cx="37764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870120"/>
                    <a:ext cx="377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90560" y="2379600"/>
          <a:ext cx="647856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2379600"/>
                    <a:ext cx="64785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06360" y="4186080"/>
          <a:ext cx="5605560" cy="11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6360" y="4186080"/>
                    <a:ext cx="56055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Impulse-Momentum Theor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, can be rewritte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ranging te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Net Impuls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Impulse associated with an applied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impulse ar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onstant force (or average force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plifi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Impulse represents simultaneous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of the force times the 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n linear momentum of the obje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36560" y="1266840"/>
          <a:ext cx="4660920" cy="77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266840"/>
                    <a:ext cx="466092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517760" y="2212920"/>
          <a:ext cx="402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7760" y="2212920"/>
                    <a:ext cx="402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54120" y="3772080"/>
          <a:ext cx="22194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4120" y="3772080"/>
                    <a:ext cx="22194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569960" y="5230800"/>
          <a:ext cx="206532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69960" y="5230800"/>
                    <a:ext cx="20653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222880" y="6076800"/>
          <a:ext cx="746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2880" y="6076800"/>
                    <a:ext cx="746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80240" y="6440400"/>
          <a:ext cx="2149200" cy="40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0240" y="6440400"/>
                    <a:ext cx="21492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Impuls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s always occur as action-reactio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lationship is observed in many “real world”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e saf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h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mpl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sp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: racket string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: “juiced” baseballs &amp; baseball bats (corked &amp; aluminum vs.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f: the “spring-like” effect of golf club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ing gloves: (lower impulsive forces in the h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 Superman Probl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impulse exerted on Superman’s chest by a single bull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average force exerted by the stream of bullets on Superman’s ch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176640" y="2637000"/>
            <a:ext cx="2790720" cy="1951920"/>
            <a:chOff x="3176640" y="2637000"/>
            <a:chExt cx="2790720" cy="1951920"/>
          </a:xfrm>
        </p:grpSpPr>
        <p:sp>
          <p:nvSpPr>
            <p:cNvPr id="89" name=""/>
            <p:cNvSpPr/>
            <p:nvPr/>
          </p:nvSpPr>
          <p:spPr>
            <a:xfrm>
              <a:off x="3268800" y="2637000"/>
              <a:ext cx="2698560" cy="19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76640" y="3048120"/>
              <a:ext cx="18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llis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3000" y="1252440"/>
            <a:ext cx="8645400" cy="49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type of interaction between 2 objects.  The basic assumptions of a coll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is short lived compared to the time of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vely large force acts on each collid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one or both objects changes abruptly following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lean separation between the state of the objec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 v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lassifications for coll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bounce off each other and no energy is lost due to heat formation or deformation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in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stick together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what ine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sically all other type of collisions): KE is not con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5240" y="1397160"/>
            <a:ext cx="8723160" cy="39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otal linear momentum of a system will remain constant when n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t force acts upon the system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omentum vectors may change due to collisions, etc. but the linear momentum for the system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olving coll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ll information is not known/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mplify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 is even more fundamental than Newton’s Law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16120" y="2116080"/>
          <a:ext cx="72817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116080"/>
                    <a:ext cx="7281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1-28T21:52:44Z</dcterms:modified>
  <cp:revision>39</cp:revision>
  <dc:subject/>
  <dc:title>Phy 211: General Physics I</dc:title>
</cp:coreProperties>
</file>