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4.png" ContentType="image/png"/>
  <Override PartName="/ppt/media/image17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png" ContentType="image/pn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2E7FD5-45F6-4E35-BF1C-80042E631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03D8F4-3922-4AEE-8865-48677C861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D2EE-8A9E-4C6C-8153-37EEA0A1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655-EF09-4E48-8638-6CBF16AC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D0B-176F-42CC-8728-1B94577B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6C8-BEFF-4021-B1E9-48F8726B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33C8-8E97-4EE7-BB1F-5086F877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7E7-00BA-45DF-825D-B2174B80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C47-ACF6-4983-BF31-79E623CD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C3D-21C8-418C-9A1B-7AF1E610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CE7-681B-4931-8AED-35C6DFA7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066-F874-4D5B-99B6-7F19CA46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108-8106-4298-9D62-CFC64CA8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CD4-5341-48D8-B2BF-559EEA9B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8C5E-4761-42B9-AF87-D46BD17A1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image" Target="../media/image1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8: Potential Energy &amp; Conservation of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eper Thoughts on Cons. of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sts have identified by experiment 3 fundamental conservation laws associated with isolated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servation of Electric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ed as accepted “facts”, these laws have allowed for experimental predictions that would not have been foreseen otherw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d to the discovery of the neutrino during neutron decay within the atomic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M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undamental in the prediction of new substance formed during chem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4064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servation of Electric Ch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edicts the formation of neutrons do to the collision of protons with electrons, a process called Electron Cap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as accepted “facts”, these laws have allowed for experimental predictions that would not have been foreseen other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Feynman on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720" y="1496520"/>
            <a:ext cx="7010280" cy="27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a fac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or if you wish, a law,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governing natural phenomena that are known to date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no known exception to this la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t is exact so far we know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 law is called conservation of ener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[it states that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there is a certain quantity, which we call energy that does not change in manifold changes which nature undergo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]. That is a most abstract ide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Photograph"/>
          <p:cNvPicPr/>
          <p:nvPr/>
        </p:nvPicPr>
        <p:blipFill>
          <a:blip r:embed="rId1"/>
          <a:stretch/>
        </p:blipFill>
        <p:spPr>
          <a:xfrm>
            <a:off x="7242120" y="1182600"/>
            <a:ext cx="1571760" cy="2228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8400" y="4100400"/>
            <a:ext cx="828180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cause it is a mathematical principle; it says that there is a numerical quantity, which does not change when something happens.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t is not a description of a mechanism, or anything concrete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t is just a strange fact that we can calculate some number, and when we finish watching nature go through her tricks and calculate the number again, it is the sam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18480" y="3484440"/>
            <a:ext cx="21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ichard Feynman (1918-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&amp; Potential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tential 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) is the energy associated with the configuration of a system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position of an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deformation of a sp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Energy is a calculated quantity that represents the stored energy within the system (associated with a force) that has the potential to perform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of Potential 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ravitational PE (U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grav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The potential for gravitational force to perform work due to an object’s elevation, defin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lastic PE (U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elastic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potential for elastic force to perform work due to a spring’s deformation, defin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71680" y="4834080"/>
          <a:ext cx="156384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1680" y="4834080"/>
                    <a:ext cx="156384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260880" y="5940360"/>
          <a:ext cx="1742760" cy="4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0880" y="5940360"/>
                    <a:ext cx="17427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ve vs. Nonconservative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servative Fo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onfiguration of a system is altered, a force performs work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Reversing the configuration of the system results in the force performing work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The force is conservative if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= -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ce that performs work independent of the path take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ce in which the net work it performs around a closed path is always zero 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0 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for closed path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itational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Elastic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sp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nd Electric force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nconservative Fo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k performed by the force depends on the path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configuration of a system is altered then reversed, the net work performed by the force is not zero: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0 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for closed path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53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results in energy transformed to therm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Drag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Dr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Kinetic friction 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kine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9000" y="3747960"/>
            <a:ext cx="889776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With Kinetic Friction (nonconservative fo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 kg object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 m/s) travels up a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ine and back down against a 1.7 N kinetic friction force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 Block will not travel up as far as previous ex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w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Sliding on an Incline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036440"/>
            <a:ext cx="799956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No friction (conservative fo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 kg object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5 m/s) travels up a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ine and back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p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he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 by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ow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total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form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57400" y="2041560"/>
          <a:ext cx="384336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2041560"/>
                    <a:ext cx="38433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"/>
          <p:cNvGrpSpPr/>
          <p:nvPr/>
        </p:nvGrpSpPr>
        <p:grpSpPr>
          <a:xfrm>
            <a:off x="6122160" y="1635120"/>
            <a:ext cx="2817000" cy="1487520"/>
            <a:chOff x="6122160" y="1635120"/>
            <a:chExt cx="2817000" cy="1487520"/>
          </a:xfrm>
        </p:grpSpPr>
        <p:sp>
          <p:nvSpPr>
            <p:cNvPr id="66" name=""/>
            <p:cNvSpPr/>
            <p:nvPr/>
          </p:nvSpPr>
          <p:spPr>
            <a:xfrm flipH="1">
              <a:off x="6319800" y="1635120"/>
              <a:ext cx="2619360" cy="148752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739400">
              <a:off x="6181560" y="2610000"/>
              <a:ext cx="511200" cy="3729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753240" y="1836720"/>
              <a:ext cx="1519200" cy="836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707160" y="1697040"/>
              <a:ext cx="1471680" cy="806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"/>
            <p:cNvCxnSpPr>
              <a:stCxn id="68" idx="0"/>
              <a:endCxn id="69" idx="0"/>
            </p:cNvCxnSpPr>
            <p:nvPr/>
          </p:nvCxnSpPr>
          <p:spPr>
            <a:xfrm flipV="1" rot="16200000">
              <a:off x="8155440" y="1720800"/>
              <a:ext cx="141840" cy="92880"/>
            </a:xfrm>
            <a:prstGeom prst="curvedConnector5">
              <a:avLst>
                <a:gd name="adj1" fmla="val 96437"/>
                <a:gd name="adj2" fmla="val 49805"/>
                <a:gd name="adj3" fmla="val 96437"/>
              </a:avLst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  <p:graphicFrame>
        <p:nvGraphicFramePr>
          <p:cNvPr id="71" name=""/>
          <p:cNvGraphicFramePr/>
          <p:nvPr/>
        </p:nvGraphicFramePr>
        <p:xfrm>
          <a:off x="1181160" y="2787480"/>
          <a:ext cx="4309920" cy="5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2787480"/>
                    <a:ext cx="430992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468600" y="3279600"/>
          <a:ext cx="4376880" cy="45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8600" y="3279600"/>
                    <a:ext cx="437688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201680" y="5097600"/>
          <a:ext cx="5545080" cy="43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01680" y="5097600"/>
                    <a:ext cx="554508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192320" y="5786280"/>
          <a:ext cx="550692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92320" y="5786280"/>
                    <a:ext cx="55069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192320" y="6454800"/>
          <a:ext cx="6953040" cy="40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92320" y="6454800"/>
                    <a:ext cx="69530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Defining or Identifying a System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3672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ystem is a defined object (or group of objects) that are considered distinct from the rest of its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defined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06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orces associated strictly with objects within the defined system are deeme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ternal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79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nternal force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do not transf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energy into/out of the system when performing work within th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 The attractive forces that hold the atoms of a ball together.  These forces are ignored when applying Newton’s 2</a:t>
            </a:r>
            <a:r>
              <a:rPr b="0" lang="en-US" sz="1600" spc="-1" strike="noStrike" baseline="30000">
                <a:solidFill>
                  <a:srgbClr val="990033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Law to the b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06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orces exerted from outside the defined system are deemed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ternal fo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7936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xternal force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transfer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nergy into/out of the system when performing work on a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 The gravitational force that performs work on a falling object (the system) increases the ball system’s (kinetic) energ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When the ball </a:t>
            </a:r>
            <a:r>
              <a:rPr b="1" lang="en-US" sz="1600" spc="-1" strike="noStrike" u="sng">
                <a:solidFill>
                  <a:srgbClr val="990033"/>
                </a:solidFill>
                <a:uFillTx/>
                <a:latin typeface="Arial"/>
              </a:rPr>
              <a:t>and</a:t>
            </a: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 the earth are together defined as the system, the work performed by the gravitational force on the ball does NOT transfer energy into the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ropriate of a system determines when a force is considered internal or external &amp; can go a long way toward simplifying the analysis of a physics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tal energy associated with a defined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908000" y="6213600"/>
          <a:ext cx="5080320" cy="48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6213600"/>
                    <a:ext cx="508032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on of Mechanical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036440"/>
            <a:ext cx="883944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echanical systems where on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ces are present, the total mechanical energy of the system is con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within the system may transform from one type of mechanical energy to another.  When this occur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39760" y="3592440"/>
          <a:ext cx="53024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3592440"/>
                    <a:ext cx="53024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682640" y="2274840"/>
          <a:ext cx="577692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2640" y="2274840"/>
                    <a:ext cx="57769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46240" y="4179960"/>
            <a:ext cx="85788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33"/>
                </a:solidFill>
                <a:latin typeface="Arial"/>
              </a:rPr>
              <a:t>Example: 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 1) A simple pendulum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990033"/>
                </a:solidFill>
                <a:latin typeface="Arial"/>
              </a:rPr>
              <a:t> 2) An ideal 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79480" y="4651200"/>
            <a:ext cx="3646440" cy="2245680"/>
            <a:chOff x="1779480" y="4651200"/>
            <a:chExt cx="3646440" cy="2245680"/>
          </a:xfrm>
        </p:grpSpPr>
        <p:sp>
          <p:nvSpPr>
            <p:cNvPr id="93" name=""/>
            <p:cNvSpPr/>
            <p:nvPr/>
          </p:nvSpPr>
          <p:spPr>
            <a:xfrm>
              <a:off x="3083040" y="6491160"/>
              <a:ext cx="1249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33520" y="5791320"/>
              <a:ext cx="29556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587680" y="4815000"/>
              <a:ext cx="884160" cy="101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465000" y="4786200"/>
              <a:ext cx="4320" cy="135936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22800" y="6194520"/>
              <a:ext cx="29340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67160" y="5932440"/>
              <a:ext cx="160020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7280" y="6343560"/>
              <a:ext cx="63180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102200" y="5925960"/>
              <a:ext cx="0" cy="40968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79480" y="5772240"/>
              <a:ext cx="69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"/>
            <p:cNvCxnSpPr>
              <a:stCxn id="94" idx="4"/>
              <a:endCxn id="97" idx="2"/>
            </p:cNvCxnSpPr>
            <p:nvPr/>
          </p:nvCxnSpPr>
          <p:spPr>
            <a:xfrm flipH="1" rot="16200000">
              <a:off x="2771280" y="5783040"/>
              <a:ext cx="262080" cy="842400"/>
            </a:xfrm>
            <a:prstGeom prst="curvedConnector2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  <a:tailEnd len="med" type="arrow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2913120" y="4651200"/>
              <a:ext cx="1112760" cy="163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4202280" y="5697360"/>
            <a:ext cx="268200" cy="416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202280" y="5697360"/>
                      <a:ext cx="268200" cy="41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4216320" y="6167520"/>
            <a:ext cx="1209600" cy="4125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216320" y="6167520"/>
                      <a:ext cx="1209600" cy="41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6019920" y="4614840"/>
            <a:ext cx="3124080" cy="2044080"/>
            <a:chOff x="6019920" y="4614840"/>
            <a:chExt cx="3124080" cy="2044080"/>
          </a:xfrm>
        </p:grpSpPr>
        <p:sp>
          <p:nvSpPr>
            <p:cNvPr id="109" name=""/>
            <p:cNvSpPr/>
            <p:nvPr/>
          </p:nvSpPr>
          <p:spPr>
            <a:xfrm>
              <a:off x="6910560" y="5545080"/>
              <a:ext cx="29520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3440" y="6151680"/>
              <a:ext cx="293760" cy="28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61120" y="6300720"/>
              <a:ext cx="63180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50000" y="5665680"/>
              <a:ext cx="0" cy="627120"/>
            </a:xfrm>
            <a:prstGeom prst="line">
              <a:avLst/>
            </a:prstGeom>
            <a:ln w="19080">
              <a:solidFill>
                <a:srgbClr val="99003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49880" y="6253200"/>
              <a:ext cx="124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5519880"/>
              <a:ext cx="1249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ff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0"/>
            <a:stretch/>
          </p:blipFill>
          <p:spPr>
            <a:xfrm>
              <a:off x="6375240" y="4614840"/>
              <a:ext cx="134172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142040" y="5681520"/>
              <a:ext cx="631800" cy="0"/>
            </a:xfrm>
            <a:prstGeom prst="line">
              <a:avLst/>
            </a:prstGeom>
            <a:ln cap="rnd" w="28440">
              <a:solidFill>
                <a:srgbClr val="9900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067520" y="5660640"/>
              <a:ext cx="0" cy="63180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7845480" y="6087960"/>
            <a:ext cx="29520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845480" y="6087960"/>
                      <a:ext cx="2952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"/>
            <p:cNvGraphicFramePr/>
            <p:nvPr/>
          </p:nvGraphicFramePr>
          <p:xfrm>
            <a:off x="7832880" y="5497560"/>
            <a:ext cx="1311120" cy="446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832880" y="5497560"/>
                      <a:ext cx="1311120" cy="4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Interpreting a Potential Energy Graph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880" y="879480"/>
            <a:ext cx="8839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tential graph is plot of U vs r for a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of the graph defined the force exerted along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039760" y="1751040"/>
          <a:ext cx="286416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1751040"/>
                    <a:ext cx="286416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263520" y="2556000"/>
            <a:ext cx="2143080" cy="1864800"/>
            <a:chOff x="263520" y="2556000"/>
            <a:chExt cx="2143080" cy="1864800"/>
          </a:xfrm>
        </p:grpSpPr>
        <p:sp>
          <p:nvSpPr>
            <p:cNvPr id="127" name=""/>
            <p:cNvSpPr/>
            <p:nvPr/>
          </p:nvSpPr>
          <p:spPr>
            <a:xfrm flipV="1">
              <a:off x="633240" y="2556000"/>
              <a:ext cx="0" cy="156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3240" y="4117680"/>
              <a:ext cx="177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2038320" y="4092480"/>
            <a:ext cx="239760" cy="328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38320" y="4092480"/>
                      <a:ext cx="23976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263520" y="2654280"/>
            <a:ext cx="306360" cy="342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3520" y="2654280"/>
                      <a:ext cx="306360" cy="34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620640" y="3508200"/>
              <a:ext cx="1701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4" name=""/>
            <p:cNvGraphicFramePr/>
            <p:nvPr/>
          </p:nvGraphicFramePr>
          <p:xfrm>
            <a:off x="819000" y="2874960"/>
            <a:ext cx="1451160" cy="539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19000" y="2874960"/>
                      <a:ext cx="145116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6" name=""/>
          <p:cNvGrpSpPr/>
          <p:nvPr/>
        </p:nvGrpSpPr>
        <p:grpSpPr>
          <a:xfrm>
            <a:off x="3809880" y="2448000"/>
            <a:ext cx="5243400" cy="2028240"/>
            <a:chOff x="3809880" y="2448000"/>
            <a:chExt cx="5243400" cy="2028240"/>
          </a:xfrm>
        </p:grpSpPr>
        <p:graphicFrame>
          <p:nvGraphicFramePr>
            <p:cNvPr id="137" name=""/>
            <p:cNvGraphicFramePr/>
            <p:nvPr/>
          </p:nvGraphicFramePr>
          <p:xfrm>
            <a:off x="5810040" y="2448000"/>
            <a:ext cx="3240000" cy="695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810040" y="2448000"/>
                      <a:ext cx="3240000" cy="69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 flipV="1">
              <a:off x="4171680" y="2478960"/>
              <a:ext cx="0" cy="167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71680" y="4151160"/>
              <a:ext cx="173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5547960" y="4124160"/>
            <a:ext cx="235080" cy="352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547960" y="4124160"/>
                      <a:ext cx="235080" cy="35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3809880" y="2585880"/>
            <a:ext cx="299880" cy="366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809880" y="2585880"/>
                      <a:ext cx="299880" cy="36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" name=""/>
            <p:cNvSpPr/>
            <p:nvPr/>
          </p:nvSpPr>
          <p:spPr>
            <a:xfrm flipV="1">
              <a:off x="4160520" y="2839320"/>
              <a:ext cx="1535040" cy="603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67000" y="3438360"/>
              <a:ext cx="1679400" cy="37584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5911560" y="3482640"/>
            <a:ext cx="3141720" cy="6379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11560" y="3482640"/>
                      <a:ext cx="314172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9" name=""/>
          <p:cNvGrpSpPr/>
          <p:nvPr/>
        </p:nvGrpSpPr>
        <p:grpSpPr>
          <a:xfrm>
            <a:off x="333360" y="4554360"/>
            <a:ext cx="6841800" cy="2260800"/>
            <a:chOff x="333360" y="4554360"/>
            <a:chExt cx="6841800" cy="2260800"/>
          </a:xfrm>
        </p:grpSpPr>
        <p:graphicFrame>
          <p:nvGraphicFramePr>
            <p:cNvPr id="150" name=""/>
            <p:cNvGraphicFramePr/>
            <p:nvPr/>
          </p:nvGraphicFramePr>
          <p:xfrm>
            <a:off x="1927080" y="4554360"/>
            <a:ext cx="5248080" cy="763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927080" y="4554360"/>
                      <a:ext cx="5248080" cy="76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 flipV="1">
              <a:off x="695160" y="4817880"/>
              <a:ext cx="0" cy="167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160" y="6489720"/>
              <a:ext cx="173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2071440" y="6462720"/>
            <a:ext cx="235080" cy="352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071440" y="6462720"/>
                      <a:ext cx="23508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333360" y="4924440"/>
            <a:ext cx="299880" cy="366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33360" y="4924440"/>
                      <a:ext cx="299880" cy="3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 flipV="1">
              <a:off x="1083960" y="5009760"/>
              <a:ext cx="866880" cy="328680"/>
            </a:xfrm>
            <a:prstGeom prst="line">
              <a:avLst/>
            </a:prstGeom>
            <a:ln cap="rnd" w="28440">
              <a:solidFill>
                <a:srgbClr val="ff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/>
            <p:nvPr/>
          </p:nvCxnSpPr>
          <p:spPr>
            <a:xfrm flipV="1">
              <a:off x="690120" y="5107680"/>
              <a:ext cx="1122840" cy="1104120"/>
            </a:xfrm>
            <a:prstGeom prst="curvedConnector5">
              <a:avLst>
                <a:gd name="adj1" fmla="val 49903"/>
                <a:gd name="adj2" fmla="val 50000"/>
                <a:gd name="adj3" fmla="val 49903"/>
              </a:avLst>
            </a:prstGeom>
            <a:ln w="28440">
              <a:solidFill>
                <a:srgbClr val="0000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Work Done on a System by External Forc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defined system, 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external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orces that ar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t defin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in the system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et perform work up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forces transfer energy into or out of a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serv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ernal forces alter the U and 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.k.a. the mechanical energ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conserv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ernal forces may alter the mechanical ener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, K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well as the non-mechanical ener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inte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0066"/>
                </a:solidFill>
                <a:latin typeface="Arial"/>
              </a:rPr>
              <a:t>thermal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006640" y="2936880"/>
          <a:ext cx="524016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6640" y="2936880"/>
                    <a:ext cx="52401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971720" y="4614840"/>
          <a:ext cx="42163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1720" y="4614840"/>
                    <a:ext cx="42163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49480" y="6380280"/>
          <a:ext cx="6805440" cy="4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9480" y="6380280"/>
                    <a:ext cx="680544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onservation of Energ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the total energy associated with a system of objects represents the complete state of th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represents the transfer of energy into/out of a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 isolated system, the total energy within a system remains a constant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, for any 2 mo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965240" y="2457360"/>
          <a:ext cx="4824360" cy="4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2457360"/>
                    <a:ext cx="48243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308240" y="3882960"/>
          <a:ext cx="661968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8240" y="3882960"/>
                    <a:ext cx="66196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454040" y="5365800"/>
          <a:ext cx="597708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4040" y="5365800"/>
                    <a:ext cx="59770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06440" y="6303960"/>
          <a:ext cx="8277120" cy="42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440" y="6303960"/>
                    <a:ext cx="8277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6-11-14T21:41:53Z</dcterms:modified>
  <cp:revision>71</cp:revision>
  <dc:subject/>
  <dc:title>Phy 211: General Physics I</dc:title>
</cp:coreProperties>
</file>