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image37.png" ContentType="image/png"/>
  <Override PartName="/ppt/media/image40.wmf" ContentType="image/x-wmf"/>
  <Override PartName="/ppt/media/image39.jpeg" ContentType="image/jpeg"/>
  <Override PartName="/ppt/media/image41.wmf" ContentType="image/x-wmf"/>
  <Override PartName="/ppt/media/image42.jpeg" ContentType="image/jpeg"/>
  <Override PartName="/ppt/media/image9.wmf" ContentType="image/x-wmf"/>
  <Override PartName="/ppt/media/image38.jpeg" ContentType="image/jpeg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35.jpeg" ContentType="image/jpeg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0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2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B48-B1BC-4757-8A40-AD73BB03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D8F-DDB2-4291-9338-658B9A87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E94-DBC1-4208-9607-438ED150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F81-09DE-4BBB-8885-AE01D790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5AF-5F51-444C-8012-988488D6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05D-7D18-4330-B041-D0B2F3A6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27D-32E0-4F62-8D16-66617701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FD3-488B-4CF0-A758-6EB807E3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BC1-A244-4567-AE0F-7685E9FF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3B3-FA25-4614-8C69-5F931DA5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818-0126-4BF3-9F76-994AB5D2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AD4-8F29-4249-974B-87C6BE71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5B25-94F9-4DA2-9D1B-18FD8A061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0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image" Target="../media/image42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ienceworld.wolfram.com/biography/photo-credits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: Kinetic Energy &amp;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during Lifting &amp; Lower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Joey “blasting” his pecs with a bench press workout (assume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ta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lying Newton’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ork per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059360" y="1935000"/>
            <a:ext cx="4944960" cy="4216320"/>
            <a:chOff x="4059360" y="1935000"/>
            <a:chExt cx="4944960" cy="421632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rcRect l="0" t="15068" r="0" b="0"/>
            <a:stretch/>
          </p:blipFill>
          <p:spPr>
            <a:xfrm>
              <a:off x="4559400" y="3228840"/>
              <a:ext cx="4444920" cy="292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" name=""/>
            <p:cNvGrpSpPr/>
            <p:nvPr/>
          </p:nvGrpSpPr>
          <p:grpSpPr>
            <a:xfrm>
              <a:off x="4800600" y="2063520"/>
              <a:ext cx="4140360" cy="952560"/>
              <a:chOff x="4800600" y="2063520"/>
              <a:chExt cx="4140360" cy="952560"/>
            </a:xfrm>
          </p:grpSpPr>
          <p:sp>
            <p:nvSpPr>
              <p:cNvPr id="160" name=""/>
              <p:cNvSpPr/>
              <p:nvPr/>
            </p:nvSpPr>
            <p:spPr>
              <a:xfrm rot="5400000">
                <a:off x="4977720" y="2425320"/>
                <a:ext cx="952560" cy="228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400000">
                <a:off x="7860600" y="2425320"/>
                <a:ext cx="952560" cy="228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37160" y="2501640"/>
                <a:ext cx="2679840" cy="6372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800600" y="2489040"/>
                <a:ext cx="520560" cy="6336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20040" y="2501640"/>
                <a:ext cx="520920" cy="6372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 flipV="1">
              <a:off x="4737240" y="2552400"/>
              <a:ext cx="0" cy="1168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845040" y="1993680"/>
              <a:ext cx="12600" cy="520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857640" y="2590200"/>
              <a:ext cx="12600" cy="5209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6997680" y="1935000"/>
            <a:ext cx="57636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997680" y="1935000"/>
                      <a:ext cx="5763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"/>
            <p:cNvGraphicFramePr/>
            <p:nvPr/>
          </p:nvGraphicFramePr>
          <p:xfrm>
            <a:off x="4059360" y="2747880"/>
            <a:ext cx="538200" cy="507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59360" y="2747880"/>
                      <a:ext cx="538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7010280" y="2601720"/>
            <a:ext cx="559080" cy="558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601720"/>
                      <a:ext cx="5590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4" name=""/>
          <p:cNvGraphicFramePr/>
          <p:nvPr/>
        </p:nvGraphicFramePr>
        <p:xfrm>
          <a:off x="1168560" y="2039760"/>
          <a:ext cx="2226960" cy="1287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8560" y="2039760"/>
                    <a:ext cx="222696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93840" y="3795840"/>
          <a:ext cx="3902040" cy="81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3840" y="3795840"/>
                    <a:ext cx="39020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95280" y="5159520"/>
          <a:ext cx="4006800" cy="1285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5280" y="5159520"/>
                    <a:ext cx="4006800" cy="12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Elastic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1000" y="1036440"/>
            <a:ext cx="538488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astic (or “restoring”) force associated with the compression (or stretching of a simple spring increases linearly with the amount of deformation (this i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Hooke’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ssumptions are m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ing is ideal &amp; mass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ing obeys Hooke’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92240" y="4821120"/>
          <a:ext cx="758160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4821120"/>
                    <a:ext cx="758160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3"/>
          <a:srcRect l="0" t="0" r="0" b="24025"/>
          <a:stretch/>
        </p:blipFill>
        <p:spPr>
          <a:xfrm>
            <a:off x="5495760" y="965160"/>
            <a:ext cx="35942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Elastic Force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9320" y="1011240"/>
            <a:ext cx="5638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pring (k=10 N/m) attached to a wall at one end and a mass (1 kg) at the other.  The block is free to slide on a frictionless surface.  The block/spring system is compressed 0.5 m then rel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performed by the spring for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33360" y="4483080"/>
          <a:ext cx="652464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483080"/>
                    <a:ext cx="652464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"/>
          <p:cNvGrpSpPr/>
          <p:nvPr/>
        </p:nvGrpSpPr>
        <p:grpSpPr>
          <a:xfrm>
            <a:off x="5700600" y="927000"/>
            <a:ext cx="3218040" cy="3810240"/>
            <a:chOff x="5700600" y="927000"/>
            <a:chExt cx="3218040" cy="3810240"/>
          </a:xfrm>
        </p:grpSpPr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5702040" y="2189160"/>
              <a:ext cx="203040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5702040" y="1108080"/>
              <a:ext cx="197028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5700600" y="3305160"/>
              <a:ext cx="242568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516800" y="162576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1480" y="386064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7694640" y="1046160"/>
            <a:ext cx="709560" cy="496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94640" y="1046160"/>
                      <a:ext cx="709560" cy="4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8229600" y="3952800"/>
            <a:ext cx="689040" cy="4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229600" y="3952800"/>
                      <a:ext cx="6890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6678360" y="1282680"/>
              <a:ext cx="6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06960" y="2413080"/>
              <a:ext cx="6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50040" y="3517920"/>
              <a:ext cx="6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92840" y="927000"/>
              <a:ext cx="0" cy="381024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816520" y="466092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quilibriu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4873680"/>
            <a:ext cx="883908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 uni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tt (1 W = 1 J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also related to Force &amp;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5184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 of work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rate of energy transfer (work) due to an exerted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Net Pow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05400" y="2027160"/>
          <a:ext cx="10288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2027160"/>
                    <a:ext cx="10288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944800" y="3149640"/>
          <a:ext cx="219564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4800" y="3149640"/>
                    <a:ext cx="21956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324400" y="942840"/>
            <a:ext cx="3591000" cy="27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2430360" y="2276640"/>
          <a:ext cx="2241720" cy="814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30360" y="2276640"/>
                    <a:ext cx="22417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832120" y="5767560"/>
          <a:ext cx="3556080" cy="85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32120" y="5767560"/>
                    <a:ext cx="35560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855880" y="4060800"/>
          <a:ext cx="3576600" cy="83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55880" y="4060800"/>
                    <a:ext cx="35766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work output can be performed at various power r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der 100 J of work output accomplished over 2 different time interv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00 J over 1 s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100 J over 100 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900 kg automobile accelerates from 0 to 30 m/s in 5.8 s.  What is the average net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b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30 m/s, how much force does the road exert on this vehicle? Use the same power as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065320" y="2668680"/>
          <a:ext cx="22957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5320" y="2668680"/>
                    <a:ext cx="22957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6912000" y="2649600"/>
          <a:ext cx="216072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12000" y="2649600"/>
                    <a:ext cx="216072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45960" y="4113360"/>
          <a:ext cx="8445600" cy="89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5960" y="4113360"/>
                    <a:ext cx="8445600" cy="89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20840" y="5850000"/>
          <a:ext cx="762300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0840" y="5850000"/>
                    <a:ext cx="7623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Energy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s a scalar quantity associated with the state of an object (or system of obj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a calculated value that appears in nature and whose total quantity in a system always remains constant and accounted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said to be “Conserv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ly speaking, energy represents the “fuel” necessary for changes to occur in the universe and is often referred to as the capacity to perform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hink of energy as the “currency” associated with the “transactions” (forces!) that occur i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mechanical systems, energy is “spent” as force transactions are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ternatively, the exertion of force requires an “expenditure” of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energy are called Joules 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honor of James Prescott Jo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James Prescott Joul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818-1889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502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inventor &amp; scien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 in the efficiency of electric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the heat dissipated across a resistor in electrical circu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w known as Joules’ La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heat is produced by the motion of atoms and/o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ed with establishing the mechanical energy equivalent of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d in establishing the “Law of Energy Conserv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61240" y="1011240"/>
            <a:ext cx="2057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view: The Scalar (Dot) Produc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vectors                   can be multiplied to product a scalar resultant, called the scalar (or Dot)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properties of scalar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uaring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mportant Application: We will use the scalar product of the vectors of force and displacement to calculate work performed by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537240" y="1820880"/>
          <a:ext cx="22352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7240" y="1820880"/>
                    <a:ext cx="22352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343240" y="990720"/>
          <a:ext cx="157140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990720"/>
                    <a:ext cx="15714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130720" y="3147840"/>
          <a:ext cx="25146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30720" y="3147840"/>
                    <a:ext cx="2514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90800" y="3983040"/>
          <a:ext cx="150516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90800" y="3983040"/>
                    <a:ext cx="15051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203640" y="4338720"/>
          <a:ext cx="12682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4338720"/>
                    <a:ext cx="12682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689200" y="4692600"/>
          <a:ext cx="292752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89200" y="4692600"/>
                    <a:ext cx="2927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137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associated with an object’s state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energy is a scalar quantity that is never negative i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alar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ctor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kinetic energy for the x, y, and z components are add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inetic energy is relative to the motion of observer’s reference frame, since speed and velocity are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 object’s kinetic energy depends more on its speed than its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 change in an object’s speed will affect a change in its kinet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t compar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14760" y="2655720"/>
          <a:ext cx="496728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2655720"/>
                    <a:ext cx="496728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712960" y="1857240"/>
          <a:ext cx="437832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2960" y="1857240"/>
                    <a:ext cx="43783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736720" y="3421080"/>
          <a:ext cx="2300400" cy="4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6720" y="3421080"/>
                    <a:ext cx="23004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187800" y="6138720"/>
          <a:ext cx="190476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87800" y="6138720"/>
                    <a:ext cx="190476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ergy transferred to/from an object by the exertion of a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s essentially a measure of useful physical output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ork = Effort x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ndard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Units for Work: 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mpar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97280" y="3203640"/>
          <a:ext cx="4728960" cy="5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3203640"/>
                    <a:ext cx="472896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906640" y="3637080"/>
          <a:ext cx="222084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6640" y="3637080"/>
                    <a:ext cx="22208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" name=""/>
          <p:cNvGrpSpPr/>
          <p:nvPr/>
        </p:nvGrpSpPr>
        <p:grpSpPr>
          <a:xfrm>
            <a:off x="1549440" y="2193840"/>
            <a:ext cx="5194080" cy="714240"/>
            <a:chOff x="1549440" y="2193840"/>
            <a:chExt cx="5194080" cy="714240"/>
          </a:xfrm>
        </p:grpSpPr>
        <p:sp>
          <p:nvSpPr>
            <p:cNvPr id="81" name=""/>
            <p:cNvSpPr/>
            <p:nvPr/>
          </p:nvSpPr>
          <p:spPr>
            <a:xfrm>
              <a:off x="2802600" y="2256480"/>
              <a:ext cx="1289520" cy="63144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549440" y="2506680"/>
              <a:ext cx="118080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28480" y="2547360"/>
              <a:ext cx="2615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1838520" y="2255040"/>
            <a:ext cx="349200" cy="368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38520" y="2255040"/>
                      <a:ext cx="349200" cy="3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4875840" y="2193840"/>
            <a:ext cx="505800" cy="32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75840" y="2193840"/>
                      <a:ext cx="50580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442120" y="2276280"/>
              <a:ext cx="1289520" cy="63180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533840" y="4367160"/>
            <a:ext cx="2755800" cy="1022040"/>
            <a:chOff x="4533840" y="4367160"/>
            <a:chExt cx="2755800" cy="1022040"/>
          </a:xfrm>
        </p:grpSpPr>
        <p:sp>
          <p:nvSpPr>
            <p:cNvPr id="90" name=""/>
            <p:cNvSpPr/>
            <p:nvPr/>
          </p:nvSpPr>
          <p:spPr>
            <a:xfrm flipV="1">
              <a:off x="4559040" y="4635360"/>
              <a:ext cx="1244880" cy="355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33840" y="5003640"/>
              <a:ext cx="2755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" name=""/>
            <p:cNvGraphicFramePr/>
            <p:nvPr/>
          </p:nvGraphicFramePr>
          <p:xfrm>
            <a:off x="4787640" y="4367160"/>
            <a:ext cx="368280" cy="466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87640" y="4367160"/>
                      <a:ext cx="36828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"/>
            <p:cNvGraphicFramePr/>
            <p:nvPr/>
          </p:nvGraphicFramePr>
          <p:xfrm>
            <a:off x="5689440" y="4975200"/>
            <a:ext cx="533520" cy="414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89440" y="4975200"/>
                      <a:ext cx="5335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4991040" y="49273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57800" y="4775040"/>
              <a:ext cx="156960" cy="20160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0" y="0"/>
                  </a:moveTo>
                  <a:cubicBezTo>
                    <a:pt x="26" y="18"/>
                    <a:pt x="52" y="36"/>
                    <a:pt x="64" y="56"/>
                  </a:cubicBezTo>
                  <a:cubicBezTo>
                    <a:pt x="76" y="76"/>
                    <a:pt x="99" y="127"/>
                    <a:pt x="72" y="1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8" name=""/>
          <p:cNvGraphicFramePr/>
          <p:nvPr/>
        </p:nvGraphicFramePr>
        <p:xfrm>
          <a:off x="3130560" y="5838840"/>
          <a:ext cx="162864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0560" y="5838840"/>
                    <a:ext cx="1628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8520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general definition of Work, for a varying (as well as constant)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ly, work is the “area” beneath the Force vs. Displacement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792520" y="1531800"/>
          <a:ext cx="28112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2520" y="1531800"/>
                    <a:ext cx="28112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663480" y="3330720"/>
            <a:ext cx="2463840" cy="1949400"/>
            <a:chOff x="663480" y="3330720"/>
            <a:chExt cx="2463840" cy="1949400"/>
          </a:xfrm>
        </p:grpSpPr>
        <p:sp>
          <p:nvSpPr>
            <p:cNvPr id="105" name=""/>
            <p:cNvSpPr/>
            <p:nvPr/>
          </p:nvSpPr>
          <p:spPr>
            <a:xfrm flipV="1">
              <a:off x="1549440" y="3424320"/>
              <a:ext cx="0" cy="15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46200" y="4986360"/>
              <a:ext cx="15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20800" y="4129200"/>
              <a:ext cx="960480" cy="836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35200" y="4122720"/>
              <a:ext cx="944640" cy="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3480" y="33307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cos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54280" y="491184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35280" y="434016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95880" y="3305160"/>
            <a:ext cx="2458440" cy="1930320"/>
            <a:chOff x="4295880" y="3305160"/>
            <a:chExt cx="2458440" cy="1930320"/>
          </a:xfrm>
        </p:grpSpPr>
        <p:sp>
          <p:nvSpPr>
            <p:cNvPr id="113" name=""/>
            <p:cNvSpPr/>
            <p:nvPr/>
          </p:nvSpPr>
          <p:spPr>
            <a:xfrm>
              <a:off x="6276960" y="4867200"/>
              <a:ext cx="41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176800" y="3395880"/>
              <a:ext cx="0" cy="15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73560" y="4957920"/>
              <a:ext cx="158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337000" y="4075200"/>
              <a:ext cx="852120" cy="868320"/>
            </a:xfrm>
            <a:prstGeom prst="flowChartDocumen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3760" y="4079880"/>
              <a:ext cx="850680" cy="142920"/>
            </a:xfrm>
            <a:custGeom>
              <a:avLst/>
              <a:gdLst/>
              <a:ahLst/>
              <a:rect l="l" t="t" r="r" b="b"/>
              <a:pathLst>
                <a:path w="536" h="90">
                  <a:moveTo>
                    <a:pt x="0" y="28"/>
                  </a:moveTo>
                  <a:cubicBezTo>
                    <a:pt x="32" y="18"/>
                    <a:pt x="65" y="8"/>
                    <a:pt x="96" y="4"/>
                  </a:cubicBezTo>
                  <a:cubicBezTo>
                    <a:pt x="127" y="0"/>
                    <a:pt x="159" y="0"/>
                    <a:pt x="186" y="4"/>
                  </a:cubicBezTo>
                  <a:cubicBezTo>
                    <a:pt x="213" y="8"/>
                    <a:pt x="238" y="20"/>
                    <a:pt x="258" y="28"/>
                  </a:cubicBezTo>
                  <a:cubicBezTo>
                    <a:pt x="278" y="36"/>
                    <a:pt x="289" y="44"/>
                    <a:pt x="306" y="52"/>
                  </a:cubicBezTo>
                  <a:cubicBezTo>
                    <a:pt x="323" y="60"/>
                    <a:pt x="339" y="70"/>
                    <a:pt x="360" y="76"/>
                  </a:cubicBezTo>
                  <a:cubicBezTo>
                    <a:pt x="381" y="82"/>
                    <a:pt x="411" y="86"/>
                    <a:pt x="432" y="88"/>
                  </a:cubicBezTo>
                  <a:cubicBezTo>
                    <a:pt x="453" y="90"/>
                    <a:pt x="469" y="88"/>
                    <a:pt x="486" y="88"/>
                  </a:cubicBezTo>
                  <a:cubicBezTo>
                    <a:pt x="503" y="88"/>
                    <a:pt x="536" y="89"/>
                    <a:pt x="534" y="88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95880" y="3305160"/>
              <a:ext cx="91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cos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91000" y="433404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"/>
          <p:cNvGraphicFramePr/>
          <p:nvPr/>
        </p:nvGraphicFramePr>
        <p:xfrm>
          <a:off x="1836720" y="5319720"/>
          <a:ext cx="48355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6720" y="5319720"/>
                    <a:ext cx="48355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 work performed on an object is related to the net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             , a change in state of motion &amp; kinetic energy is impl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ri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25760" y="2004840"/>
          <a:ext cx="132696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004840"/>
                    <a:ext cx="13269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730600" y="1465200"/>
          <a:ext cx="444492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30600" y="1465200"/>
                    <a:ext cx="44449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76360" y="3359160"/>
          <a:ext cx="7581960" cy="32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360" y="3359160"/>
                    <a:ext cx="758196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371760" y="2322360"/>
          <a:ext cx="535932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71760" y="2322360"/>
                    <a:ext cx="53593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435640" y="6019920"/>
            <a:ext cx="32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he Work-Energy Theor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Gravitation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534672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falling body (no air dra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itational force only performs work in the vertical dir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+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-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What about gravitational force on an inc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330800" y="927000"/>
            <a:ext cx="3872880" cy="4642560"/>
            <a:chOff x="4330800" y="927000"/>
            <a:chExt cx="3872880" cy="4642560"/>
          </a:xfrm>
        </p:grpSpPr>
        <p:sp>
          <p:nvSpPr>
            <p:cNvPr id="136" name=""/>
            <p:cNvSpPr/>
            <p:nvPr/>
          </p:nvSpPr>
          <p:spPr>
            <a:xfrm>
              <a:off x="5499000" y="1545840"/>
              <a:ext cx="739440" cy="6872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92480" y="927000"/>
              <a:ext cx="0" cy="590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64040" y="2261880"/>
              <a:ext cx="0" cy="1449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30800" y="1871280"/>
              <a:ext cx="3872880" cy="369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5992560" y="964800"/>
            <a:ext cx="730080" cy="39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92560" y="964800"/>
                      <a:ext cx="730080" cy="39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5937120" y="2607840"/>
            <a:ext cx="444240" cy="437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37120" y="2607840"/>
                      <a:ext cx="444240" cy="43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4" name=""/>
          <p:cNvGraphicFramePr/>
          <p:nvPr/>
        </p:nvGraphicFramePr>
        <p:xfrm>
          <a:off x="182520" y="1530360"/>
          <a:ext cx="5181480" cy="14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520" y="1530360"/>
                    <a:ext cx="51814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"/>
          <p:cNvGrpSpPr/>
          <p:nvPr/>
        </p:nvGrpSpPr>
        <p:grpSpPr>
          <a:xfrm>
            <a:off x="5117760" y="3962520"/>
            <a:ext cx="4022280" cy="4228200"/>
            <a:chOff x="5117760" y="3962520"/>
            <a:chExt cx="4022280" cy="4228200"/>
          </a:xfrm>
        </p:grpSpPr>
        <p:sp>
          <p:nvSpPr>
            <p:cNvPr id="147" name=""/>
            <p:cNvSpPr/>
            <p:nvPr/>
          </p:nvSpPr>
          <p:spPr>
            <a:xfrm>
              <a:off x="7170840" y="4524480"/>
              <a:ext cx="677880" cy="6238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15360" y="3962520"/>
              <a:ext cx="0" cy="536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97720" y="5172120"/>
              <a:ext cx="0" cy="13158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117400" y="4838760"/>
              <a:ext cx="4022280" cy="335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7578720" y="3989520"/>
            <a:ext cx="857160" cy="39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78720" y="3989520"/>
                      <a:ext cx="857160" cy="39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7562880" y="5486400"/>
            <a:ext cx="45396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62880" y="5486400"/>
                      <a:ext cx="45396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6-11-10T21:01:48Z</dcterms:modified>
  <cp:revision>77</cp:revision>
  <dc:subject/>
  <dc:title>Phy 211: General Physics I</dc:title>
</cp:coreProperties>
</file>