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34.wmf" ContentType="image/x-wmf"/>
  <Override PartName="/ppt/media/image37.png" ContentType="image/png"/>
  <Override PartName="/ppt/media/image40.wmf" ContentType="image/x-wmf"/>
  <Override PartName="/ppt/media/image39.jpeg" ContentType="image/jpeg"/>
  <Override PartName="/ppt/media/image41.wmf" ContentType="image/x-wmf"/>
  <Override PartName="/ppt/media/image42.jpeg" ContentType="image/jpeg"/>
  <Override PartName="/ppt/media/image9.wmf" ContentType="image/x-wmf"/>
  <Override PartName="/ppt/media/image38.jpeg" ContentType="image/jpeg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35.jpeg" ContentType="image/jpeg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0.wmf" ContentType="image/x-wmf"/>
  <Override PartName="/ppt/media/image5.wmf" ContentType="image/x-wmf"/>
  <Override PartName="/ppt/media/image13.wmf" ContentType="image/x-wmf"/>
  <Override PartName="/ppt/media/image27.jpeg" ContentType="image/jpeg"/>
  <Override PartName="/ppt/media/image2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252F-C67D-4368-9464-A6C35E09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2AAF-EDD9-44E0-BF9E-1FE4007C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340-CD12-4AFB-915C-D9302D77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6680-18B3-4663-AB9A-0895F9C6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F07-3876-4438-90FA-B875B7DE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0B1-298E-4567-8B73-2EC911F5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15C-CC99-41BD-B65D-ECB4CB30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E907-FB92-4281-BBF4-3EB2B8A5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647-85F3-4BCD-888F-5A07842B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049-F61B-4265-8A0B-80281259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482-AD6C-4F2F-8409-0C3960D4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BCEB-50DB-4D20-B6C4-85EA6426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5FB3-ED8C-48E0-A11B-652ED8271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3.wmf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0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0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image" Target="../media/image42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5.wmf"/><Relationship Id="rId1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ienceworld.wolfram.com/biography/photo-credits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7: Kinetic Energy &amp;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Performed during Lifting &amp; Lowering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Joey “blasting” his pecs with a bench press workout (assume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i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onsta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plying Newton’s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La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Work perform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059360" y="1935000"/>
            <a:ext cx="4944960" cy="4216320"/>
            <a:chOff x="4059360" y="1935000"/>
            <a:chExt cx="4944960" cy="421632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rcRect l="0" t="15068" r="0" b="0"/>
            <a:stretch/>
          </p:blipFill>
          <p:spPr>
            <a:xfrm>
              <a:off x="4559400" y="3228840"/>
              <a:ext cx="4444920" cy="292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9" name=""/>
            <p:cNvGrpSpPr/>
            <p:nvPr/>
          </p:nvGrpSpPr>
          <p:grpSpPr>
            <a:xfrm>
              <a:off x="4800600" y="2063520"/>
              <a:ext cx="4140360" cy="952560"/>
              <a:chOff x="4800600" y="2063520"/>
              <a:chExt cx="4140360" cy="952560"/>
            </a:xfrm>
          </p:grpSpPr>
          <p:sp>
            <p:nvSpPr>
              <p:cNvPr id="160" name=""/>
              <p:cNvSpPr/>
              <p:nvPr/>
            </p:nvSpPr>
            <p:spPr>
              <a:xfrm rot="5400000">
                <a:off x="4977720" y="2425320"/>
                <a:ext cx="952560" cy="22860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5400000">
                <a:off x="7860600" y="2425320"/>
                <a:ext cx="952560" cy="22860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37160" y="2501640"/>
                <a:ext cx="2679840" cy="63720"/>
              </a:xfrm>
              <a:prstGeom prst="rect">
                <a:avLst/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800600" y="2489040"/>
                <a:ext cx="520560" cy="63360"/>
              </a:xfrm>
              <a:prstGeom prst="rect">
                <a:avLst/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20040" y="2501640"/>
                <a:ext cx="520920" cy="63720"/>
              </a:xfrm>
              <a:prstGeom prst="rect">
                <a:avLst/>
              </a:prstGeom>
              <a:solidFill>
                <a:srgbClr val="bbe0e3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 flipV="1">
              <a:off x="4737240" y="2552400"/>
              <a:ext cx="0" cy="11685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845040" y="1993680"/>
              <a:ext cx="12600" cy="520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6857640" y="2590200"/>
              <a:ext cx="12600" cy="5209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8" name=""/>
            <p:cNvGraphicFramePr/>
            <p:nvPr/>
          </p:nvGraphicFramePr>
          <p:xfrm>
            <a:off x="6997680" y="1935000"/>
            <a:ext cx="576360" cy="444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997680" y="1935000"/>
                      <a:ext cx="576360" cy="44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"/>
            <p:cNvGraphicFramePr/>
            <p:nvPr/>
          </p:nvGraphicFramePr>
          <p:xfrm>
            <a:off x="4059360" y="2747880"/>
            <a:ext cx="538200" cy="507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59360" y="2747880"/>
                      <a:ext cx="53820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2" name=""/>
            <p:cNvGraphicFramePr/>
            <p:nvPr/>
          </p:nvGraphicFramePr>
          <p:xfrm>
            <a:off x="7010280" y="2601720"/>
            <a:ext cx="559080" cy="558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10280" y="2601720"/>
                      <a:ext cx="55908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4" name=""/>
          <p:cNvGraphicFramePr/>
          <p:nvPr/>
        </p:nvGraphicFramePr>
        <p:xfrm>
          <a:off x="1168560" y="2039760"/>
          <a:ext cx="2226960" cy="1287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8560" y="2039760"/>
                    <a:ext cx="222696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93840" y="3795840"/>
          <a:ext cx="3902040" cy="812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3840" y="3795840"/>
                    <a:ext cx="390204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95280" y="5159520"/>
          <a:ext cx="4006800" cy="12855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5280" y="5159520"/>
                    <a:ext cx="4006800" cy="12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Performed by Elastic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1000" y="1036440"/>
            <a:ext cx="5384880" cy="53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astic (or “restoring”) force associated with the compression (or stretching of a simple spring increases linearly with the amount of deformation (this is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Hooke’s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assumptions are m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ing is ideal &amp; mass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ring obeys Hooke’s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92240" y="4821120"/>
          <a:ext cx="7581600" cy="13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4821120"/>
                    <a:ext cx="758160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" descr=""/>
          <p:cNvPicPr/>
          <p:nvPr/>
        </p:nvPicPr>
        <p:blipFill>
          <a:blip r:embed="rId3"/>
          <a:srcRect l="0" t="0" r="0" b="24025"/>
          <a:stretch/>
        </p:blipFill>
        <p:spPr>
          <a:xfrm>
            <a:off x="5495760" y="965160"/>
            <a:ext cx="359424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Performed by Elastic Force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9320" y="1011240"/>
            <a:ext cx="56386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spring (k=10 N/m) attached to a wall at one end and a mass (1 kg) at the other.  The block is free to slide on a frictionless surface.  The block/spring system is compressed 0.5 m then rel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 performed by the spring forc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33360" y="4483080"/>
          <a:ext cx="6524640" cy="22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4483080"/>
                    <a:ext cx="652464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"/>
          <p:cNvGrpSpPr/>
          <p:nvPr/>
        </p:nvGrpSpPr>
        <p:grpSpPr>
          <a:xfrm>
            <a:off x="5700600" y="927000"/>
            <a:ext cx="3218040" cy="3810240"/>
            <a:chOff x="5700600" y="927000"/>
            <a:chExt cx="3218040" cy="3810240"/>
          </a:xfrm>
        </p:grpSpPr>
        <p:pic>
          <p:nvPicPr>
            <p:cNvPr id="190" name="" descr=""/>
            <p:cNvPicPr/>
            <p:nvPr/>
          </p:nvPicPr>
          <p:blipFill>
            <a:blip r:embed="rId3"/>
            <a:stretch/>
          </p:blipFill>
          <p:spPr>
            <a:xfrm>
              <a:off x="5702040" y="2189160"/>
              <a:ext cx="203040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4"/>
            <a:stretch/>
          </p:blipFill>
          <p:spPr>
            <a:xfrm>
              <a:off x="5702040" y="1108080"/>
              <a:ext cx="1970280" cy="10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5"/>
            <a:stretch/>
          </p:blipFill>
          <p:spPr>
            <a:xfrm>
              <a:off x="5700600" y="3305160"/>
              <a:ext cx="242568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516800" y="1625760"/>
              <a:ext cx="533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1480" y="3860640"/>
              <a:ext cx="5331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7694640" y="1046160"/>
            <a:ext cx="709560" cy="496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694640" y="1046160"/>
                      <a:ext cx="709560" cy="49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"/>
            <p:cNvGraphicFramePr/>
            <p:nvPr/>
          </p:nvGraphicFramePr>
          <p:xfrm>
            <a:off x="8229600" y="3952800"/>
            <a:ext cx="689040" cy="482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229600" y="3952800"/>
                      <a:ext cx="6890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9" name=""/>
            <p:cNvSpPr/>
            <p:nvPr/>
          </p:nvSpPr>
          <p:spPr>
            <a:xfrm>
              <a:off x="6678360" y="1282680"/>
              <a:ext cx="62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06960" y="2413080"/>
              <a:ext cx="62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50040" y="3517920"/>
              <a:ext cx="62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92840" y="927000"/>
              <a:ext cx="0" cy="381024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5816520" y="466092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quilibrium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4873680"/>
            <a:ext cx="883908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 uni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att (1 W = 1 J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also related to Force &amp; 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wer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51847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asure of work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me rate of energy transfer (work) due to an exerted fo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Po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aneous Po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Net Pow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305400" y="2027160"/>
          <a:ext cx="102888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2027160"/>
                    <a:ext cx="10288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2944800" y="3149640"/>
          <a:ext cx="219564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44800" y="3149640"/>
                    <a:ext cx="219564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5324400" y="942840"/>
            <a:ext cx="3591000" cy="27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2430360" y="2276640"/>
          <a:ext cx="2241720" cy="814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30360" y="2276640"/>
                    <a:ext cx="224172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832120" y="5767560"/>
          <a:ext cx="3556080" cy="85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32120" y="5767560"/>
                    <a:ext cx="35560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2855880" y="4060800"/>
          <a:ext cx="3576600" cy="833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55880" y="4060800"/>
                    <a:ext cx="35766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Power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work output can be performed at various power rat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ider 100 J of work output accomplished over 2 different time interv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100 J over 1 s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100 J over 100 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900 kg automobile accelerates from 0 to 30 m/s in 5.8 s.  What is the average net p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2b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30 m/s, how much force does the road exert on this vehicle? Use the same power as 2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065320" y="2668680"/>
          <a:ext cx="2295720" cy="69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5320" y="2668680"/>
                    <a:ext cx="22957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6912000" y="2649600"/>
          <a:ext cx="2160720" cy="75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12000" y="2649600"/>
                    <a:ext cx="216072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45960" y="4113360"/>
          <a:ext cx="8445600" cy="89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5960" y="4113360"/>
                    <a:ext cx="8445600" cy="89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20840" y="5850000"/>
          <a:ext cx="7623000" cy="8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0840" y="5850000"/>
                    <a:ext cx="7623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hat is Energy?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is a scalar quantity associated with the state of an object (or system of objec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ergy is a calculated value that appears in nature and whose total quantity in a system always remains constant and accounted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ergy is said to be “Conserve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sely speaking, energy represents the “fuel” necessary for changes to occur in the universe and is often referred to as the capacity to perform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think of energy as the “currency” associated with the “transactions” (forces!) that occur in n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mechanical systems, energy is “spent” as force transactions are cond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ternatively, the exertion of force requires an “expenditure” of ener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s for energy are called Joules (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 honor of James Prescott Jo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James Prescott Joule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1818-1889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65026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lish inventor &amp; scient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ed in the efficiency of electric mo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d the heat dissipated across a resistor in electrical circui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w known as Joules’ La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that heat is produced by the motion of atoms and/or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ed with establishing the mechanical energy equivalent of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d in establishing the “Law of Energy Conserv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61240" y="1011240"/>
            <a:ext cx="2057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eview: The Scalar (Dot) Produc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763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vectors                   can be multiplied to product a scalar resultant, called the scalar (or Dot)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magnitudes of the v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s the angle between vector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vector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properties of scalar prod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uaring ve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ve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Important Application: We will use the scalar product of the vectors of force and displacement to calculate work performed by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537240" y="1820880"/>
          <a:ext cx="223524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37240" y="1820880"/>
                    <a:ext cx="22352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343240" y="990720"/>
          <a:ext cx="157140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3240" y="990720"/>
                    <a:ext cx="15714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130720" y="3147840"/>
          <a:ext cx="251460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30720" y="3147840"/>
                    <a:ext cx="2514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90800" y="3983040"/>
          <a:ext cx="1505160" cy="41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90800" y="3983040"/>
                    <a:ext cx="15051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203640" y="4338720"/>
          <a:ext cx="12682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3640" y="4338720"/>
                    <a:ext cx="12682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689200" y="4692600"/>
          <a:ext cx="2927520" cy="51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89200" y="4692600"/>
                    <a:ext cx="29275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Kinetic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6137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ergy associated with an object’s state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 energy is a scalar quantity that is never negative in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alar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ctor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 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kinetic energy for the x, y, and z components are add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inetic energy is relative to the motion of observer’s reference frame, since speed and velocity are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 object’s kinetic energy depends more on its speed than its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y change in an object’s speed will affect a change in its kinetic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it compari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14760" y="2655720"/>
          <a:ext cx="4967280" cy="6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2655720"/>
                    <a:ext cx="496728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712960" y="1857240"/>
          <a:ext cx="437832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2960" y="1857240"/>
                    <a:ext cx="43783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736720" y="3421080"/>
          <a:ext cx="2300400" cy="40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36720" y="3421080"/>
                    <a:ext cx="230040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187800" y="6138720"/>
          <a:ext cx="1904760" cy="74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87800" y="6138720"/>
                    <a:ext cx="190476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ergy transferred to/from an object by the exertion of a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is essentially a measure of useful physical output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Work = Effort x 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ndard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Units for Work: 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ompari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897280" y="3203640"/>
          <a:ext cx="4728960" cy="52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7280" y="3203640"/>
                    <a:ext cx="472896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2906640" y="3637080"/>
          <a:ext cx="222084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6640" y="3637080"/>
                    <a:ext cx="22208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" name=""/>
          <p:cNvGrpSpPr/>
          <p:nvPr/>
        </p:nvGrpSpPr>
        <p:grpSpPr>
          <a:xfrm>
            <a:off x="1549440" y="2193840"/>
            <a:ext cx="5194080" cy="714240"/>
            <a:chOff x="1549440" y="2193840"/>
            <a:chExt cx="5194080" cy="714240"/>
          </a:xfrm>
        </p:grpSpPr>
        <p:sp>
          <p:nvSpPr>
            <p:cNvPr id="81" name=""/>
            <p:cNvSpPr/>
            <p:nvPr/>
          </p:nvSpPr>
          <p:spPr>
            <a:xfrm>
              <a:off x="2802600" y="2256480"/>
              <a:ext cx="1289520" cy="63144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549440" y="2506680"/>
              <a:ext cx="1180800" cy="280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28480" y="2547360"/>
              <a:ext cx="26150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4" name=""/>
            <p:cNvGraphicFramePr/>
            <p:nvPr/>
          </p:nvGraphicFramePr>
          <p:xfrm>
            <a:off x="1838520" y="2255040"/>
            <a:ext cx="349200" cy="368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38520" y="2255040"/>
                      <a:ext cx="349200" cy="36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4875840" y="2193840"/>
            <a:ext cx="505800" cy="326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75840" y="2193840"/>
                      <a:ext cx="505800" cy="32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5442120" y="2276280"/>
              <a:ext cx="1289520" cy="631800"/>
            </a:xfrm>
            <a:prstGeom prst="rect">
              <a:avLst/>
            </a:pr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533840" y="4367160"/>
            <a:ext cx="2755800" cy="1022040"/>
            <a:chOff x="4533840" y="4367160"/>
            <a:chExt cx="2755800" cy="1022040"/>
          </a:xfrm>
        </p:grpSpPr>
        <p:sp>
          <p:nvSpPr>
            <p:cNvPr id="90" name=""/>
            <p:cNvSpPr/>
            <p:nvPr/>
          </p:nvSpPr>
          <p:spPr>
            <a:xfrm flipV="1">
              <a:off x="4559040" y="4635360"/>
              <a:ext cx="1244880" cy="355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33840" y="5003640"/>
              <a:ext cx="2755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2" name=""/>
            <p:cNvGraphicFramePr/>
            <p:nvPr/>
          </p:nvGraphicFramePr>
          <p:xfrm>
            <a:off x="4787640" y="4367160"/>
            <a:ext cx="368280" cy="466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787640" y="4367160"/>
                      <a:ext cx="36828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" name=""/>
            <p:cNvGraphicFramePr/>
            <p:nvPr/>
          </p:nvGraphicFramePr>
          <p:xfrm>
            <a:off x="5689440" y="4975200"/>
            <a:ext cx="533520" cy="414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689440" y="4975200"/>
                      <a:ext cx="533520" cy="41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"/>
            <p:cNvSpPr/>
            <p:nvPr/>
          </p:nvSpPr>
          <p:spPr>
            <a:xfrm>
              <a:off x="4991040" y="492732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57800" y="4775040"/>
              <a:ext cx="156960" cy="201600"/>
            </a:xfrm>
            <a:custGeom>
              <a:avLst/>
              <a:gdLst/>
              <a:ahLst/>
              <a:rect l="l" t="t" r="r" b="b"/>
              <a:pathLst>
                <a:path w="99" h="127">
                  <a:moveTo>
                    <a:pt x="0" y="0"/>
                  </a:moveTo>
                  <a:cubicBezTo>
                    <a:pt x="26" y="18"/>
                    <a:pt x="52" y="36"/>
                    <a:pt x="64" y="56"/>
                  </a:cubicBezTo>
                  <a:cubicBezTo>
                    <a:pt x="76" y="76"/>
                    <a:pt x="99" y="127"/>
                    <a:pt x="72" y="12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8" name=""/>
          <p:cNvGraphicFramePr/>
          <p:nvPr/>
        </p:nvGraphicFramePr>
        <p:xfrm>
          <a:off x="3130560" y="5838840"/>
          <a:ext cx="162864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30560" y="5838840"/>
                    <a:ext cx="16286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8520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general definition of Work, for a varying (as well as constant)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ly, work is the “area” beneath the Force vs. Displacement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792520" y="1531800"/>
          <a:ext cx="281124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2520" y="1531800"/>
                    <a:ext cx="28112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"/>
          <p:cNvGrpSpPr/>
          <p:nvPr/>
        </p:nvGrpSpPr>
        <p:grpSpPr>
          <a:xfrm>
            <a:off x="663480" y="3330720"/>
            <a:ext cx="2463840" cy="1949400"/>
            <a:chOff x="663480" y="3330720"/>
            <a:chExt cx="2463840" cy="1949400"/>
          </a:xfrm>
        </p:grpSpPr>
        <p:sp>
          <p:nvSpPr>
            <p:cNvPr id="105" name=""/>
            <p:cNvSpPr/>
            <p:nvPr/>
          </p:nvSpPr>
          <p:spPr>
            <a:xfrm flipV="1">
              <a:off x="1549440" y="3424320"/>
              <a:ext cx="0" cy="158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46200" y="4986360"/>
              <a:ext cx="1581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20800" y="4129200"/>
              <a:ext cx="960480" cy="8366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35200" y="4122720"/>
              <a:ext cx="944640" cy="0"/>
            </a:xfrm>
            <a:prstGeom prst="line">
              <a:avLst/>
            </a:prstGeom>
            <a:ln w="284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3480" y="33307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cos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54280" y="491184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35280" y="4340160"/>
              <a:ext cx="69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A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295880" y="3305160"/>
            <a:ext cx="2458440" cy="1930320"/>
            <a:chOff x="4295880" y="3305160"/>
            <a:chExt cx="2458440" cy="1930320"/>
          </a:xfrm>
        </p:grpSpPr>
        <p:sp>
          <p:nvSpPr>
            <p:cNvPr id="113" name=""/>
            <p:cNvSpPr/>
            <p:nvPr/>
          </p:nvSpPr>
          <p:spPr>
            <a:xfrm>
              <a:off x="6276960" y="4867200"/>
              <a:ext cx="41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176800" y="3395880"/>
              <a:ext cx="0" cy="158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73560" y="4957920"/>
              <a:ext cx="158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5337000" y="4075200"/>
              <a:ext cx="852120" cy="868320"/>
            </a:xfrm>
            <a:prstGeom prst="flowChartDocumen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33760" y="4079880"/>
              <a:ext cx="850680" cy="142920"/>
            </a:xfrm>
            <a:custGeom>
              <a:avLst/>
              <a:gdLst/>
              <a:ahLst/>
              <a:rect l="l" t="t" r="r" b="b"/>
              <a:pathLst>
                <a:path w="536" h="90">
                  <a:moveTo>
                    <a:pt x="0" y="28"/>
                  </a:moveTo>
                  <a:cubicBezTo>
                    <a:pt x="32" y="18"/>
                    <a:pt x="65" y="8"/>
                    <a:pt x="96" y="4"/>
                  </a:cubicBezTo>
                  <a:cubicBezTo>
                    <a:pt x="127" y="0"/>
                    <a:pt x="159" y="0"/>
                    <a:pt x="186" y="4"/>
                  </a:cubicBezTo>
                  <a:cubicBezTo>
                    <a:pt x="213" y="8"/>
                    <a:pt x="238" y="20"/>
                    <a:pt x="258" y="28"/>
                  </a:cubicBezTo>
                  <a:cubicBezTo>
                    <a:pt x="278" y="36"/>
                    <a:pt x="289" y="44"/>
                    <a:pt x="306" y="52"/>
                  </a:cubicBezTo>
                  <a:cubicBezTo>
                    <a:pt x="323" y="60"/>
                    <a:pt x="339" y="70"/>
                    <a:pt x="360" y="76"/>
                  </a:cubicBezTo>
                  <a:cubicBezTo>
                    <a:pt x="381" y="82"/>
                    <a:pt x="411" y="86"/>
                    <a:pt x="432" y="88"/>
                  </a:cubicBezTo>
                  <a:cubicBezTo>
                    <a:pt x="453" y="90"/>
                    <a:pt x="469" y="88"/>
                    <a:pt x="486" y="88"/>
                  </a:cubicBezTo>
                  <a:cubicBezTo>
                    <a:pt x="503" y="88"/>
                    <a:pt x="536" y="89"/>
                    <a:pt x="534" y="88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95880" y="3305160"/>
              <a:ext cx="91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cos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91000" y="4334040"/>
              <a:ext cx="69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A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0" name=""/>
          <p:cNvGraphicFramePr/>
          <p:nvPr/>
        </p:nvGraphicFramePr>
        <p:xfrm>
          <a:off x="1836720" y="5319720"/>
          <a:ext cx="483552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6720" y="5319720"/>
                    <a:ext cx="48355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&amp; Kinetic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t work performed on an object is related to the net for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             , a change in state of motion &amp; kinetic energy is impl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riv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25760" y="2004840"/>
          <a:ext cx="132696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5760" y="2004840"/>
                    <a:ext cx="132696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2730600" y="1465200"/>
          <a:ext cx="444492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30600" y="1465200"/>
                    <a:ext cx="44449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76360" y="3359160"/>
          <a:ext cx="7581960" cy="32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6360" y="3359160"/>
                    <a:ext cx="758196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371760" y="2322360"/>
          <a:ext cx="5359320" cy="74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71760" y="2322360"/>
                    <a:ext cx="535932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435640" y="6019920"/>
            <a:ext cx="32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The Work-Energy Theor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Performed by Gravitational Forc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534672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falling body (no air drag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itational force only performs work in the vertical dir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91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+ w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919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- w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What about gravitational force on an inc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330800" y="927000"/>
            <a:ext cx="3872880" cy="4642560"/>
            <a:chOff x="4330800" y="927000"/>
            <a:chExt cx="3872880" cy="4642560"/>
          </a:xfrm>
        </p:grpSpPr>
        <p:sp>
          <p:nvSpPr>
            <p:cNvPr id="136" name=""/>
            <p:cNvSpPr/>
            <p:nvPr/>
          </p:nvSpPr>
          <p:spPr>
            <a:xfrm>
              <a:off x="5499000" y="1545840"/>
              <a:ext cx="739440" cy="68724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92480" y="927000"/>
              <a:ext cx="0" cy="590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64040" y="2261880"/>
              <a:ext cx="0" cy="1449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30800" y="1871280"/>
              <a:ext cx="3872880" cy="369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0" name=""/>
            <p:cNvGraphicFramePr/>
            <p:nvPr/>
          </p:nvGraphicFramePr>
          <p:xfrm>
            <a:off x="5992560" y="964800"/>
            <a:ext cx="730080" cy="39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92560" y="964800"/>
                      <a:ext cx="730080" cy="39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"/>
            <p:cNvGraphicFramePr/>
            <p:nvPr/>
          </p:nvGraphicFramePr>
          <p:xfrm>
            <a:off x="5937120" y="2607840"/>
            <a:ext cx="444240" cy="437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37120" y="2607840"/>
                      <a:ext cx="444240" cy="43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4" name=""/>
          <p:cNvGraphicFramePr/>
          <p:nvPr/>
        </p:nvGraphicFramePr>
        <p:xfrm>
          <a:off x="182520" y="1530360"/>
          <a:ext cx="5181480" cy="14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520" y="1530360"/>
                    <a:ext cx="518148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6" name=""/>
          <p:cNvGrpSpPr/>
          <p:nvPr/>
        </p:nvGrpSpPr>
        <p:grpSpPr>
          <a:xfrm>
            <a:off x="5117760" y="3962520"/>
            <a:ext cx="4022280" cy="4228200"/>
            <a:chOff x="5117760" y="3962520"/>
            <a:chExt cx="4022280" cy="4228200"/>
          </a:xfrm>
        </p:grpSpPr>
        <p:sp>
          <p:nvSpPr>
            <p:cNvPr id="147" name=""/>
            <p:cNvSpPr/>
            <p:nvPr/>
          </p:nvSpPr>
          <p:spPr>
            <a:xfrm>
              <a:off x="7170840" y="4524480"/>
              <a:ext cx="677880" cy="6238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15360" y="3962520"/>
              <a:ext cx="0" cy="536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97720" y="5172120"/>
              <a:ext cx="0" cy="13158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117400" y="4838760"/>
              <a:ext cx="4022280" cy="335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1" name=""/>
            <p:cNvGraphicFramePr/>
            <p:nvPr/>
          </p:nvGraphicFramePr>
          <p:xfrm>
            <a:off x="7578720" y="3989520"/>
            <a:ext cx="857160" cy="398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78720" y="3989520"/>
                      <a:ext cx="857160" cy="39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7562880" y="5486400"/>
            <a:ext cx="45396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562880" y="5486400"/>
                      <a:ext cx="45396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6-11-10T21:01:48Z</dcterms:modified>
  <cp:revision>77</cp:revision>
  <dc:subject/>
  <dc:title>Phy 211: General Physics I</dc:title>
</cp:coreProperties>
</file>