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661-EE5F-4DB7-9476-48591121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690-7302-4378-BF9D-1BC51DC9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D32-1476-43B8-B14A-6BEAAE8C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1FD-315D-44D1-9479-AEE2AA46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542-0FCD-4B6A-BB0E-587EE0F9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8D9-B9F3-4AFC-A44C-67CAA360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A9D-53E1-416D-923E-CCC76383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AFA-DD9D-4C40-A07D-3FB68A6D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771-BC23-419B-B7E5-163B191E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533-CA9B-4422-BEDC-F7A162A4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02F-C290-4ADA-ABEB-303C836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122-15C4-41F4-9B70-A13F54DC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8B9-F14E-4735-BF3F-F2A5E5F0A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Force &amp; Mot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ension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080" y="1166760"/>
            <a:ext cx="7151760" cy="48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pplied through a rope or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rope or cable is massl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gligible compared to the bodies it is attached t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can be treated as a connection between 2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ss means no force needed to accelerate 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of pull transfers unchanged along the 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force at one end is the same as the Reaction force at the other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ttached to a pulley the tension force can be used to change the direction of force acting on a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a tension force is usually an intermediate step to connecting the free-body diagrams between 2 attach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010280" y="762120"/>
            <a:ext cx="2171880" cy="2781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95960" y="3805200"/>
            <a:ext cx="17542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ension Applicat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81240"/>
            <a:ext cx="480060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Pulley (flat surfac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ined Pla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wood Mach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921280" y="1155600"/>
            <a:ext cx="2710080" cy="1739880"/>
            <a:chOff x="5921280" y="1155600"/>
            <a:chExt cx="2710080" cy="1739880"/>
          </a:xfrm>
        </p:grpSpPr>
        <p:sp>
          <p:nvSpPr>
            <p:cNvPr id="118" name=""/>
            <p:cNvSpPr/>
            <p:nvPr/>
          </p:nvSpPr>
          <p:spPr>
            <a:xfrm>
              <a:off x="6259680" y="1339560"/>
              <a:ext cx="261720" cy="2638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57880" y="148896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2240" y="1338120"/>
              <a:ext cx="104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21280" y="2541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51640" y="1155600"/>
              <a:ext cx="684360" cy="353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702480" y="1511280"/>
              <a:ext cx="192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02480" y="1511280"/>
              <a:ext cx="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173400" y="2667960"/>
            <a:ext cx="2908440" cy="2207160"/>
            <a:chOff x="3173400" y="2667960"/>
            <a:chExt cx="2908440" cy="2207160"/>
          </a:xfrm>
        </p:grpSpPr>
        <p:sp>
          <p:nvSpPr>
            <p:cNvPr id="126" name=""/>
            <p:cNvSpPr/>
            <p:nvPr/>
          </p:nvSpPr>
          <p:spPr>
            <a:xfrm>
              <a:off x="4056120" y="3162240"/>
              <a:ext cx="0" cy="98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40000">
              <a:off x="3598560" y="2728800"/>
              <a:ext cx="322200" cy="3398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13320" y="2982960"/>
              <a:ext cx="15840" cy="149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63880" y="2773080"/>
              <a:ext cx="1063800" cy="71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3400" y="4416480"/>
              <a:ext cx="838080" cy="45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40000">
              <a:off x="4857480" y="3499920"/>
              <a:ext cx="838080" cy="459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4043520" y="3173400"/>
              <a:ext cx="1955520" cy="13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73720" y="4174920"/>
              <a:ext cx="70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95800" y="4535280"/>
              <a:ext cx="9111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762600" y="4710240"/>
            <a:ext cx="1239840" cy="1912320"/>
            <a:chOff x="6762600" y="4710240"/>
            <a:chExt cx="1239840" cy="1912320"/>
          </a:xfrm>
        </p:grpSpPr>
        <p:sp>
          <p:nvSpPr>
            <p:cNvPr id="136" name=""/>
            <p:cNvSpPr/>
            <p:nvPr/>
          </p:nvSpPr>
          <p:spPr>
            <a:xfrm>
              <a:off x="7067520" y="4710240"/>
              <a:ext cx="627120" cy="58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66080" y="4992480"/>
              <a:ext cx="0" cy="10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62600" y="6045120"/>
              <a:ext cx="446400" cy="353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85040" y="6040440"/>
              <a:ext cx="617400" cy="582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94640" y="4983120"/>
              <a:ext cx="0" cy="105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ewton’s 3</a:t>
            </a:r>
            <a:r>
              <a:rPr b="0" lang="en-US" sz="3600" spc="-1" strike="noStrike" baseline="30000">
                <a:solidFill>
                  <a:srgbClr val="a50021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4680" cy="58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hen an object exerts a force on a second object, the second object exerts an equal but oppositely directed force on the firs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s always occur in action-reaction pairs (never by themsel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force in an action-reaction pair acts on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orta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3</a:t>
            </a:r>
            <a:r>
              <a:rPr b="0" lang="en-US" sz="2000" spc="-1" strike="noStrike" baseline="30000">
                <a:solidFill>
                  <a:srgbClr val="0033cc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identifies the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by interactions between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ff00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l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s the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accele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each object under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90920" y="2332080"/>
          <a:ext cx="7794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0920" y="2332080"/>
                    <a:ext cx="779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643040" y="2106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692440" y="2309760"/>
            <a:ext cx="8683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2133720"/>
            <a:ext cx="960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276800" y="2305080"/>
            <a:ext cx="8683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879640" y="2351160"/>
          <a:ext cx="73044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9640" y="2351160"/>
                    <a:ext cx="73044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276200" y="3046320"/>
          <a:ext cx="190512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6200" y="3046320"/>
                    <a:ext cx="19051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Sir Isaac Newton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(1642-1727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6274080" cy="56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invented the “calculus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long with Gottfried Wilhelm Leibni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his accomplishments included theori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&amp; Op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&amp;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3 Laws of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the Law of Universal Gravitation (to settle a parlor b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t was actually between Edward Haley &amp; Robert Hoo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ory successfully explained planetary motion and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46760" y="1158840"/>
            <a:ext cx="20574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ewton’s 1</a:t>
            </a:r>
            <a:r>
              <a:rPr b="0" lang="en-US" sz="3600" spc="-1" strike="noStrike" baseline="30000">
                <a:solidFill>
                  <a:srgbClr val="a50021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object continues in its state of rest, or of motion unless compelled to change that state by forces impressed up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the “Law of Inert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moving in uniform motion it has no net force acting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o force acting on an object, it will stay at rest or maintain its constant speed in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imply pu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e is laz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917720" y="4826160"/>
          <a:ext cx="5607000" cy="5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7720" y="4826160"/>
                    <a:ext cx="5607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2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Law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80596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t force is exerted on an object its velocity will cha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 rate of change of motion (acceleration) is relat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to the size of the net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667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ly proportional to the mass of the object (i.e. its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ship between them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     will always correspond to the dir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4124160"/>
          <a:ext cx="3300120" cy="7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124160"/>
                    <a:ext cx="330012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100480" y="4262400"/>
          <a:ext cx="331812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0480" y="4262400"/>
                    <a:ext cx="3318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152800" y="1498680"/>
          <a:ext cx="4082760" cy="84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52800" y="1498680"/>
                    <a:ext cx="40827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056040" y="4861080"/>
          <a:ext cx="26172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6040" y="4861080"/>
                    <a:ext cx="2617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276200" y="5183280"/>
          <a:ext cx="500040" cy="50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76200" y="5183280"/>
                    <a:ext cx="500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ree-Body Diagram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46612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drawing of a body with only the forces acting on i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are drawn as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-Body diagrams facilitate the application of Newton’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96880" y="3825720"/>
            <a:ext cx="2044800" cy="2489040"/>
            <a:chOff x="596880" y="3825720"/>
            <a:chExt cx="2044800" cy="2489040"/>
          </a:xfrm>
        </p:grpSpPr>
        <p:sp>
          <p:nvSpPr>
            <p:cNvPr id="67" name=""/>
            <p:cNvSpPr/>
            <p:nvPr/>
          </p:nvSpPr>
          <p:spPr>
            <a:xfrm>
              <a:off x="871560" y="43351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28840" y="56322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1508400" y="5663880"/>
            <a:ext cx="438120" cy="466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8400" y="5663880"/>
                      <a:ext cx="438120" cy="4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596880" y="382572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in “Free Fall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814480" y="3179880"/>
            <a:ext cx="2649600" cy="3273480"/>
            <a:chOff x="2814480" y="3179880"/>
            <a:chExt cx="2649600" cy="3273480"/>
          </a:xfrm>
        </p:grpSpPr>
        <p:sp>
          <p:nvSpPr>
            <p:cNvPr id="73" name=""/>
            <p:cNvSpPr/>
            <p:nvPr/>
          </p:nvSpPr>
          <p:spPr>
            <a:xfrm>
              <a:off x="3340080" y="4473720"/>
              <a:ext cx="114624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97360" y="5770440"/>
              <a:ext cx="0" cy="682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3976560" y="5802480"/>
            <a:ext cx="438120" cy="466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76560" y="5802480"/>
                      <a:ext cx="43812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"/>
            <p:cNvGraphicFramePr/>
            <p:nvPr/>
          </p:nvGraphicFramePr>
          <p:xfrm>
            <a:off x="4033800" y="3801960"/>
            <a:ext cx="733320" cy="58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33800" y="3801960"/>
                      <a:ext cx="73332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925800" y="37213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4480" y="317988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977080" y="3176640"/>
            <a:ext cx="2690280" cy="3463920"/>
            <a:chOff x="5977080" y="3176640"/>
            <a:chExt cx="2690280" cy="3463920"/>
          </a:xfrm>
        </p:grpSpPr>
        <p:sp>
          <p:nvSpPr>
            <p:cNvPr id="82" name=""/>
            <p:cNvSpPr/>
            <p:nvPr/>
          </p:nvSpPr>
          <p:spPr>
            <a:xfrm>
              <a:off x="6502320" y="4660920"/>
              <a:ext cx="1145880" cy="1202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59600" y="5958000"/>
              <a:ext cx="0" cy="6825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"/>
            <p:cNvGraphicFramePr/>
            <p:nvPr/>
          </p:nvGraphicFramePr>
          <p:xfrm>
            <a:off x="7138800" y="5989680"/>
            <a:ext cx="437760" cy="466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38800" y="5989680"/>
                      <a:ext cx="437760" cy="46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7196040" y="3989520"/>
            <a:ext cx="732960" cy="587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196040" y="3989520"/>
                      <a:ext cx="732960" cy="58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7088040" y="3908520"/>
              <a:ext cx="0" cy="6825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77080" y="3176640"/>
              <a:ext cx="26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oey getting slapped while standing on a flo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21280" y="5068800"/>
              <a:ext cx="387000" cy="1555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" name=""/>
            <p:cNvGraphicFramePr/>
            <p:nvPr/>
          </p:nvGraphicFramePr>
          <p:xfrm>
            <a:off x="7992720" y="4692600"/>
            <a:ext cx="67464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92720" y="4692600"/>
                      <a:ext cx="67464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ypes of Forc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it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4971600"/>
            <a:ext cx="3809880" cy="188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05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766800"/>
            <a:ext cx="853416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ur world, forces can be categorized as one of 2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 is exerted over a distance of space with out direct conta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a.k.a. “action-at-a-distance” fo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ces is exerted due to direct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(Note: at the microscopic level, ALL forces are non-cont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ither case, Newton’s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w still applies to the force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each type of fo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Weigh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993600"/>
            <a:ext cx="5705640" cy="42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weight” of an object is the gravitational force exerted on it by the gravitational attraction between the object and its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urface of the Earth, the gravitational force is referred to as weig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54680" y="1806480"/>
            <a:ext cx="3268800" cy="309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2120760" y="1693800"/>
          <a:ext cx="222588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0760" y="1693800"/>
                    <a:ext cx="22258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131920" y="2770200"/>
          <a:ext cx="2835360" cy="57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1920" y="2770200"/>
                    <a:ext cx="28353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96920" y="5146560"/>
            <a:ext cx="85424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is a measure of an object’s inertia (measured in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objec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gravit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object’s mass (measured in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d by the local gravitational acceleration surrounding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rmal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support” force between 2 surfaces 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is always perpendi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norm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plane of the area of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he force of floor that supports your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tanding on a scale on the floor of an elevator.  The reading of the scale is equal to the normal force it exerts on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free body diagrams for the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up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erating down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xamples of Normal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4470480" cy="368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79396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0-26T20:33:14Z</dcterms:modified>
  <cp:revision>34</cp:revision>
  <dc:subject/>
  <dc:title>Phy 211: General Physics I</dc:title>
</cp:coreProperties>
</file>