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8DC-25F1-4926-862C-26DAA913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80F-3D13-4926-9A03-F4BE094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4AD-0974-498E-AEC5-E3F79D5A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D16-2820-4E23-8A56-7D58DDAA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E49-58DF-4252-82A1-80F57A4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CAD-1DAC-4017-A46D-E01F17D3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F5E-95AA-475A-B422-50ECA4C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A54-0EC9-4144-96B7-8D16E8F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B85-1F05-4E97-A7F6-B2AF9893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F5D-B3C4-49BC-BC8D-AFCA77A1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A2C-0808-4F83-9459-253F4B9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8DE-ACD6-41E3-8AE4-3B0ED85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5D3-7603-4CFD-AE89-6720E6517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Force &amp; Mo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18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26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36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76200" y="3046320"/>
          <a:ext cx="19051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3046320"/>
                    <a:ext cx="1905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Sir Isaac Newton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642-172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27408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invented the “calculu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ong with Gottfried Wilhelm Leibni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his accomplishments included theori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&amp;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&amp;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e Law of Universal Gravitation (to settle a parlor b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 was actually between Edward Haley &amp; Robert Hoo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17720" y="4826160"/>
          <a:ext cx="5607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4826160"/>
                    <a:ext cx="5607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4124160"/>
          <a:ext cx="330012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24160"/>
                    <a:ext cx="33001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00480" y="4262400"/>
          <a:ext cx="33181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0480" y="4262400"/>
                    <a:ext cx="3318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52800" y="1498680"/>
          <a:ext cx="40827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2800" y="1498680"/>
                    <a:ext cx="408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56040" y="4861080"/>
          <a:ext cx="26172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6040" y="4861080"/>
                    <a:ext cx="261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76200" y="5183280"/>
          <a:ext cx="50004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6200" y="518328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61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drawing of a body with only the forces acting on i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67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73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82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766800"/>
            <a:ext cx="85341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Weigh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120760" y="1693800"/>
          <a:ext cx="22258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0760" y="1693800"/>
                    <a:ext cx="22258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131920" y="2770200"/>
          <a:ext cx="283536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1920" y="2770200"/>
                    <a:ext cx="2835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0-26T20:33:14Z</dcterms:modified>
  <cp:revision>34</cp:revision>
  <dc:subject/>
  <dc:title>Phy 211: General Physics I</dc:title>
</cp:coreProperties>
</file>