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287-8C59-461A-B660-8DF1F63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ECF5-B97F-4A88-B2BC-358E2F39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15A-B4ED-4444-8ADD-A951F2E5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250-761B-4BDC-828F-EC9F4298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5CD-071E-46E8-BF28-2EF7D5EF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7ED-EBA6-45F3-B247-C3296575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3F2-1635-4A10-A987-8B6F1BDF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F2C-6A4A-427D-8A6D-96086C6C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63600"/>
            <a:ext cx="822960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614-1B54-4436-90EC-E8186077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F54-B0AE-4ABE-8C12-3C999FAC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5B9F-45CE-475B-B573-A038831B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CBA-3F83-43C6-84A2-B2D2F45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AEDD-80A2-4502-9B74-FCA408F1F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Motion in 2 &amp; 3 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2-Dimensional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that is not along a straight line is a two-dimensional mo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sition, displacement, velocity and acceleration vectors are necessarily not on the same directions; the rules for vector addition and subtraction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velocity vector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trajecto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velocity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acceleration vector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tangent to the slope of the velocity at each instant in ti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average acceleration 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always in the direction of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09080" y="2997360"/>
            <a:ext cx="973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(t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997680" y="1765440"/>
            <a:ext cx="1874880" cy="1980720"/>
            <a:chOff x="6997680" y="1765440"/>
            <a:chExt cx="1874880" cy="1980720"/>
          </a:xfrm>
        </p:grpSpPr>
        <p:sp>
          <p:nvSpPr>
            <p:cNvPr id="49" name=""/>
            <p:cNvSpPr/>
            <p:nvPr/>
          </p:nvSpPr>
          <p:spPr>
            <a:xfrm>
              <a:off x="6997680" y="3421080"/>
              <a:ext cx="177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6997680" y="1904760"/>
              <a:ext cx="0" cy="18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13480" y="2230560"/>
              <a:ext cx="1043280" cy="868320"/>
            </a:xfrm>
            <a:custGeom>
              <a:avLst/>
              <a:gdLst/>
              <a:ahLst/>
              <a:rect l="l" t="t" r="r" b="b"/>
              <a:pathLst>
                <a:path w="657" h="547">
                  <a:moveTo>
                    <a:pt x="0" y="0"/>
                  </a:moveTo>
                  <a:lnTo>
                    <a:pt x="58" y="4"/>
                  </a:lnTo>
                  <a:lnTo>
                    <a:pt x="114" y="9"/>
                  </a:lnTo>
                  <a:lnTo>
                    <a:pt x="169" y="15"/>
                  </a:lnTo>
                  <a:lnTo>
                    <a:pt x="222" y="21"/>
                  </a:lnTo>
                  <a:lnTo>
                    <a:pt x="271" y="30"/>
                  </a:lnTo>
                  <a:lnTo>
                    <a:pt x="294" y="35"/>
                  </a:lnTo>
                  <a:lnTo>
                    <a:pt x="317" y="40"/>
                  </a:lnTo>
                  <a:lnTo>
                    <a:pt x="338" y="46"/>
                  </a:lnTo>
                  <a:lnTo>
                    <a:pt x="358" y="53"/>
                  </a:lnTo>
                  <a:lnTo>
                    <a:pt x="377" y="60"/>
                  </a:lnTo>
                  <a:lnTo>
                    <a:pt x="394" y="68"/>
                  </a:lnTo>
                  <a:lnTo>
                    <a:pt x="410" y="77"/>
                  </a:lnTo>
                  <a:lnTo>
                    <a:pt x="424" y="87"/>
                  </a:lnTo>
                  <a:lnTo>
                    <a:pt x="435" y="97"/>
                  </a:lnTo>
                  <a:lnTo>
                    <a:pt x="446" y="109"/>
                  </a:lnTo>
                  <a:lnTo>
                    <a:pt x="454" y="120"/>
                  </a:lnTo>
                  <a:lnTo>
                    <a:pt x="463" y="132"/>
                  </a:lnTo>
                  <a:lnTo>
                    <a:pt x="476" y="158"/>
                  </a:lnTo>
                  <a:lnTo>
                    <a:pt x="488" y="186"/>
                  </a:lnTo>
                  <a:lnTo>
                    <a:pt x="498" y="214"/>
                  </a:lnTo>
                  <a:lnTo>
                    <a:pt x="510" y="243"/>
                  </a:lnTo>
                  <a:lnTo>
                    <a:pt x="525" y="273"/>
                  </a:lnTo>
                  <a:lnTo>
                    <a:pt x="533" y="289"/>
                  </a:lnTo>
                  <a:lnTo>
                    <a:pt x="541" y="306"/>
                  </a:lnTo>
                  <a:lnTo>
                    <a:pt x="551" y="325"/>
                  </a:lnTo>
                  <a:lnTo>
                    <a:pt x="559" y="345"/>
                  </a:lnTo>
                  <a:lnTo>
                    <a:pt x="577" y="385"/>
                  </a:lnTo>
                  <a:lnTo>
                    <a:pt x="595" y="427"/>
                  </a:lnTo>
                  <a:lnTo>
                    <a:pt x="603" y="446"/>
                  </a:lnTo>
                  <a:lnTo>
                    <a:pt x="612" y="466"/>
                  </a:lnTo>
                  <a:lnTo>
                    <a:pt x="620" y="484"/>
                  </a:lnTo>
                  <a:lnTo>
                    <a:pt x="628" y="501"/>
                  </a:lnTo>
                  <a:lnTo>
                    <a:pt x="636" y="515"/>
                  </a:lnTo>
                  <a:lnTo>
                    <a:pt x="642" y="528"/>
                  </a:lnTo>
                  <a:lnTo>
                    <a:pt x="650" y="538"/>
                  </a:lnTo>
                  <a:lnTo>
                    <a:pt x="656" y="54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997680" y="2230200"/>
              <a:ext cx="415800" cy="11905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7016760" y="3060720"/>
              <a:ext cx="1352520" cy="324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413480" y="2230560"/>
              <a:ext cx="1041480" cy="8668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34400" y="2230560"/>
              <a:ext cx="417240" cy="325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26280" y="1765440"/>
              <a:ext cx="1353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(t</a:t>
              </a:r>
              <a:r>
                <a:rPr b="0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1981440"/>
              <a:ext cx="64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xample of 2-D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540240" cy="4673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05520" y="1828800"/>
            <a:ext cx="360828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Displacement, Velocity &amp; Accelerat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108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nsidering motion problems in 2-D, the definitions for the motion vectors described in Chapter 2 still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useful to break problems into two 1-D problems, us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ce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37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l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asic trigonometry relations to obtain vertical &amp; horizontal components for al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3398760"/>
          <a:ext cx="2317680" cy="7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398760"/>
                    <a:ext cx="23176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362320" y="4241880"/>
          <a:ext cx="2361960" cy="6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241880"/>
                    <a:ext cx="236196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19280" y="2695680"/>
          <a:ext cx="335304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9280" y="2695680"/>
                    <a:ext cx="33530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814320"/>
            <a:ext cx="845820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const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replace 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n the abo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Equations of Kinematics in 2-D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3480"/>
            <a:ext cx="3809880" cy="26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rizo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 - 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203120"/>
            <a:ext cx="3809880" cy="25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ic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½ (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+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 -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+ ½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oy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2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960" y="4043520"/>
            <a:ext cx="85122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classic 2-D mo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motion is treated the same as free-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- 9.8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downwar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izontal motion is independent of vertical motion but connected by time but no acceleration vector in horizontal di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 m/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Free Fall Motion, air resistance is neg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49021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5212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rojectile Motion Notes (cont.)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121440" cy="2379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612144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Uniform Circular Motion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52600" y="1308240"/>
            <a:ext cx="830088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travels in a circular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us of motion (r)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(v) is 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as object continually changes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hanging (v is not but direction is), the object must be accel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the acceleration vector is always toward the center of the circular motion is referred to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tripetal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gnitude of centripetal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148280" y="3540240"/>
          <a:ext cx="302256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540240"/>
                    <a:ext cx="3022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"/>
          <p:cNvGrpSpPr/>
          <p:nvPr/>
        </p:nvGrpSpPr>
        <p:grpSpPr>
          <a:xfrm>
            <a:off x="6481800" y="733320"/>
            <a:ext cx="2743200" cy="1905120"/>
            <a:chOff x="6481800" y="733320"/>
            <a:chExt cx="2743200" cy="1905120"/>
          </a:xfrm>
        </p:grpSpPr>
        <p:sp>
          <p:nvSpPr>
            <p:cNvPr id="85" name=""/>
            <p:cNvSpPr/>
            <p:nvPr/>
          </p:nvSpPr>
          <p:spPr>
            <a:xfrm>
              <a:off x="6488280" y="739800"/>
              <a:ext cx="1892160" cy="1892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40760" y="1577880"/>
              <a:ext cx="292320" cy="2919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8386920" y="111420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39200" y="119052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862680" y="733320"/>
              <a:ext cx="5331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7472520" y="2638440"/>
              <a:ext cx="53352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481800" y="1724040"/>
              <a:ext cx="0" cy="45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472160" y="1114200"/>
              <a:ext cx="685800" cy="609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48840" y="1038240"/>
              <a:ext cx="68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6684840" y="5437080"/>
          <a:ext cx="146700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4840" y="5437080"/>
                    <a:ext cx="1467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82296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Derivation of Centrifugal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036800"/>
            <a:ext cx="864900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object in uniform circular motion, 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 = constant {radius of travel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v = constant {speed of objec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gnitude of the centripetal acceleration (              ) can be obtained by applying the Pythagorean theor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onents of the velocity vector continuous change as the objects travels around the circle and are related to the angl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89360" y="2503440"/>
          <a:ext cx="148572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503440"/>
                    <a:ext cx="14857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5904000" y="4017960"/>
            <a:ext cx="3106440" cy="2595240"/>
            <a:chOff x="5904000" y="4017960"/>
            <a:chExt cx="3106440" cy="2595240"/>
          </a:xfrm>
        </p:grpSpPr>
        <p:sp>
          <p:nvSpPr>
            <p:cNvPr id="101" name=""/>
            <p:cNvSpPr/>
            <p:nvPr/>
          </p:nvSpPr>
          <p:spPr>
            <a:xfrm>
              <a:off x="8362080" y="555912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04000" y="4683240"/>
              <a:ext cx="1789920" cy="19299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64880" y="4916160"/>
              <a:ext cx="276120" cy="2980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7167960" y="4629600"/>
              <a:ext cx="244800" cy="2991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88640" y="4469400"/>
              <a:ext cx="6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34240" y="5065200"/>
              <a:ext cx="648360" cy="621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06960" y="498744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28840" y="4143960"/>
              <a:ext cx="11880" cy="153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28840" y="5675760"/>
              <a:ext cx="1870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07720" y="4017960"/>
              <a:ext cx="64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908760" y="5535000"/>
              <a:ext cx="167040" cy="1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57923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579236"/>
                </a:path>
              </a:pathLst>
            </a:cu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45200" y="5353560"/>
              <a:ext cx="64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812280" y="5670720"/>
              <a:ext cx="654480" cy="6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472880" y="5074560"/>
              <a:ext cx="0" cy="59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28640" y="5570640"/>
              <a:ext cx="4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35440" y="5220720"/>
              <a:ext cx="468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"/>
          <p:cNvGraphicFramePr/>
          <p:nvPr/>
        </p:nvGraphicFramePr>
        <p:xfrm>
          <a:off x="5479920" y="1700280"/>
          <a:ext cx="94788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9920" y="1700280"/>
                    <a:ext cx="947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12920" y="3656160"/>
          <a:ext cx="6046560" cy="29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920" y="3656160"/>
                    <a:ext cx="6046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0-12T20:57:55Z</dcterms:modified>
  <cp:revision>26</cp:revision>
  <dc:subject/>
  <dc:title>Phy 211: General Physics I</dc:title>
</cp:coreProperties>
</file>