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CA8-BB79-41EE-B4D1-A376BBC3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44F-2DD8-41B6-A0B9-6ABA9FA6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86C-982A-46DF-A786-BA4F32AB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51E-D204-4C35-9CA6-9C8C44B6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841-FC8A-4D54-8791-139E216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BE3-C42B-47AE-85D6-F7FD4DF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EA3-C999-4F0B-8390-05F4923E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C11-CCF0-4914-A033-1DB80E9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63600"/>
            <a:ext cx="82296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541-CCE8-4F07-8195-A9F603D0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F9E-4E26-4625-B59F-FE688BF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A18-E4A2-491E-A3A4-8212444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EA8-0F38-40A5-96ED-59AEE5FD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73C-5219-4C46-BDCF-7EF18D79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Motion in 2 &amp; 3 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2-Dimensional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that is not along a straight line is a two-dimensional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, displacement, velocity and acceleration vectors are necessarily not on the same directions; the rules for vector addition and subtraction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velocity vector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trajecto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velocity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acceleration vector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slope of the velocity at each instant in ti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acceleration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9080" y="2997360"/>
            <a:ext cx="973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97680" y="1765440"/>
            <a:ext cx="1874880" cy="1980720"/>
            <a:chOff x="6997680" y="1765440"/>
            <a:chExt cx="1874880" cy="1980720"/>
          </a:xfrm>
        </p:grpSpPr>
        <p:sp>
          <p:nvSpPr>
            <p:cNvPr id="49" name=""/>
            <p:cNvSpPr/>
            <p:nvPr/>
          </p:nvSpPr>
          <p:spPr>
            <a:xfrm>
              <a:off x="6997680" y="3421080"/>
              <a:ext cx="177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997680" y="1904760"/>
              <a:ext cx="0" cy="18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13480" y="2230560"/>
              <a:ext cx="1043280" cy="868320"/>
            </a:xfrm>
            <a:custGeom>
              <a:avLst/>
              <a:gdLst/>
              <a:ahLst/>
              <a:rect l="l" t="t" r="r" b="b"/>
              <a:pathLst>
                <a:path w="657" h="547">
                  <a:moveTo>
                    <a:pt x="0" y="0"/>
                  </a:moveTo>
                  <a:lnTo>
                    <a:pt x="58" y="4"/>
                  </a:lnTo>
                  <a:lnTo>
                    <a:pt x="114" y="9"/>
                  </a:lnTo>
                  <a:lnTo>
                    <a:pt x="169" y="15"/>
                  </a:lnTo>
                  <a:lnTo>
                    <a:pt x="222" y="21"/>
                  </a:lnTo>
                  <a:lnTo>
                    <a:pt x="271" y="30"/>
                  </a:lnTo>
                  <a:lnTo>
                    <a:pt x="294" y="35"/>
                  </a:lnTo>
                  <a:lnTo>
                    <a:pt x="317" y="40"/>
                  </a:lnTo>
                  <a:lnTo>
                    <a:pt x="338" y="46"/>
                  </a:lnTo>
                  <a:lnTo>
                    <a:pt x="358" y="53"/>
                  </a:lnTo>
                  <a:lnTo>
                    <a:pt x="377" y="60"/>
                  </a:lnTo>
                  <a:lnTo>
                    <a:pt x="394" y="68"/>
                  </a:lnTo>
                  <a:lnTo>
                    <a:pt x="410" y="77"/>
                  </a:lnTo>
                  <a:lnTo>
                    <a:pt x="424" y="87"/>
                  </a:lnTo>
                  <a:lnTo>
                    <a:pt x="435" y="97"/>
                  </a:lnTo>
                  <a:lnTo>
                    <a:pt x="446" y="109"/>
                  </a:lnTo>
                  <a:lnTo>
                    <a:pt x="454" y="120"/>
                  </a:lnTo>
                  <a:lnTo>
                    <a:pt x="463" y="132"/>
                  </a:lnTo>
                  <a:lnTo>
                    <a:pt x="476" y="158"/>
                  </a:lnTo>
                  <a:lnTo>
                    <a:pt x="488" y="186"/>
                  </a:lnTo>
                  <a:lnTo>
                    <a:pt x="498" y="214"/>
                  </a:lnTo>
                  <a:lnTo>
                    <a:pt x="510" y="243"/>
                  </a:lnTo>
                  <a:lnTo>
                    <a:pt x="525" y="273"/>
                  </a:lnTo>
                  <a:lnTo>
                    <a:pt x="533" y="289"/>
                  </a:lnTo>
                  <a:lnTo>
                    <a:pt x="541" y="306"/>
                  </a:lnTo>
                  <a:lnTo>
                    <a:pt x="551" y="325"/>
                  </a:lnTo>
                  <a:lnTo>
                    <a:pt x="559" y="345"/>
                  </a:lnTo>
                  <a:lnTo>
                    <a:pt x="577" y="385"/>
                  </a:lnTo>
                  <a:lnTo>
                    <a:pt x="595" y="427"/>
                  </a:lnTo>
                  <a:lnTo>
                    <a:pt x="603" y="446"/>
                  </a:lnTo>
                  <a:lnTo>
                    <a:pt x="612" y="466"/>
                  </a:lnTo>
                  <a:lnTo>
                    <a:pt x="620" y="484"/>
                  </a:lnTo>
                  <a:lnTo>
                    <a:pt x="628" y="501"/>
                  </a:lnTo>
                  <a:lnTo>
                    <a:pt x="636" y="515"/>
                  </a:lnTo>
                  <a:lnTo>
                    <a:pt x="642" y="528"/>
                  </a:lnTo>
                  <a:lnTo>
                    <a:pt x="650" y="538"/>
                  </a:lnTo>
                  <a:lnTo>
                    <a:pt x="656" y="54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997680" y="2230200"/>
              <a:ext cx="415800" cy="11905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016760" y="3060720"/>
              <a:ext cx="1352520" cy="324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13480" y="2230560"/>
              <a:ext cx="1041480" cy="866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34400" y="2230560"/>
              <a:ext cx="417240" cy="325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26280" y="1765440"/>
              <a:ext cx="1353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(t</a:t>
              </a:r>
              <a:r>
                <a:rPr b="0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1981440"/>
              <a:ext cx="64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 of 2-D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40240" cy="4673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608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placement, Velocity &amp; Acceler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motion problems in 2-D, the definitions for the motion vectors described in Chapter 2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useful to break problems into two 1-D problems,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sic trigonometry relations to obtain vertical &amp; horizontal components for al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3398760"/>
          <a:ext cx="23176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98760"/>
                    <a:ext cx="2317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4241880"/>
          <a:ext cx="23619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241880"/>
                    <a:ext cx="236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19280" y="2695680"/>
          <a:ext cx="335304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2695680"/>
                    <a:ext cx="3353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814320"/>
            <a:ext cx="845820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replace 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n the abo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quations of Kinematics in 2-D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3480"/>
            <a:ext cx="3809880" cy="26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izo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203120"/>
            <a:ext cx="3809880" cy="25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960" y="4043520"/>
            <a:ext cx="85122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lassic 2-D mo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otion is treated the same as free-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9.8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ownwar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motion is independent of vertical motion but connected by time but no acceleration vector in horizontal di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Free Fall Motion, air resistance is neg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490212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5212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 (cont.)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21440" cy="2379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61214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Uniform Circular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2600" y="1308240"/>
            <a:ext cx="83008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ravels in a circular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 of motion (r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(v) i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as object continually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ing (v is not but direction is), the object must be accel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cceleration vector is always toward the center of the circular motion is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148280" y="3540240"/>
          <a:ext cx="30225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3540240"/>
                    <a:ext cx="3022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6481800" y="733320"/>
            <a:ext cx="2743200" cy="1905120"/>
            <a:chOff x="6481800" y="733320"/>
            <a:chExt cx="2743200" cy="1905120"/>
          </a:xfrm>
        </p:grpSpPr>
        <p:sp>
          <p:nvSpPr>
            <p:cNvPr id="85" name=""/>
            <p:cNvSpPr/>
            <p:nvPr/>
          </p:nvSpPr>
          <p:spPr>
            <a:xfrm>
              <a:off x="6488280" y="739800"/>
              <a:ext cx="1892160" cy="18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40760" y="1577880"/>
              <a:ext cx="292320" cy="291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386920" y="111420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39200" y="11905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862680" y="733320"/>
              <a:ext cx="533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7472520" y="2638440"/>
              <a:ext cx="533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481800" y="172404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472160" y="1114200"/>
              <a:ext cx="685800" cy="60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48840" y="103824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6684840" y="5437080"/>
          <a:ext cx="146700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4840" y="5437080"/>
                    <a:ext cx="1467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rivation of Centrifugal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4900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object in uniform circular motion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constant {radius of trave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 = constant {speed of obje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centripetal acceleration (              ) can be obtained by applying the Pythagorean theor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s of the velocity vector continuous change as the objects travels around the circle and are related to the angl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89360" y="2503440"/>
          <a:ext cx="1485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503440"/>
                    <a:ext cx="1485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5904000" y="4017960"/>
            <a:ext cx="3106440" cy="2595240"/>
            <a:chOff x="5904000" y="4017960"/>
            <a:chExt cx="3106440" cy="2595240"/>
          </a:xfrm>
        </p:grpSpPr>
        <p:sp>
          <p:nvSpPr>
            <p:cNvPr id="101" name=""/>
            <p:cNvSpPr/>
            <p:nvPr/>
          </p:nvSpPr>
          <p:spPr>
            <a:xfrm>
              <a:off x="8362080" y="5559120"/>
              <a:ext cx="64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04000" y="4683240"/>
              <a:ext cx="1789920" cy="1929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64880" y="4916160"/>
              <a:ext cx="276120" cy="298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7167960" y="4629600"/>
              <a:ext cx="244800" cy="2991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88640" y="4469400"/>
              <a:ext cx="6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34240" y="5065200"/>
              <a:ext cx="648360" cy="621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06960" y="4987440"/>
              <a:ext cx="64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28840" y="4143960"/>
              <a:ext cx="11880" cy="153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28840" y="5675760"/>
              <a:ext cx="1870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07720" y="4017960"/>
              <a:ext cx="64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08760" y="5535000"/>
              <a:ext cx="167040" cy="1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79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79236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45200" y="5353560"/>
              <a:ext cx="64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812280" y="5670720"/>
              <a:ext cx="654480" cy="6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472880" y="5074560"/>
              <a:ext cx="0" cy="59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28640" y="5570640"/>
              <a:ext cx="46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35440" y="5220720"/>
              <a:ext cx="468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5479920" y="1700280"/>
          <a:ext cx="9478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9920" y="1700280"/>
                    <a:ext cx="947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12920" y="3656160"/>
          <a:ext cx="6046560" cy="29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920" y="3656160"/>
                    <a:ext cx="6046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0-12T20:57:55Z</dcterms:modified>
  <cp:revision>26</cp:revision>
  <dc:subject/>
  <dc:title>Phy 211: General Physics I</dc:title>
</cp:coreProperties>
</file>