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7CE-0C43-4356-8EA3-E08DB072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790-916F-4D6C-9560-B19252C2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565-3EE3-412F-8AA2-914B43E4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77A-91B7-41ED-9EF9-22AF2D3C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BE8-A389-45C5-9C8E-9859E6E0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03B-6703-491E-AE73-C729197F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ECD-D0ED-43A3-8288-6B49A63C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073-119B-4766-9181-977B6C75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144-F416-43A4-B310-FBFA2714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D21-B6DC-4A78-B27B-B36BAD43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A1F-698E-4510-835D-6D4915DB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7FC-0B13-4999-811A-714D982E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50E-CF33-4627-AA5F-ACEAF4244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: Motion along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Galileo Galilei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564-1642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5867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ed with establishing the “scientific metho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his scientific hypotheses on observation and experi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o use telescope for astronomical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raters and features on the M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ons of Jupiter &amp; the rings of Sa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is observations supported Copernica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vely refuted Aristotelian ideolog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d contradicted Church doctr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d under “house arrest” as 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d accelerated motion and established the first equations of kin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he Law of Inertia, which later became known as Newton’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of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00800" y="838080"/>
            <a:ext cx="25272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Displacement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object is in motion if it changes its position relative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ference point (Origin). Motion is rel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(R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that connects an object’s location to a reference point (origin). As an object moves, the its position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difference between the final position and the initial position of a moving object; its magnitude is measured in meters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608800"/>
            <a:ext cx="3036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419720"/>
            <a:ext cx="215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 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4320" y="5172120"/>
            <a:ext cx="2644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79960" y="4464000"/>
            <a:ext cx="24494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2840" y="5608800"/>
            <a:ext cx="21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R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(Displac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7840" y="4941720"/>
            <a:ext cx="96840" cy="1098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776840"/>
            <a:ext cx="44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5218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6388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0084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27320" y="499752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75440" y="4998960"/>
            <a:ext cx="39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724280"/>
            <a:ext cx="609480" cy="228600"/>
          </a:xfrm>
          <a:prstGeom prst="line">
            <a:avLst/>
          </a:prstGeom>
          <a:ln w="28440">
            <a:solidFill>
              <a:srgbClr val="ffcc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Speed &amp; Velocity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3080" y="838080"/>
            <a:ext cx="84708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vector with the same direction as the displacement vecto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). Its magnitude is call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t is measured in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782800" y="3124080"/>
          <a:ext cx="24750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2800" y="3124080"/>
                    <a:ext cx="2475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429000" y="4419720"/>
          <a:ext cx="2289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419720"/>
                    <a:ext cx="2289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486400" y="2712960"/>
            <a:ext cx="3036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1523880"/>
            <a:ext cx="215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 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84520" y="2314440"/>
            <a:ext cx="752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6440" y="1555920"/>
            <a:ext cx="709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77080" y="2712960"/>
            <a:ext cx="21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plac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41720" y="2046240"/>
            <a:ext cx="96840" cy="1094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1881360"/>
            <a:ext cx="4408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32236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88120" y="1990800"/>
            <a:ext cx="19656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24720" y="199080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1560" y="2101680"/>
            <a:ext cx="39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599320" y="210348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828800"/>
            <a:ext cx="60984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03480"/>
            <a:ext cx="851040" cy="4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25960" y="2077920"/>
            <a:ext cx="154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v (velo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76520" y="5214960"/>
          <a:ext cx="403848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214960"/>
                    <a:ext cx="40384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784600" y="3886200"/>
          <a:ext cx="23209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84600" y="3886200"/>
                    <a:ext cx="2320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Acceleration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3800" y="837720"/>
            <a:ext cx="8661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velocity vector is changing in tim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ctor describes the time rate of change of the velocity 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a vector with the same direction as the change in velocity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vector. It is measured in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Accel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 Accel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 1: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A car accelerates from 0 to 30 m/s in 6 s.  Find the average accel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30 m/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 2: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A ball descends in water with a velocity defined by: v(t) = -1t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+ 10t + 5 (assume SI units). Find the instantaneous acceleration after 2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62520" y="2895480"/>
          <a:ext cx="32763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895480"/>
                    <a:ext cx="3276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200400" y="2081160"/>
          <a:ext cx="357192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081160"/>
                    <a:ext cx="357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124080" y="4191120"/>
          <a:ext cx="27432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191120"/>
                    <a:ext cx="2743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590920" y="5638680"/>
          <a:ext cx="4626000" cy="64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5638680"/>
                    <a:ext cx="46260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Equations of Kinematics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t, it can be re-arranged to yield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ng this expression over the interval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 (and correspond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v) for consta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qn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t, it can be re-arranged to yield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t = [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t -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]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ng this expression over the interval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 (and corresponding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q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(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tant), the most relevent equations of motion (including (1) &amp; (2) above) can be written in scalar form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- 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at                 {Velocity Equatio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 + ½ at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   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{Displacement Equatio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½(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)t   {Average Velocity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- 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2a(r - r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)     {Galileo’s Equatio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equations will allow us to completely describe the motion of a moving object and represent our “toolbox” for studying kine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0" y="1600200"/>
          <a:ext cx="403848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0384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09480" y="3200400"/>
          <a:ext cx="6553440" cy="9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00400"/>
                    <a:ext cx="65534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Free Falling Bodies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-D motion of objects subject to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motion considered is vertic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or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air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of falling object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-9.8 m/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Consider a rock dropped from 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velocity after the rock has fallen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r does the rock travel during this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st is the rock moving after it has fallen 10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2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Consider a rock tossed into the air with an initial upward velocity of 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long would it take for the rock to return to the thrower (initial heigh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highest position the rock reaches during its asc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2209680"/>
            <a:ext cx="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286000"/>
            <a:ext cx="1828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9.8 m/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18288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Graphical Analysis of Velocity &amp; Acceler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761000" cy="51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vs. tim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vs. tim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ea under the curve is th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23:47:29Z</dcterms:created>
  <dc:creator>Tony Zable</dc:creator>
  <dc:description/>
  <dc:language>en-US</dc:language>
  <cp:lastModifiedBy>Tony Zable</cp:lastModifiedBy>
  <dcterms:modified xsi:type="dcterms:W3CDTF">2006-10-04T22:56:46Z</dcterms:modified>
  <cp:revision>13</cp:revision>
  <dc:subject/>
  <dc:title>Phy 211: General Physics I</dc:title>
</cp:coreProperties>
</file>