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F1AA-E81C-4150-8F43-9CB72450F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7272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FB12-E484-425E-AE13-E4CFAE3F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3915-0807-4AE8-8C22-5B1C7BDCE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72720"/>
            <a:ext cx="264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F04E-E641-4C84-A0F2-3B75110A5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659C-3455-4E1E-B23E-55CDA52D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BDB2-D646-41DF-99AE-EEAFF579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12EB-5C6D-44E5-8861-ED4E6DCF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CC08-7701-4E11-9322-74A55F5D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A66A-938F-40D1-AE9D-EE6B0ADC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3147-4F9F-46C0-B923-4F3C2C14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7272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125E-6BC4-41CE-9CD8-858EF8EF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7272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B8E7-0E78-43C7-88F9-B59B89D9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49CA-D8E3-4A90-8603-F7E1F761B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04840" cy="36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Phy 211: General Physics I</a:t>
            </a:r>
            <a:endParaRPr b="0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4678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2: Motion along a Straigh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Galileo Galilei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(1564-1642)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58672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dited with establishing the “scientific metho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his scientific hypotheses on observation and experi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o use telescope for astronomical 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d the follow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raters and features on the Mo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oons of Jupiter &amp; the rings of Sa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n sp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his observations supported Copernican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vely refuted Aristotelian ideolog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nd contradicted Church doctr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d under “house arrest” as punish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ied accelerated motion and established the first equations of kinema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the Law of Inertia, which later became known as Newton’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w of Mo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400800" y="838080"/>
            <a:ext cx="252720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Displacement</a:t>
            </a:r>
            <a:endParaRPr b="0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0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 object is in motion if it changes its position relative to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ference point (Origin). Motion is rel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ition (R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ector that connects an object’s location to a reference point (origin). As an object moves, the its position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c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the difference between the final position and the initial position of a moving object; its magnitude is measured in meters (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608800"/>
            <a:ext cx="30366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419720"/>
            <a:ext cx="2155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igin (0,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84320" y="5172120"/>
            <a:ext cx="26449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osition vector at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79960" y="4464000"/>
            <a:ext cx="24494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osition vector at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52840" y="5608800"/>
            <a:ext cx="215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R </a:t>
            </a: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(Displace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17840" y="4941720"/>
            <a:ext cx="96840" cy="1098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4776840"/>
            <a:ext cx="4408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90920" y="5218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63880" y="4886280"/>
            <a:ext cx="196920" cy="22068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900840" y="4886280"/>
            <a:ext cx="196920" cy="22068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27320" y="4997520"/>
            <a:ext cx="392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75440" y="4998960"/>
            <a:ext cx="392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4724280"/>
            <a:ext cx="609480" cy="228600"/>
          </a:xfrm>
          <a:prstGeom prst="line">
            <a:avLst/>
          </a:prstGeom>
          <a:ln w="28440">
            <a:solidFill>
              <a:srgbClr val="ffcc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Speed &amp; Velocity</a:t>
            </a:r>
            <a:endParaRPr b="0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3080" y="838080"/>
            <a:ext cx="847080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loc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vector with the same direction as the displacement vector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). Its magnitude is call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pe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it is measured in m/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Veloc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Spe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ntaneous Veloc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782800" y="3124080"/>
          <a:ext cx="24750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82800" y="3124080"/>
                    <a:ext cx="24750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3429000" y="4419720"/>
          <a:ext cx="228924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4419720"/>
                    <a:ext cx="2289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5486400" y="2712960"/>
            <a:ext cx="3036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1523880"/>
            <a:ext cx="2156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igin (0,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84520" y="2314440"/>
            <a:ext cx="752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009999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16440" y="1555920"/>
            <a:ext cx="7099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009999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77080" y="2712960"/>
            <a:ext cx="215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Displace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41720" y="2046240"/>
            <a:ext cx="96840" cy="10944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14800" y="1881360"/>
            <a:ext cx="44085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2322360"/>
            <a:ext cx="13716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88120" y="1990800"/>
            <a:ext cx="196560" cy="22068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424720" y="1990800"/>
            <a:ext cx="196920" cy="22068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51560" y="2101680"/>
            <a:ext cx="392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599320" y="2103480"/>
            <a:ext cx="392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1828800"/>
            <a:ext cx="609840" cy="2286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2103480"/>
            <a:ext cx="851040" cy="4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925960" y="2077920"/>
            <a:ext cx="154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v (velo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676520" y="5214960"/>
          <a:ext cx="4038480" cy="347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5214960"/>
                    <a:ext cx="403848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2784600" y="3886200"/>
          <a:ext cx="232092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84600" y="3886200"/>
                    <a:ext cx="23209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Acceleration</a:t>
            </a:r>
            <a:endParaRPr b="0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3800" y="837720"/>
            <a:ext cx="86612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velocity vector is changing in time,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le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ector describes the time rate of change of the velocity ve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le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a vector with the same direction as the change in velocity 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vector. It is measured in m/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Acceler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ntaneous Acceler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Example 1: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A car accelerates from 0 to 30 m/s in 6 s.  Find the average accel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Since </a:t>
            </a:r>
            <a:r>
              <a:rPr b="1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= 30 m/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Example 2: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A ball descends in water with a velocity defined by: v(t) = -1t</a:t>
            </a:r>
            <a:r>
              <a:rPr b="0" lang="en-US" sz="18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+ 10t + 5 (assume SI units). Find the instantaneous acceleration after 2 seco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962520" y="2895480"/>
          <a:ext cx="327636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895480"/>
                    <a:ext cx="32763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3200400" y="2081160"/>
          <a:ext cx="3571920" cy="66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2081160"/>
                    <a:ext cx="357192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3124080" y="4191120"/>
          <a:ext cx="274320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4191120"/>
                    <a:ext cx="27432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590920" y="5638680"/>
          <a:ext cx="4626000" cy="644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90920" y="5638680"/>
                    <a:ext cx="462600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Equations of Kinematics</a:t>
            </a:r>
            <a:endParaRPr b="0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15328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dt, it can be re-arranged to yield: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ng this expression over the interval,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 (and corresponding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v) for consta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qn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dt, it can be re-arranged to yield: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t = [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(t - t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]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ng this expression over the interval,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 (and corresponding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r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qn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 (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onstant), the most relevent equations of motion (including (1) &amp; (2) above) can be written in scalar form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- v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= at                 {Velocity Equation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- r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= v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t + ½ at</a:t>
            </a:r>
            <a:r>
              <a:rPr b="0" lang="en-US" sz="1800" spc="-1" strike="noStrike" baseline="30000">
                <a:solidFill>
                  <a:srgbClr val="006600"/>
                </a:solidFill>
                <a:latin typeface="Arial"/>
              </a:rPr>
              <a:t>2   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{Displacement Equation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- r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= ½(v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+ v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)t   {Average Velocity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- v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o</a:t>
            </a:r>
            <a:r>
              <a:rPr b="0" lang="en-US" sz="18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= 2a(r - r</a:t>
            </a:r>
            <a:r>
              <a:rPr b="0" lang="en-US" sz="1800" spc="-1" strike="noStrike" baseline="-25000">
                <a:solidFill>
                  <a:srgbClr val="0066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)     {Galileo’s Equation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equations will allow us to completely describe the motion of a moving object and represent our “toolbox” for studying kinematic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286000" y="1600200"/>
          <a:ext cx="4038480" cy="8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600200"/>
                    <a:ext cx="403848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609480" y="3200400"/>
          <a:ext cx="6553440" cy="91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200400"/>
                    <a:ext cx="6553440" cy="9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Free Falling Bodies</a:t>
            </a:r>
            <a:endParaRPr b="0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1-D motion of objects subject to gr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ly motion considered is vertica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us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for pos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air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leration of falling object is const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-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= -9.8 m/s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Example 1: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 Consider a rock dropped from r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What is the velocity after the rock has fallen 3 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How far does the rock travel during this 3 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How fast is the rock moving after it has fallen 10 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Example 2: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Consider a rock tossed into the air with an initial upward velocity of 5 m/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How long would it take for the rock to return to the thrower (initial height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What is the highest position the rock reaches during its asc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29400" y="2209680"/>
            <a:ext cx="0" cy="8384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2286000"/>
            <a:ext cx="18288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= 9.8 m/s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1828800"/>
            <a:ext cx="30456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Graphical Analysis of Velocity &amp; Acceleration</a:t>
            </a:r>
            <a:endParaRPr b="0" lang="en-US" sz="2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4761000" cy="513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 vs. time grap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lope is the velo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locity vs. time 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lope is the accel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rea under the curve is the dis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23:47:29Z</dcterms:created>
  <dc:creator>Tony Zable</dc:creator>
  <dc:description/>
  <dc:language>en-US</dc:language>
  <cp:lastModifiedBy>Tony Zable</cp:lastModifiedBy>
  <dcterms:modified xsi:type="dcterms:W3CDTF">2006-10-04T22:56:46Z</dcterms:modified>
  <cp:revision>13</cp:revision>
  <dc:subject/>
  <dc:title>Phy 211: General Physics I</dc:title>
</cp:coreProperties>
</file>