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6.wmf" ContentType="image/x-wmf"/>
  <Override PartName="/ppt/media/image36.wmf" ContentType="image/x-wmf"/>
  <Override PartName="/ppt/media/image45.wmf" ContentType="image/x-wmf"/>
  <Override PartName="/ppt/media/image46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2.wmf" ContentType="image/x-wmf"/>
  <Override PartName="/ppt/media/image41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51.wmf" ContentType="image/x-wmf"/>
  <Override PartName="/ppt/media/image9.jpeg" ContentType="image/jpeg"/>
  <Override PartName="/ppt/media/image23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C5826F-5D15-4604-8460-4FEB5B9F7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e-s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flag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598-7F1D-4F25-9DFD-B64C8DF7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7EC-2E8B-40B4-9631-4A4A39DD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D26-7CE1-4848-8C05-E7067939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91F-2A18-4382-925F-A19E331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FB8-D4BE-46B0-91AB-B50E6176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7AB-F906-405A-9DBB-5F97AB3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96-9C6A-47F6-B508-9706EACB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26D-ACB7-49B1-8823-7BAF9BA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446-E0E7-40C6-97E7-46DFA92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F25-924A-4E9C-9EAB-194160C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E7A-8C2C-498F-A457-02D4AC74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DC45-7B18-4FC6-8F1A-099FB79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20AC-0D61-4C3F-8B0E-D0401B84B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1.wmf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0: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in Equilibri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8600" y="105552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igid body is in equilibrium w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for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mo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v 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t torq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change in state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cons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the above conditions must be met for an object to be in mechanical equilibri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bject can be bo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till be in mechanical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11360" y="2220840"/>
          <a:ext cx="368604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1360" y="2220840"/>
                    <a:ext cx="36860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631880" y="3714840"/>
          <a:ext cx="1467000" cy="55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3714840"/>
                    <a:ext cx="1467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Moment of Inertia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istance of a rigid body to changes in its state of rotational motion (    ) is calle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ment of inert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rotational inert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ment of Inertia (I) depend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of the object,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692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(position) of mass about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ntinuous mass distributio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 a discrete distribution of m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mass of a small segment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s the distance of the mass mi from the axis of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k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741320" y="4417920"/>
          <a:ext cx="50151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4417920"/>
                    <a:ext cx="50151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701720" y="3479760"/>
          <a:ext cx="64627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01720" y="3479760"/>
                    <a:ext cx="64627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63680" y="1336680"/>
          <a:ext cx="291960" cy="3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3680" y="1336680"/>
                    <a:ext cx="29196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oment of Inertia (common 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pendul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cyli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753160" y="1380960"/>
          <a:ext cx="2079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53160" y="1380960"/>
                    <a:ext cx="2079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3418920" y="10440"/>
            <a:ext cx="2814120" cy="2835360"/>
            <a:chOff x="3418920" y="10440"/>
            <a:chExt cx="2814120" cy="2835360"/>
          </a:xfrm>
        </p:grpSpPr>
        <p:sp>
          <p:nvSpPr>
            <p:cNvPr id="217" name=""/>
            <p:cNvSpPr/>
            <p:nvPr/>
          </p:nvSpPr>
          <p:spPr>
            <a:xfrm>
              <a:off x="3808800" y="1966320"/>
              <a:ext cx="329760" cy="33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086360" y="1179720"/>
              <a:ext cx="687960" cy="83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03680" y="1972440"/>
              <a:ext cx="5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39800" y="1046160"/>
              <a:ext cx="866520" cy="133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1" name=""/>
            <p:cNvGraphicFramePr/>
            <p:nvPr/>
          </p:nvGraphicFramePr>
          <p:xfrm>
            <a:off x="4135320" y="1442160"/>
            <a:ext cx="171360" cy="280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35320" y="1442160"/>
                      <a:ext cx="1713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"/>
            <p:cNvSpPr/>
            <p:nvPr/>
          </p:nvSpPr>
          <p:spPr>
            <a:xfrm rot="7896000">
              <a:off x="3762720" y="489960"/>
              <a:ext cx="2125800" cy="187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4753080" y="2876400"/>
          <a:ext cx="4049640" cy="153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53080" y="2876400"/>
                    <a:ext cx="4049640" cy="15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6" name=""/>
          <p:cNvGrpSpPr/>
          <p:nvPr/>
        </p:nvGrpSpPr>
        <p:grpSpPr>
          <a:xfrm>
            <a:off x="2138040" y="2122560"/>
            <a:ext cx="2675880" cy="2697480"/>
            <a:chOff x="2138040" y="2122560"/>
            <a:chExt cx="2675880" cy="2697480"/>
          </a:xfrm>
        </p:grpSpPr>
        <p:sp>
          <p:nvSpPr>
            <p:cNvPr id="227" name=""/>
            <p:cNvSpPr/>
            <p:nvPr/>
          </p:nvSpPr>
          <p:spPr>
            <a:xfrm>
              <a:off x="2592360" y="2778120"/>
              <a:ext cx="1482840" cy="1403280"/>
            </a:xfrm>
            <a:prstGeom prst="donut">
              <a:avLst>
                <a:gd name="adj" fmla="val 555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873520" y="3502080"/>
              <a:ext cx="425520" cy="423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2436600">
              <a:off x="2803320" y="3918960"/>
              <a:ext cx="76320" cy="7956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06600" y="3919320"/>
              <a:ext cx="80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890800" y="3327480"/>
            <a:ext cx="22860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890800" y="3327480"/>
                      <a:ext cx="228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 rot="7896000">
              <a:off x="2459880" y="2583720"/>
              <a:ext cx="2031480" cy="177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071" y="507"/>
                  </a:moveTo>
                  <a:arcTo wR="10800" hR="10800" stAng="-4342039" swAng="43420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071" y="507"/>
                  </a:moveTo>
                  <a:arcTo wR="10800" hR="10800" stAng="-4342039" swAng="4342039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4" name=""/>
          <p:cNvGraphicFramePr/>
          <p:nvPr/>
        </p:nvGraphicFramePr>
        <p:xfrm>
          <a:off x="4586400" y="4892760"/>
          <a:ext cx="4620960" cy="1682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86400" y="4892760"/>
                    <a:ext cx="462096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" name=""/>
          <p:cNvGrpSpPr/>
          <p:nvPr/>
        </p:nvGrpSpPr>
        <p:grpSpPr>
          <a:xfrm>
            <a:off x="2387160" y="5008680"/>
            <a:ext cx="2093040" cy="1774440"/>
            <a:chOff x="2387160" y="5008680"/>
            <a:chExt cx="2093040" cy="1774440"/>
          </a:xfrm>
        </p:grpSpPr>
        <p:grpSp>
          <p:nvGrpSpPr>
            <p:cNvPr id="237" name=""/>
            <p:cNvGrpSpPr/>
            <p:nvPr/>
          </p:nvGrpSpPr>
          <p:grpSpPr>
            <a:xfrm>
              <a:off x="2387160" y="5038920"/>
              <a:ext cx="2093040" cy="1496880"/>
              <a:chOff x="2387160" y="5038920"/>
              <a:chExt cx="2093040" cy="1496880"/>
            </a:xfrm>
          </p:grpSpPr>
          <p:sp>
            <p:nvSpPr>
              <p:cNvPr id="238" name=""/>
              <p:cNvSpPr/>
              <p:nvPr/>
            </p:nvSpPr>
            <p:spPr>
              <a:xfrm rot="3745200">
                <a:off x="2811240" y="5235120"/>
                <a:ext cx="1112040" cy="11037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3767760" y="5247000"/>
                <a:ext cx="712440" cy="37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87160" y="6065280"/>
                <a:ext cx="501480" cy="26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3556080" y="6414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6000" y="55926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81600" y="6122880"/>
              <a:ext cx="11448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45040" y="6516720"/>
              <a:ext cx="114120" cy="183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333600" y="6243480"/>
              <a:ext cx="692280" cy="36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9930800">
              <a:off x="3652920" y="5173560"/>
              <a:ext cx="177840" cy="826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59480" y="5621040"/>
              <a:ext cx="25200" cy="311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21240" y="50086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The Parallel Axis Theor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llel Axis Theorem is used to determine the moment of inertia for a body rotated about an axis a distance, l, from the center of m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0.2 kg cylinder (r=0.1 m) rotated about an axis located 0.5 m from its cen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814480" y="2583000"/>
          <a:ext cx="2435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4480" y="2583000"/>
                    <a:ext cx="2435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3" name=""/>
          <p:cNvGrpSpPr/>
          <p:nvPr/>
        </p:nvGrpSpPr>
        <p:grpSpPr>
          <a:xfrm>
            <a:off x="495360" y="4711680"/>
            <a:ext cx="3251160" cy="1752480"/>
            <a:chOff x="495360" y="4711680"/>
            <a:chExt cx="3251160" cy="1752480"/>
          </a:xfrm>
        </p:grpSpPr>
        <p:sp>
          <p:nvSpPr>
            <p:cNvPr id="254" name=""/>
            <p:cNvSpPr/>
            <p:nvPr/>
          </p:nvSpPr>
          <p:spPr>
            <a:xfrm>
              <a:off x="2184480" y="471168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3960" y="4902120"/>
              <a:ext cx="3022560" cy="1206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360" y="4889520"/>
              <a:ext cx="546120" cy="8636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851040" y="5384880"/>
              <a:ext cx="1333440" cy="3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09760" y="50418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1346400" y="5523840"/>
              <a:ext cx="210816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976680" y="4762440"/>
              <a:ext cx="210924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9608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960847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199040" y="4359240"/>
          <a:ext cx="4330440" cy="238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9040" y="4359240"/>
                    <a:ext cx="4330440" cy="23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Work &amp; Rotational Kinetic Energy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rque is applied to an object and a rotation is produced, the torque does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net t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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tational kinetic energy 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an object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is the Work-Energy Theorem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68760" y="1839960"/>
          <a:ext cx="2006280" cy="73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8760" y="1839960"/>
                    <a:ext cx="2006280" cy="73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492200" y="3160800"/>
          <a:ext cx="601344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2200" y="3160800"/>
                    <a:ext cx="60134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498680" y="4049640"/>
          <a:ext cx="616572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8680" y="4049640"/>
                    <a:ext cx="6165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12640" y="5510160"/>
          <a:ext cx="818208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2640" y="5510160"/>
                    <a:ext cx="8182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Rotational Motion &amp; Angular Displacement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973080"/>
            <a:ext cx="8839440" cy="49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moves in a circular path (or rotat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remains a fixed distance (r) from the center of the circular path (or axis of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radial distance is fixed, position can be described by its angular position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 positi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describes the position of an object along a circular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radians (or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displace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veloc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at which angular position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accele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rate at which angular velocity cha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627280" y="4390920"/>
          <a:ext cx="122076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390920"/>
                    <a:ext cx="12207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62520" y="3440160"/>
          <a:ext cx="21333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440160"/>
                    <a:ext cx="2133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495520" y="5572080"/>
          <a:ext cx="1486080" cy="9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5520" y="5572080"/>
                    <a:ext cx="148608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elationship between rotational and linear variables for an object in circular mo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97160"/>
            <a:ext cx="777240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(arc length)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</a:t>
            </a:r>
            <a:r>
              <a:rPr b="0" lang="en-US" sz="2800" spc="-1" strike="noStrike" baseline="30000">
                <a:solidFill>
                  <a:srgbClr val="0000ff"/>
                </a:solidFill>
                <a:latin typeface="Symbol"/>
                <a:ea typeface="Symbol"/>
              </a:rPr>
              <a:t>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(tangential) speed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cceleration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223320" y="3200400"/>
            <a:ext cx="2514240" cy="2057040"/>
            <a:chOff x="6223320" y="3200400"/>
            <a:chExt cx="2514240" cy="2057040"/>
          </a:xfrm>
        </p:grpSpPr>
        <p:sp>
          <p:nvSpPr>
            <p:cNvPr id="63" name=""/>
            <p:cNvSpPr/>
            <p:nvPr/>
          </p:nvSpPr>
          <p:spPr>
            <a:xfrm flipV="1">
              <a:off x="6832440" y="4266720"/>
              <a:ext cx="167652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69440" y="458460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074000" y="42415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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837480" y="3258720"/>
              <a:ext cx="523800" cy="176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23320" y="3276360"/>
              <a:ext cx="2285280" cy="198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04040" y="320040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438960" y="1816200"/>
            <a:ext cx="2209680" cy="1294920"/>
            <a:chOff x="6438960" y="1816200"/>
            <a:chExt cx="2209680" cy="1294920"/>
          </a:xfrm>
        </p:grpSpPr>
        <p:sp>
          <p:nvSpPr>
            <p:cNvPr id="70" name=""/>
            <p:cNvSpPr/>
            <p:nvPr/>
          </p:nvSpPr>
          <p:spPr>
            <a:xfrm flipV="1">
              <a:off x="6438960" y="2121120"/>
              <a:ext cx="1676160" cy="76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43880" y="2654280"/>
              <a:ext cx="456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00720" y="250200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48440" y="21211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15120" y="181620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38960" y="2882880"/>
              <a:ext cx="1676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102520" y="2121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0" y="4287960"/>
            <a:ext cx="883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511920" indent="-511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½(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)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+ ½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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30760"/>
            <a:ext cx="5930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Equations of Rotational Kin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41400" y="1351080"/>
          <a:ext cx="1613160" cy="57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1400" y="1351080"/>
                    <a:ext cx="16131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600200" y="1814400"/>
          <a:ext cx="51544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1814400"/>
                    <a:ext cx="51544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1048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entripetal &amp; Tangential Acceleration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97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object moving in uniform circular motion, the magnitude of its centripetal acceler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 =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)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ref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constant, the effect of angular acceleration must also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n object’s circular motion can be generalized in terms of both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 components of acceleration are perpendicular to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termine the magnitude &amp; direction of a, they must be treat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22400" y="3173400"/>
          <a:ext cx="339120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2400" y="3173400"/>
                    <a:ext cx="339120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2819520" y="3787920"/>
          <a:ext cx="365112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87920"/>
                    <a:ext cx="3651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309240"/>
            <a:ext cx="624816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rchimed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287-212 BC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6172200" cy="50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the greatest mathematician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ed an early form of calc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Buoyanc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w called Archimedes’ Princi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Principle of Lever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rqu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uilt several machines based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qu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ve me a point of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I will move the Ear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35640" y="380880"/>
            <a:ext cx="28083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igid Objects &amp; Torqu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9000" y="923760"/>
            <a:ext cx="8748720" cy="593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is a vector quantity that represents the application of force to a body resulting in rot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change in rotational s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 units for torque are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 to be confused with jou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que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er arm (leverag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 of force perpendicular to lever ar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or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63960" y="5180040"/>
          <a:ext cx="2602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3960" y="5180040"/>
                    <a:ext cx="260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476440" y="3727440"/>
          <a:ext cx="194796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6440" y="3727440"/>
                    <a:ext cx="19479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56040" y="5880240"/>
          <a:ext cx="234324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6040" y="5880240"/>
                    <a:ext cx="23432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6796080" y="5521320"/>
          <a:ext cx="1995480" cy="52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96080" y="5521320"/>
                    <a:ext cx="19954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4016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4016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165960" y="1709640"/>
            <a:ext cx="3707640" cy="2592000"/>
            <a:chOff x="165960" y="1709640"/>
            <a:chExt cx="3707640" cy="2592000"/>
          </a:xfrm>
        </p:grpSpPr>
        <p:sp>
          <p:nvSpPr>
            <p:cNvPr id="105" name=""/>
            <p:cNvSpPr/>
            <p:nvPr/>
          </p:nvSpPr>
          <p:spPr>
            <a:xfrm rot="19653600">
              <a:off x="1044720" y="2674800"/>
              <a:ext cx="2712960" cy="350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36880" y="3554640"/>
              <a:ext cx="11736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2741400" y="1915920"/>
              <a:ext cx="4680" cy="69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9225600">
              <a:off x="485640" y="2198880"/>
              <a:ext cx="165312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270080" y="261432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2274840" y="1995480"/>
            <a:ext cx="324000" cy="501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74840" y="1995480"/>
                      <a:ext cx="324000" cy="5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187720" y="3183120"/>
            <a:ext cx="290520" cy="438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187720" y="318312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V="1">
              <a:off x="2757600" y="192420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10501800">
              <a:off x="2338920" y="222336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2949840" y="1709640"/>
            <a:ext cx="360360" cy="561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49840" y="170964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8" name=""/>
          <p:cNvGrpSpPr/>
          <p:nvPr/>
        </p:nvGrpSpPr>
        <p:grpSpPr>
          <a:xfrm>
            <a:off x="5692680" y="1690560"/>
            <a:ext cx="2737080" cy="2177280"/>
            <a:chOff x="5692680" y="1690560"/>
            <a:chExt cx="2737080" cy="2177280"/>
          </a:xfrm>
        </p:grpSpPr>
        <p:sp>
          <p:nvSpPr>
            <p:cNvPr id="119" name=""/>
            <p:cNvSpPr/>
            <p:nvPr/>
          </p:nvSpPr>
          <p:spPr>
            <a:xfrm>
              <a:off x="5692680" y="3535200"/>
              <a:ext cx="117720" cy="13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297560" y="1896840"/>
              <a:ext cx="5040" cy="69372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826240" y="2595240"/>
              <a:ext cx="1487520" cy="947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6718320" y="2998800"/>
            <a:ext cx="290520" cy="438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18320" y="2998800"/>
                      <a:ext cx="29052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 flipV="1">
              <a:off x="7313760" y="1905120"/>
              <a:ext cx="1116000" cy="67464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 rot="10501800">
              <a:off x="6895080" y="2204280"/>
              <a:ext cx="1015560" cy="1622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54" y="6"/>
                  </a:moveTo>
                  <a:arcTo wR="10800" hR="10800" stAng="-5287357" swAng="22769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54" y="6"/>
                  </a:moveTo>
                  <a:arcTo wR="10800" hR="10800" stAng="-5287357" swAng="2276960"/>
                </a:path>
              </a:pathLst>
            </a:custGeom>
            <a:noFill/>
            <a:ln w="28440">
              <a:solidFill>
                <a:srgbClr val="99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6" name=""/>
            <p:cNvGraphicFramePr/>
            <p:nvPr/>
          </p:nvGraphicFramePr>
          <p:xfrm>
            <a:off x="7505640" y="1690560"/>
            <a:ext cx="360360" cy="561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505640" y="1690560"/>
                      <a:ext cx="36036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 flipH="1" flipV="1">
              <a:off x="6986160" y="1998360"/>
              <a:ext cx="297000" cy="57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6553080" y="1962000"/>
            <a:ext cx="463680" cy="662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553080" y="1962000"/>
                      <a:ext cx="463680" cy="66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The Vector (Cross) Produc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76312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vectors                    can be multiplied to produce a vector resultant, called the vector (or Cross)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3-D using vector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the vector 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re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the angle between vector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properties of vector prod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o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e vector product of vectors A &amp; B is perpendicular to both A &amp;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f vectors A &amp; B lie within an x-y plane, the vector product points in the z-dir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676600" y="3119400"/>
          <a:ext cx="2171520" cy="51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119400"/>
                    <a:ext cx="21715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286000" y="990720"/>
          <a:ext cx="1571760" cy="49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990720"/>
                    <a:ext cx="15717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946080" y="2243160"/>
          <a:ext cx="690084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46080" y="2243160"/>
                    <a:ext cx="69008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665680" y="4037040"/>
          <a:ext cx="1727280" cy="39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65680" y="4037040"/>
                    <a:ext cx="1727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673600" y="4457880"/>
          <a:ext cx="11113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73600" y="4457880"/>
                    <a:ext cx="11113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5715000" y="4848120"/>
          <a:ext cx="116676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5000" y="4848120"/>
                    <a:ext cx="116676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048120" y="6058080"/>
          <a:ext cx="256212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48120" y="6058080"/>
                    <a:ext cx="2562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Vector (Cross) Product (cont.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41200" y="855720"/>
            <a:ext cx="6080400" cy="3430440"/>
            <a:chOff x="241200" y="855720"/>
            <a:chExt cx="6080400" cy="3430440"/>
          </a:xfrm>
        </p:grpSpPr>
        <p:sp>
          <p:nvSpPr>
            <p:cNvPr id="149" name=""/>
            <p:cNvSpPr/>
            <p:nvPr/>
          </p:nvSpPr>
          <p:spPr>
            <a:xfrm>
              <a:off x="851040" y="2158920"/>
              <a:ext cx="4140000" cy="1384200"/>
            </a:xfrm>
            <a:prstGeom prst="parallelogram">
              <a:avLst>
                <a:gd name="adj" fmla="val 7477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28195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413080" y="2679840"/>
              <a:ext cx="1511280" cy="126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425680" y="18669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"/>
            <p:cNvGraphicFramePr/>
            <p:nvPr/>
          </p:nvGraphicFramePr>
          <p:xfrm>
            <a:off x="2260800" y="2919240"/>
            <a:ext cx="34272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60800" y="2919240"/>
                      <a:ext cx="34272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2800440" y="2262240"/>
            <a:ext cx="3078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00440" y="2262240"/>
                      <a:ext cx="3078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2292480" y="1407960"/>
            <a:ext cx="861840" cy="476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2480" y="1407960"/>
                      <a:ext cx="86184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5079960" y="21589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6072120" y="1860480"/>
            <a:ext cx="249480" cy="622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72120" y="1860480"/>
                      <a:ext cx="24948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482760" y="354312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3" name=""/>
            <p:cNvGraphicFramePr/>
            <p:nvPr/>
          </p:nvGraphicFramePr>
          <p:xfrm>
            <a:off x="241200" y="3713040"/>
            <a:ext cx="330480" cy="573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41200" y="3713040"/>
                      <a:ext cx="330480" cy="57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"/>
            <p:cNvSpPr/>
            <p:nvPr/>
          </p:nvSpPr>
          <p:spPr>
            <a:xfrm flipV="1">
              <a:off x="1892160" y="13838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1739880" y="855720"/>
            <a:ext cx="295200" cy="50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39880" y="8557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8" name=""/>
          <p:cNvGrpSpPr/>
          <p:nvPr/>
        </p:nvGrpSpPr>
        <p:grpSpPr>
          <a:xfrm>
            <a:off x="2984400" y="3382920"/>
            <a:ext cx="6080040" cy="3430440"/>
            <a:chOff x="2984400" y="3382920"/>
            <a:chExt cx="6080040" cy="3430440"/>
          </a:xfrm>
        </p:grpSpPr>
        <p:sp>
          <p:nvSpPr>
            <p:cNvPr id="169" name=""/>
            <p:cNvSpPr/>
            <p:nvPr/>
          </p:nvSpPr>
          <p:spPr>
            <a:xfrm>
              <a:off x="3594240" y="4686120"/>
              <a:ext cx="4140000" cy="1384560"/>
            </a:xfrm>
            <a:prstGeom prst="parallelogram">
              <a:avLst>
                <a:gd name="adj" fmla="val 7475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5346720"/>
              <a:ext cx="635040" cy="571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156280" y="5206680"/>
              <a:ext cx="1511280" cy="127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168880" y="4394160"/>
              <a:ext cx="0" cy="914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5046480" y="5475240"/>
            <a:ext cx="257400" cy="399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046480" y="5475240"/>
                      <a:ext cx="2574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5556240" y="4789440"/>
            <a:ext cx="2808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556240" y="4789440"/>
                      <a:ext cx="2808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5048280" y="3908520"/>
            <a:ext cx="1219320" cy="5061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048280" y="3908520"/>
                      <a:ext cx="121932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7823160" y="4686120"/>
              <a:ext cx="8892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0" name=""/>
            <p:cNvGraphicFramePr/>
            <p:nvPr/>
          </p:nvGraphicFramePr>
          <p:xfrm>
            <a:off x="8815320" y="4387680"/>
            <a:ext cx="249120" cy="62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8815320" y="4387680"/>
                      <a:ext cx="2491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 flipH="1">
              <a:off x="3225960" y="6070680"/>
              <a:ext cx="380880" cy="4572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2984400" y="6240600"/>
            <a:ext cx="330120" cy="5727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984400" y="6240600"/>
                      <a:ext cx="330120" cy="57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5" name=""/>
            <p:cNvSpPr/>
            <p:nvPr/>
          </p:nvSpPr>
          <p:spPr>
            <a:xfrm flipV="1">
              <a:off x="4635360" y="3911040"/>
              <a:ext cx="12960" cy="76212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6" name=""/>
            <p:cNvGraphicFramePr/>
            <p:nvPr/>
          </p:nvGraphicFramePr>
          <p:xfrm>
            <a:off x="4483080" y="3382920"/>
            <a:ext cx="295200" cy="50328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483080" y="3382920"/>
                      <a:ext cx="29520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ewton’s 2</a:t>
            </a:r>
            <a:r>
              <a:rPr b="0" lang="en-US" sz="3600" spc="-1" strike="noStrike" baseline="30000">
                <a:solidFill>
                  <a:srgbClr val="a50021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 Law</a:t>
            </a:r>
            <a:br>
              <a:rPr sz="3600"/>
            </a:b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for Rotational Motion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440" y="121932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re is a net torque exerted on a rigid body its state of rotation (    ) will change depending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et torqu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640" indent="-35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ional inertia of object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net torque mea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onstan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the net torque exerted on a body is equal to the product of the rotational inertia and the angular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 is Newton’s 2</a:t>
            </a:r>
            <a:r>
              <a:rPr b="0" i="1" lang="en-US" sz="24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Law (for rotation)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22640" y="5407200"/>
          <a:ext cx="545292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5407200"/>
                    <a:ext cx="54529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179800" y="2805120"/>
          <a:ext cx="483048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9800" y="2805120"/>
                    <a:ext cx="483048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847880" y="1539720"/>
          <a:ext cx="355680" cy="4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7880" y="1539720"/>
                    <a:ext cx="355680" cy="4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82840" y="1878120"/>
          <a:ext cx="573120" cy="492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2840" y="1878120"/>
                    <a:ext cx="5731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2-05T21:40:31Z</dcterms:modified>
  <cp:revision>46</cp:revision>
  <dc:subject/>
  <dc:title>Phy 211: General Physics I</dc:title>
</cp:coreProperties>
</file>