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2240" y="698040"/>
            <a:ext cx="4645080" cy="348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45C479-449D-4E03-8BEE-8D29CF417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FE9D29-CEC0-4468-83C8-C2ADEE16D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0573-784D-43DD-AA3D-63016C76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5841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7975-372A-42EA-8727-C8CDF19F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841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5841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9572-FB0F-45E7-859F-70215F5D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83772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83772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5841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5841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5841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6AF3-F94C-456F-BA32-5D33BAD9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E0CA-1A29-4964-8C91-6658E647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6D05-42EA-44C5-B384-341F993C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8377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64E8-6E84-4A8A-B7FA-E0DA4FD3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C40A-B6EE-4140-9E16-26C46B55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687E-5962-43A7-9D52-AED3DB11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8377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5841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93B1-3034-48C6-A3D1-617830B3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5841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F931-1B4C-43D0-8D43-B25F0224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837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5841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BA09-CA7C-4A67-BB0A-9CA99E5C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BA39-F81A-4859-9097-7D34D01C83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0484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hy 211: General Physics I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1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Observations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ciences are ultimately based on observations of the natural (&amp; unnatural)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are 2 types of observ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lit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jective, touchy-fee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Example: the outside temperature is 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Times New Roman"/>
              </a:rPr>
              <a:t>hot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ntit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ive, based on a number and a reference s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antitative observations are referred to a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easu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Example: the outside temperature is 80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F to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Quantitative observations are only as reliable as the measurement device and the individual(s) performing the measu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accuracy associated with a measurement (or set of measurements) is the often specified as the % Err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precision associated with a set of measurements is the often specified as the % Rang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standard deviation is similar to ½ the range value for a set of measu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324160" y="4635360"/>
          <a:ext cx="403848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4160" y="4635360"/>
                    <a:ext cx="40384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833480" y="5481720"/>
          <a:ext cx="5888160" cy="4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3480" y="5481720"/>
                    <a:ext cx="588816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rrors in Measuremen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rror associated with calculated physical quantities, such as the area of a circle, can be estimated by the application of a little calcul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For a quantity f dependent on measured variables x, y, …, i.e.  f(x, y, …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imes New Roman"/>
              </a:rPr>
              <a:t>Error (or uncertainty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333399"/>
                </a:solidFill>
                <a:latin typeface="Times New Roman"/>
              </a:rPr>
              <a:t>where dx is ½ the range of x, dy is ½ the range of y, etc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xample 1:  Consider a circle with a measured radius(r) of 0.10 m +/- 0.01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Times New Roman"/>
              </a:rPr>
              <a:t>circle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(0.10 m)</a:t>
            </a:r>
            <a:r>
              <a:rPr b="0" lang="en-US" sz="2000" spc="-1" strike="noStrike" baseline="30000">
                <a:solidFill>
                  <a:srgbClr val="0066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= 0.031 m</a:t>
            </a:r>
            <a:r>
              <a:rPr b="0" lang="en-US" sz="2000" spc="-1" strike="noStrike" baseline="30000">
                <a:solidFill>
                  <a:srgbClr val="0066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xample 2:  Consider a sphere with a measured radius(r) of 0.10 m +/- 0.01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6600"/>
                </a:solidFill>
                <a:latin typeface="Times New Roman"/>
              </a:rPr>
              <a:t>sphere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=(4/3)</a:t>
            </a:r>
            <a:r>
              <a:rPr b="0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(0.10 m)</a:t>
            </a:r>
            <a:r>
              <a:rPr b="0" lang="en-US" sz="2000" spc="-1" strike="noStrike" baseline="30000">
                <a:solidFill>
                  <a:srgbClr val="0066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 = 0.0043 m</a:t>
            </a:r>
            <a:r>
              <a:rPr b="0" lang="en-US" sz="2000" spc="-1" strike="noStrike" baseline="30000">
                <a:solidFill>
                  <a:srgbClr val="0066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62120" y="4172040"/>
          <a:ext cx="5790960" cy="6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172040"/>
                    <a:ext cx="57909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441600" y="1838160"/>
          <a:ext cx="2635200" cy="6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1600" y="1838160"/>
                    <a:ext cx="263520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779400" y="3616200"/>
          <a:ext cx="4840200" cy="5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9400" y="3616200"/>
                    <a:ext cx="48402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762120" y="5983200"/>
          <a:ext cx="593064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5983200"/>
                    <a:ext cx="59306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752400" y="5375160"/>
          <a:ext cx="5337360" cy="581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2400" y="5375160"/>
                    <a:ext cx="533736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Systems of Measuremen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nits systems for measurement of physical quant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ost common unit systems are the metric and the USC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consistency, the l’Systeme Internationale (or SI) was ado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I system is a special set of metric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System (SI) base uni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ilogram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ng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ter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ime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cond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elvi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mpe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uminous Intensit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del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mount of substa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of the other SI units are derived from these base un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Examples of derived unit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1 Newton = 1 N = 1 kg</a:t>
            </a:r>
            <a:r>
              <a:rPr b="1" lang="en-US" sz="1800" spc="-1" strike="noStrike" baseline="30000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/s</a:t>
            </a:r>
            <a:r>
              <a:rPr b="1" lang="en-US" sz="1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1 Joule = 1 J = 1 kg</a:t>
            </a:r>
            <a:r>
              <a:rPr b="1" lang="en-US" sz="1800" spc="-1" strike="noStrike" baseline="30000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1" lang="en-US" sz="1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/s</a:t>
            </a:r>
            <a:r>
              <a:rPr b="1" lang="en-US" sz="1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1 Coulomb = 1 C = 1 A</a:t>
            </a:r>
            <a:r>
              <a:rPr b="1" lang="en-US" sz="1800" spc="-1" strike="noStrike" baseline="30000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ommon Metric Prefixes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5365800"/>
            <a:ext cx="853452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Using Metric prefix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 mm = 1x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35 mm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35 x 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 or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3.5 x 10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 kg = 1x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g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2 kg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12 x 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g or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.2 x 10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838080"/>
          <a:ext cx="7467480" cy="4265640"/>
        </p:xfrm>
        <a:graphic>
          <a:graphicData uri="http://schemas.openxmlformats.org/drawingml/2006/table">
            <a:tbl>
              <a:tblPr/>
              <a:tblGrid>
                <a:gridCol w="1866960"/>
                <a:gridCol w="1866600"/>
                <a:gridCol w="1866960"/>
                <a:gridCol w="186696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f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 of 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g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00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g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,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,000,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Unit Conversion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physics, converting units from one unit system to another (especially within the Metric system) can appear daunting at first glance.  However, with a little guidance, and a lot of practice, you can develop the necessary skill set to master this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Example: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宋体"/>
              </a:rPr>
              <a:t> How is 25.2 miles/hour expressed in m/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iminate: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{assign mi units to the denominator and hr units to the numerator of the conversion factor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place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{assign m units to the numerator and s units to the denominator of the conversion factor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lat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{assign the corresponding value to its unit, 1 mi = 1609 m &amp; 1 hr = 3600 s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905120" y="4410000"/>
          <a:ext cx="4114800" cy="5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410000"/>
                    <a:ext cx="411480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951200" y="2901960"/>
          <a:ext cx="4020840" cy="5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1200" y="2901960"/>
                    <a:ext cx="402084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1905120" y="5641920"/>
          <a:ext cx="419076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5641920"/>
                    <a:ext cx="41907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Length, Time &amp; Mass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1-D measure of dis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ntities such as area and volume, and their associated units, are ultimately derived from measures of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efinition of SI Unit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The meter is the length of the path traveled by light (in vacuum) during a time interval of 1/299,792,458 s (or roughly 3.33564 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Examples of units derived from length (in this case radius, r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rea of a circle = A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circl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r</a:t>
            </a:r>
            <a:r>
              <a:rPr b="0" lang="en-US" sz="20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{units are m</a:t>
            </a:r>
            <a:r>
              <a:rPr b="0" lang="en-US" sz="20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Volume of a sphere = V</a:t>
            </a:r>
            <a:r>
              <a:rPr b="0" lang="en-US" sz="2000" spc="-1" strike="noStrike" baseline="-25000">
                <a:solidFill>
                  <a:srgbClr val="008000"/>
                </a:solidFill>
                <a:latin typeface="Times New Roman"/>
              </a:rPr>
              <a:t>sphere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{units are m</a:t>
            </a:r>
            <a:r>
              <a:rPr b="0" lang="en-US" sz="2000" spc="-1" strike="noStrike" baseline="30000">
                <a:solidFill>
                  <a:srgbClr val="008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im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physical quantity that measures eit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did an event take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duration of the 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efinition of the SI Unit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The second is the time taken by 9,192,631,770 oscillations of the light emitted by a cesium-133 at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s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measure of inertia for a body (or loosely speaking the amount of matter pres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efinition of the SI Unit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The kilogram is the amount of mass in a platinum-iridium cylinder of 3.9 cm height and diame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886200" y="3124080"/>
          <a:ext cx="83808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83808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23:00:17Z</dcterms:created>
  <dc:creator>Tony Zable</dc:creator>
  <dc:description/>
  <dc:language>en-US</dc:language>
  <cp:lastModifiedBy>Tony Zable</cp:lastModifiedBy>
  <dcterms:modified xsi:type="dcterms:W3CDTF">2006-09-28T23:48:26Z</dcterms:modified>
  <cp:revision>58</cp:revision>
  <dc:subject/>
  <dc:title>Phy 101: Fundamentals of Physics I</dc:title>
</cp:coreProperties>
</file>