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45080" cy="348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BD54B3-5127-489A-B22B-4FFB376F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2EEE35-00AD-4EB7-AC68-2787022D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570-93CC-4C2F-B2BD-DAE50709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D90-7E93-4E33-93EB-D5132BD7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10F-89EA-47F5-83F7-11FFF576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0A0-8A0D-4DC1-B07E-7E409F01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CA1-C005-4EE7-9C9E-B785DE7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1AF-1110-49D3-8C70-A2A57AB9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D4D-E749-40D8-BBC9-A0E64C79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282-F11F-42C1-B161-7502C27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1FC-4A98-40E5-89A7-8A90088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C92-58F4-4ECD-92EE-3A58A84C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BB9-F1B8-4741-93F1-D2078010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8E2-763D-4FD0-8B98-089BB89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A870-0534-407F-BEE4-A5DBD6D78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hy 211: General Physics I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1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s are ultimately based on observations of the natural (&amp; unnatural)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2 types of observ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jective, touchy-fee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xample: the outside temperature is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hot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, based on a number and a reference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tative observations are referred to a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xample: the outside temperature is 8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antitative observations are only as reliable as the measurement device and the individual(s) performing th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ccuracy associated with a measurement (or set of measurements) is the often specified as the % Err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precision associated with a set of measurements is the often specified as the % Ra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andard deviation is similar to ½ the range value for a set of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24160" y="4635360"/>
          <a:ext cx="403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4635360"/>
                    <a:ext cx="403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833480" y="5481720"/>
          <a:ext cx="58881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5481720"/>
                    <a:ext cx="5888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rrors in Measur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 associated with calculated physical quantities, such as the area of a circle, can be estimated by the application of a little calcul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For a quantity f dependent on measured variables x, y, …, i.e.  f(x, y, …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rror (or uncertainty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here dx is ½ the range of x, dy is ½ the range of y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1:  Consider a circle with a measured radius(r) of 0.10 m +/- 0.0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</a:rPr>
              <a:t>circl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= 0.031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2:  Consider a sphere with a measured radius(r) of 0.10 m +/- 0.0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</a:rPr>
              <a:t>sphe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=(4/3)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= 0.0043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4172040"/>
          <a:ext cx="57909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72040"/>
                    <a:ext cx="5790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441600" y="1838160"/>
          <a:ext cx="26352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1600" y="1838160"/>
                    <a:ext cx="26352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79400" y="3616200"/>
          <a:ext cx="484020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9400" y="3616200"/>
                    <a:ext cx="4840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62120" y="5983200"/>
          <a:ext cx="593064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983200"/>
                    <a:ext cx="5930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52400" y="5375160"/>
          <a:ext cx="533736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00" y="5375160"/>
                    <a:ext cx="5337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ystems of Measur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ts systems for measurement of physical qua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st common unit systems are the metric and the USC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nsistency, the l’Systeme Internationale (or SI) was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 system is a special set of metric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System (SI) base un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logram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ter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p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del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ount of sub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other SI units are derived from these base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xamples of derived uni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Newton = 1 N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Joule = 1 J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Coulomb = 1 C = 1 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mmon Metric Prefix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365800"/>
            <a:ext cx="8534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sing Metric prefix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mm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5 m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5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.5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kg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 k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2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.2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838080"/>
          <a:ext cx="7467480" cy="426564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  <a:gridCol w="1866960"/>
                <a:gridCol w="186696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,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nit Convers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hysics, converting units from one unit system to another (especially within the Metric system) can appear daunting at first glance.  However, with a little guidance, and a lot of practice, you can develop the necessary skill set to master this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Example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 How is 25.2 miles/hour expressed in m/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iminate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mi units to the denominator and hr units to the numerator of the conversion fact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la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m units to the numerator and s units to the denominator of the conversion fact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the corresponding value to its unit, 1 mi = 1609 m &amp; 1 hr = 3600 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5120" y="4410000"/>
          <a:ext cx="41148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410000"/>
                    <a:ext cx="41148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51200" y="2901960"/>
          <a:ext cx="40208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2901960"/>
                    <a:ext cx="4020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905120" y="5641920"/>
          <a:ext cx="41907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641920"/>
                    <a:ext cx="4190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ngth, Time &amp; Mas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1-D measure of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ies such as area and volume, and their associated units, are ultimately derived from measures of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The meter is the length of the path traveled by light (in vacuum) during a time interval of 1/299,792,458 s (or roughly 3.33564 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xamples of units derived from length (in this case radius, 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rea of a circle = A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circl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olume of a sphere = V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spher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physical quantity that measures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id an event take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uration of the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second is the time taken by 9,192,631,770 oscillations of the light emitted by a cesium-133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s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easure of inertia for a body (or loosely speaking the amount of matter 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kilogram is the amount of mass in a platinum-iridium cylinder of 3.9 cm height and diame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86200" y="3124080"/>
          <a:ext cx="83808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8380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Tony Zable</cp:lastModifiedBy>
  <dcterms:modified xsi:type="dcterms:W3CDTF">2006-09-28T23:48:26Z</dcterms:modified>
  <cp:revision>58</cp:revision>
  <dc:subject/>
  <dc:title>Phy 101: Fundamentals of Physics I</dc:title>
</cp:coreProperties>
</file>