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579-376C-4C9B-9531-176212B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83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95F-C961-48ED-B103-F9EE5373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CFF-2F6A-4BFD-9722-0274C8E3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9FA-3656-4BE8-8043-2DC7E77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9FB-46C4-46BF-9876-4363CBEE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13F-7657-472F-93C7-B417527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F3C-42E2-4107-89A9-2F01B2F0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1F3-DFB8-475A-B7B6-639E709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764-E0BE-4CFD-8943-62C567A6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62A-0CB4-4262-9162-1C6B394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F53-08CE-4C54-8C6A-4F6762D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92A-F2B7-485C-A80B-798CACD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AE2F-72B6-42BD-8BAB-C2269EAC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ttwatch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 211:  General Physics 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9:  Brad &amp; Angelina Do Phy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um &amp; Impu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rcRect l="0" t="0" r="60002" b="0"/>
          <a:stretch/>
        </p:blipFill>
        <p:spPr>
          <a:xfrm>
            <a:off x="1981080" y="3271680"/>
            <a:ext cx="472464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023" descr="Jennifer Aniston"/>
          <p:cNvPicPr/>
          <p:nvPr/>
        </p:nvPicPr>
        <p:blipFill>
          <a:blip r:embed="rId3"/>
          <a:stretch/>
        </p:blipFill>
        <p:spPr>
          <a:xfrm>
            <a:off x="6934320" y="4800600"/>
            <a:ext cx="143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mentum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 (80 kg) and Angelina (50 kg) enjoy a relaxing drive across the south of France in their red sports car (600 k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rest, they accelerate to a cruising speed of 25 m/s then come to rest at an upcoming stop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715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uld possibly go wrong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15360" y="304920"/>
            <a:ext cx="162864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26668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mm. South of France. Descartes. A coincidence? I think no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20" y="4572000"/>
            <a:ext cx="2154240" cy="837720"/>
            <a:chOff x="76320" y="4572000"/>
            <a:chExt cx="2154240" cy="837720"/>
          </a:xfrm>
        </p:grpSpPr>
        <p:sp>
          <p:nvSpPr>
            <p:cNvPr id="51" name=""/>
            <p:cNvSpPr/>
            <p:nvPr/>
          </p:nvSpPr>
          <p:spPr>
            <a:xfrm flipV="1">
              <a:off x="7632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160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276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6296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2420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079720" y="4295880"/>
            <a:ext cx="571320" cy="49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7920" y="4740120"/>
            <a:ext cx="0" cy="619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920" y="5410080"/>
            <a:ext cx="879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05160" y="4572000"/>
            <a:ext cx="2154240" cy="837720"/>
            <a:chOff x="3305160" y="4572000"/>
            <a:chExt cx="2154240" cy="837720"/>
          </a:xfrm>
        </p:grpSpPr>
        <p:sp>
          <p:nvSpPr>
            <p:cNvPr id="60" name=""/>
            <p:cNvSpPr/>
            <p:nvPr/>
          </p:nvSpPr>
          <p:spPr>
            <a:xfrm flipV="1">
              <a:off x="330516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044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160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69180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25304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5181480" y="5138640"/>
            <a:ext cx="90972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92960" y="4572000"/>
            <a:ext cx="2154240" cy="837720"/>
            <a:chOff x="6492960" y="4572000"/>
            <a:chExt cx="2154240" cy="837720"/>
          </a:xfrm>
        </p:grpSpPr>
        <p:sp>
          <p:nvSpPr>
            <p:cNvPr id="67" name=""/>
            <p:cNvSpPr/>
            <p:nvPr/>
          </p:nvSpPr>
          <p:spPr>
            <a:xfrm flipV="1">
              <a:off x="649296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24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7940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687960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44084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8496360" y="4334040"/>
            <a:ext cx="571320" cy="49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764560" y="4778280"/>
            <a:ext cx="0" cy="619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rad and Angelina’s combined momentum (including car) at the stop first sig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ir combined momentum at cruising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Brad and Angelina’s momentum, respectively, at cruising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Brad, Angelina and the car’s individual and combined impulse as they go from rest to cruising spe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t takes them 8 seconds to get to cruising speed, what is the average net force exerted on Brad, Angelina and the ca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oad’s net impulse as Brad, Angelina and the car go from rest to cruising speed?  Which of Newton’s Laws explains this phenomen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mpulse Angelina exerts on her car seat as the car accelerates?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expected Coinciden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19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urry for a coffee “date” with a French mime, Brad’s jilted ex-wife, Jennifer Aniston (45 kg), speeds along at 30 m/s in her blue convertible (800 kg).  Unfortunately, she doesn’t see the red sports car in the intersection ahead of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3657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9051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9810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819520"/>
            <a:ext cx="838440" cy="609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9810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924680" y="5029200"/>
            <a:ext cx="990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848360" y="411480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848360" y="3200400"/>
            <a:ext cx="1066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02920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502920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502920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066680"/>
            <a:ext cx="914400" cy="990720"/>
            <a:chOff x="5562720" y="1066680"/>
            <a:chExt cx="914400" cy="990720"/>
          </a:xfrm>
        </p:grpSpPr>
        <p:sp>
          <p:nvSpPr>
            <p:cNvPr id="90" name=""/>
            <p:cNvSpPr/>
            <p:nvPr/>
          </p:nvSpPr>
          <p:spPr>
            <a:xfrm>
              <a:off x="5715000" y="1066680"/>
              <a:ext cx="609840" cy="9907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023" descr="Jennifer Aniston"/>
            <p:cNvPicPr/>
            <p:nvPr/>
          </p:nvPicPr>
          <p:blipFill>
            <a:blip r:embed="rId1"/>
            <a:stretch/>
          </p:blipFill>
          <p:spPr>
            <a:xfrm>
              <a:off x="5715000" y="1219320"/>
              <a:ext cx="604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324840" y="114300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62720" y="114300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840" y="167652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62720" y="167652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34120" y="3276720"/>
            <a:ext cx="1237680" cy="837720"/>
            <a:chOff x="5334120" y="3276720"/>
            <a:chExt cx="1237680" cy="837720"/>
          </a:xfrm>
        </p:grpSpPr>
        <p:sp>
          <p:nvSpPr>
            <p:cNvPr id="97" name=""/>
            <p:cNvSpPr/>
            <p:nvPr/>
          </p:nvSpPr>
          <p:spPr>
            <a:xfrm>
              <a:off x="5352840" y="3396240"/>
              <a:ext cx="1218960" cy="5986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5334120" y="3456000"/>
              <a:ext cx="62820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962320" y="3456000"/>
              <a:ext cx="561600" cy="4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05120" y="39949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4960" y="39949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5120" y="32767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4960" y="32767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19920" y="20574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95680" y="5029200"/>
            <a:ext cx="990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411480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19360" y="320040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429000"/>
            <a:ext cx="15238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1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447920"/>
            <a:ext cx="17524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3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enario 1: Inelastic Colli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inear momentum of Jennifer (and her car) just before imp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Brad, Angelina (and their car) just before impa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combined momentum of this system immediately after impa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velocity vector for each vehic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llowing imp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the impulse vector for each vehicle (including drivers) due to the colli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the impact lasts for 0.5 sec.  What is average impact force exerted on each vehi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0720"/>
            <a:ext cx="914400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 approaching the intersection, Jennifer’s convertible collides head-on into the side of Brad and Angelina’s car. During the impact, Jennifer’s car attaches to Brad and Angelina’s car and both vehicles are thrust through the inter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impact force received by Jennifer’s vehicle compare with the force received by Brad and Angelina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acceleration (due to impact) of Jennifer’s vehicle compare with the acceleration of Brad and Angelina’s?  Calculate the respective accele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Jennifer were driving a 2500 kg SUV instead of a small car, would her vehicle receive more, less, or the same impact force as Brad and Angelina’s car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enario 2: Elastic Colli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combined momentum of this system immediately following impact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momentum for the 2 vehicle system, just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velocity for the system pre-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KE of each vehicle (w/passengers), respectively, prior to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total KE for the 2 vehicle system, just after 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 the post-impact total momentum and KE by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system velocity post-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velocity of each vehicle (w/passengers), respectively, immediately following impact?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refer to textb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linear momentum of each vehicle (w/passengers), respectively, immediately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KE of each vehicle (w/passengers), respectively, immediately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tively, as Jennifer’s car collides with Brad and Angelina’s, the impact knocks Brad and Angelina’s car off their path but vehicles do not become attached and remain independent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combined KE (before) of the vehicles compare to after the Elastic Collision scen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the reason for the discrepancy between the before-after KE’s for the inelastic vs. elastic coll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impact force received by Jennifer’s vehicle compare with the force received by Brad and Angelina’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acceleration (due to impact) of Jennifer’s vehicle compare with the acceleration of Brad and Angelina’s?  Calculate the respective acceler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Jennifer were driving a 1500 kg SUV instead of a small car, would her vehicle receive more, less, or the same impact force as Brad and Angelina’s car?  Expl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momentum is conserved before, during and following both elastic and inelastic collisions (neglecting external forces such as dra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momentum is exchanged between the colliding bod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ulse vector associated with one is equal but opposite the impulse vector associated with the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is alive and wel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force is equal (but oppositely directed) between both bodies involved in a collision regardless of mass or collisio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is not conserved during inelastic coll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is conserved during elastic coll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7:39:14Z</dcterms:created>
  <dc:creator>Tony Zable</dc:creator>
  <dc:description/>
  <dc:language>en-US</dc:language>
  <cp:lastModifiedBy>Tony Zable</cp:lastModifiedBy>
  <dcterms:modified xsi:type="dcterms:W3CDTF">2007-06-10T18:49:45Z</dcterms:modified>
  <cp:revision>53</cp:revision>
  <dc:subject/>
  <dc:title>Phy 201:  General Physics I</dc:title>
</cp:coreProperties>
</file>