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D107-4B44-4BC5-994D-119FEEB74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583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0ECD-138F-43AA-BEC1-484013630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583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583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CEC7-CD84-4205-9D5F-8D7EAC231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583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583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583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FDEF-A169-4A62-9963-630D4AB41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D69A-6E9D-4AED-83F8-984A7C8A2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C9C4-BCA0-4124-A788-E32D55AE9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C4AC-99F2-40C2-94E0-3AFBC4375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04E1-8F4F-44BF-A12C-F2F756B6B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B0B9-6503-4D93-9687-3F7D5776E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583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91BB-2053-47F0-994C-8B118A37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583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CFE9-F480-499F-B871-0DBD4121B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583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B6AE-A531-427E-B225-0BB8812F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20043"/>
            </a:gs>
            <a:gs pos="100000">
              <a:srgbClr val="d6009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E80BB-7526-40CF-A912-77BB20F3BC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ittwatch.com/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20043"/>
            </a:gs>
            <a:gs pos="100000">
              <a:srgbClr val="d6009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77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hy 211:  General Physics I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0360" y="213372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 9:  Brad &amp; Angelina Do Phys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mentum &amp; Impul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rcRect l="0" t="0" r="60002" b="0"/>
          <a:stretch/>
        </p:blipFill>
        <p:spPr>
          <a:xfrm>
            <a:off x="1981080" y="3271680"/>
            <a:ext cx="4724640" cy="2214720"/>
          </a:xfrm>
          <a:prstGeom prst="rect">
            <a:avLst/>
          </a:prstGeom>
          <a:ln w="0">
            <a:noFill/>
          </a:ln>
        </p:spPr>
      </p:pic>
      <p:pic>
        <p:nvPicPr>
          <p:cNvPr id="44" name="023" descr="Jennifer Aniston"/>
          <p:cNvPicPr/>
          <p:nvPr/>
        </p:nvPicPr>
        <p:blipFill>
          <a:blip r:embed="rId3"/>
          <a:stretch/>
        </p:blipFill>
        <p:spPr>
          <a:xfrm>
            <a:off x="6934320" y="4800600"/>
            <a:ext cx="14382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20043"/>
            </a:gs>
            <a:gs pos="100000">
              <a:srgbClr val="d6009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omentum: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72388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ad (80 kg) and Angelina (50 kg) enjoy a relaxing drive across the south of France in their red sports car (600 kg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om rest, they accelerate to a cruising speed of 25 m/s then come to rest at an upcoming stop sig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5715000"/>
            <a:ext cx="701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could possibly go wrong?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515360" y="304920"/>
            <a:ext cx="1628640" cy="2286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543800" y="2666880"/>
            <a:ext cx="1600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mm. South of France. Descartes. A coincidence? I think no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76320" y="4572000"/>
            <a:ext cx="2154240" cy="837720"/>
            <a:chOff x="76320" y="4572000"/>
            <a:chExt cx="2154240" cy="837720"/>
          </a:xfrm>
        </p:grpSpPr>
        <p:sp>
          <p:nvSpPr>
            <p:cNvPr id="51" name=""/>
            <p:cNvSpPr/>
            <p:nvPr/>
          </p:nvSpPr>
          <p:spPr>
            <a:xfrm flipV="1">
              <a:off x="76320" y="5081400"/>
              <a:ext cx="2154240" cy="200160"/>
            </a:xfrm>
            <a:prstGeom prst="parallelogram">
              <a:avLst>
                <a:gd name="adj" fmla="val 269065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61600" y="5178600"/>
              <a:ext cx="311400" cy="225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562760" y="5184720"/>
              <a:ext cx="311400" cy="225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462960" y="4578120"/>
              <a:ext cx="629280" cy="48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1024200" y="4572000"/>
              <a:ext cx="538200" cy="496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2079720" y="4295880"/>
            <a:ext cx="571320" cy="495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347920" y="4740120"/>
            <a:ext cx="0" cy="619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6920" y="5410080"/>
            <a:ext cx="8794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3305160" y="4572000"/>
            <a:ext cx="2154240" cy="837720"/>
            <a:chOff x="3305160" y="4572000"/>
            <a:chExt cx="2154240" cy="837720"/>
          </a:xfrm>
        </p:grpSpPr>
        <p:sp>
          <p:nvSpPr>
            <p:cNvPr id="60" name=""/>
            <p:cNvSpPr/>
            <p:nvPr/>
          </p:nvSpPr>
          <p:spPr>
            <a:xfrm flipV="1">
              <a:off x="3305160" y="5081400"/>
              <a:ext cx="2154240" cy="200160"/>
            </a:xfrm>
            <a:prstGeom prst="parallelogram">
              <a:avLst>
                <a:gd name="adj" fmla="val 269065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790440" y="5178600"/>
              <a:ext cx="311400" cy="225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91600" y="5184720"/>
              <a:ext cx="311400" cy="225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" name="" descr=""/>
            <p:cNvPicPr/>
            <p:nvPr/>
          </p:nvPicPr>
          <p:blipFill>
            <a:blip r:embed="rId5"/>
            <a:stretch/>
          </p:blipFill>
          <p:spPr>
            <a:xfrm>
              <a:off x="3691800" y="4578120"/>
              <a:ext cx="629280" cy="48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6"/>
            <a:stretch/>
          </p:blipFill>
          <p:spPr>
            <a:xfrm>
              <a:off x="4253040" y="4572000"/>
              <a:ext cx="538200" cy="49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5181480" y="5138640"/>
            <a:ext cx="909720" cy="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6492960" y="4572000"/>
            <a:ext cx="2154240" cy="837720"/>
            <a:chOff x="6492960" y="4572000"/>
            <a:chExt cx="2154240" cy="837720"/>
          </a:xfrm>
        </p:grpSpPr>
        <p:sp>
          <p:nvSpPr>
            <p:cNvPr id="67" name=""/>
            <p:cNvSpPr/>
            <p:nvPr/>
          </p:nvSpPr>
          <p:spPr>
            <a:xfrm flipV="1">
              <a:off x="6492960" y="5081400"/>
              <a:ext cx="2154240" cy="200160"/>
            </a:xfrm>
            <a:prstGeom prst="parallelogram">
              <a:avLst>
                <a:gd name="adj" fmla="val 269065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978240" y="5178600"/>
              <a:ext cx="311400" cy="225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979400" y="5184720"/>
              <a:ext cx="311400" cy="225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7"/>
            <a:stretch/>
          </p:blipFill>
          <p:spPr>
            <a:xfrm>
              <a:off x="6879600" y="4578120"/>
              <a:ext cx="629280" cy="48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8"/>
            <a:stretch/>
          </p:blipFill>
          <p:spPr>
            <a:xfrm>
              <a:off x="7440840" y="4572000"/>
              <a:ext cx="538200" cy="496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2" name="" descr=""/>
          <p:cNvPicPr/>
          <p:nvPr/>
        </p:nvPicPr>
        <p:blipFill>
          <a:blip r:embed="rId9"/>
          <a:stretch/>
        </p:blipFill>
        <p:spPr>
          <a:xfrm>
            <a:off x="8496360" y="4334040"/>
            <a:ext cx="571320" cy="495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764560" y="4778280"/>
            <a:ext cx="0" cy="619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20043"/>
            </a:gs>
            <a:gs pos="100000">
              <a:srgbClr val="d6009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Question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520" y="761760"/>
            <a:ext cx="85345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spcAft>
                <a:spcPts val="2500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Brad and Angelina’s combined momentum (including car) at the stop first sig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spcAft>
                <a:spcPts val="2500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ir combined momentum at cruising spe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spcAft>
                <a:spcPts val="2500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are Brad and Angelina’s momentum, respectively, at cruising spe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spcAft>
                <a:spcPts val="2500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ate Brad, Angelina and the car’s individual and combined impulse as they go from rest to cruising spe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spcAft>
                <a:spcPts val="2500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it takes them 8 seconds to get to cruising speed, what is the average net force exerted on Brad, Angelina and the ca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spcAft>
                <a:spcPts val="2500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road’s net impulse as Brad, Angelina and the car go from rest to cruising speed?  Which of Newton’s Laws explains this phenomeno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spcAft>
                <a:spcPts val="200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impulse Angelina exerts on her car seat as the car accelerates?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20043"/>
            </a:gs>
            <a:gs pos="100000">
              <a:srgbClr val="d6009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Unexpected Coincidence: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4419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a hurry for a coffee “date” with a French mime, Brad’s jilted ex-wife, Jennifer Aniston (45 kg), speeds along at 30 m/s in her blue convertible (800 kg).  Unfortunately, she doesn’t see the red sports car in the intersection ahead of h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629400" y="3657600"/>
            <a:ext cx="4572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410080" y="1905120"/>
            <a:ext cx="0" cy="1295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05720" y="1981080"/>
            <a:ext cx="0" cy="121932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638680" y="2819520"/>
            <a:ext cx="838440" cy="60948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848720" y="1981080"/>
            <a:ext cx="0" cy="12193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7924680" y="5029200"/>
            <a:ext cx="990720" cy="14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7848360" y="4114800"/>
            <a:ext cx="1066680" cy="144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7848360" y="3200400"/>
            <a:ext cx="10666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86400" y="5029200"/>
            <a:ext cx="0" cy="11430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781680" y="5029200"/>
            <a:ext cx="0" cy="121932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924680" y="5029200"/>
            <a:ext cx="0" cy="12193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562720" y="1066680"/>
            <a:ext cx="914400" cy="990720"/>
            <a:chOff x="5562720" y="1066680"/>
            <a:chExt cx="914400" cy="990720"/>
          </a:xfrm>
        </p:grpSpPr>
        <p:sp>
          <p:nvSpPr>
            <p:cNvPr id="90" name=""/>
            <p:cNvSpPr/>
            <p:nvPr/>
          </p:nvSpPr>
          <p:spPr>
            <a:xfrm>
              <a:off x="5715000" y="1066680"/>
              <a:ext cx="609840" cy="990720"/>
            </a:xfrm>
            <a:prstGeom prst="rect">
              <a:avLst/>
            </a:prstGeom>
            <a:solidFill>
              <a:srgbClr val="3333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023" descr="Jennifer Aniston"/>
            <p:cNvPicPr/>
            <p:nvPr/>
          </p:nvPicPr>
          <p:blipFill>
            <a:blip r:embed="rId1"/>
            <a:stretch/>
          </p:blipFill>
          <p:spPr>
            <a:xfrm>
              <a:off x="5715000" y="1219320"/>
              <a:ext cx="60480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6324840" y="1143000"/>
              <a:ext cx="15228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562720" y="1143000"/>
              <a:ext cx="15228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324840" y="1676520"/>
              <a:ext cx="15228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562720" y="1676520"/>
              <a:ext cx="15228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5334120" y="3276720"/>
            <a:ext cx="1237680" cy="837720"/>
            <a:chOff x="5334120" y="3276720"/>
            <a:chExt cx="1237680" cy="837720"/>
          </a:xfrm>
        </p:grpSpPr>
        <p:sp>
          <p:nvSpPr>
            <p:cNvPr id="97" name=""/>
            <p:cNvSpPr/>
            <p:nvPr/>
          </p:nvSpPr>
          <p:spPr>
            <a:xfrm>
              <a:off x="5352840" y="3396240"/>
              <a:ext cx="1218960" cy="598680"/>
            </a:xfrm>
            <a:prstGeom prst="rect">
              <a:avLst/>
            </a:prstGeom>
            <a:solidFill>
              <a:srgbClr val="ff33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5334120" y="3456000"/>
              <a:ext cx="628200" cy="45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3"/>
            <a:stretch/>
          </p:blipFill>
          <p:spPr>
            <a:xfrm>
              <a:off x="5962320" y="3456000"/>
              <a:ext cx="561600" cy="47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5505120" y="3994920"/>
              <a:ext cx="228240" cy="119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114960" y="3994920"/>
              <a:ext cx="228240" cy="119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05120" y="3276720"/>
              <a:ext cx="228240" cy="119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114960" y="3276720"/>
              <a:ext cx="228240" cy="119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6019920" y="2057400"/>
            <a:ext cx="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4495680" y="5029200"/>
            <a:ext cx="990720" cy="14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4419360" y="4114800"/>
            <a:ext cx="1066680" cy="144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4419360" y="3200400"/>
            <a:ext cx="990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162920" y="3429000"/>
            <a:ext cx="152388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10 m/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77120" y="1447920"/>
            <a:ext cx="175248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30 m/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20043"/>
            </a:gs>
            <a:gs pos="100000">
              <a:srgbClr val="d6009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cenario 1: Inelastic Collis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8991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Aft>
                <a:spcPts val="1500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linear momentum of Jennifer (and her car) just before impac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Aft>
                <a:spcPts val="1500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momentum of Brad, Angelina (and their car) just before impact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Aft>
                <a:spcPts val="1500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combined momentum of this system immediately after impact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Aft>
                <a:spcPts val="1500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velocity vector for each vehicl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mmediate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llowing impac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Aft>
                <a:spcPts val="1500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lculate the impulse vector for each vehicle (including drivers) due to the collisio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Aft>
                <a:spcPts val="1500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ose the impact lasts for 0.5 sec.  What is average impact force exerted on each vehicl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990720"/>
            <a:ext cx="9144000" cy="17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st approaching the intersection, Jennifer’s convertible collides head-on into the side of Brad and Angelina’s car. During the impact, Jennifer’s car attaches to Brad and Angelina’s car and both vehicles are thrust through the inters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20043"/>
            </a:gs>
            <a:gs pos="100000">
              <a:srgbClr val="d6009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ncept Question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Aft>
                <a:spcPts val="600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does the impact force received by Jennifer’s vehicle compare with the force received by Brad and Angelina’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Aft>
                <a:spcPts val="600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does the acceleration (due to impact) of Jennifer’s vehicle compare with the acceleration of Brad and Angelina’s?  Calculate the respective accelera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Aft>
                <a:spcPts val="600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Jennifer were driving a 2500 kg SUV instead of a small car, would her vehicle receive more, less, or the same impact force as Brad and Angelina’s car?  Expla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20043"/>
            </a:gs>
            <a:gs pos="100000">
              <a:srgbClr val="d6009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cenario 2: Elastic Collis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-360" y="2133360"/>
            <a:ext cx="8991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Aft>
                <a:spcPts val="1125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combined momentum of this system immediately following impact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Aft>
                <a:spcPts val="1125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total momentum for the 2 vehicle system, just after impac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Aft>
                <a:spcPts val="1125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culate the velocity for the system pre-impa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Aft>
                <a:spcPts val="1125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KE of each vehicle (w/passengers), respectively, prior to impac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Aft>
                <a:spcPts val="1125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culate the total KE for the 2 vehicle system, just after impa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Aft>
                <a:spcPts val="1125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press the post-impact total momentum and KE by componen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Aft>
                <a:spcPts val="1125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culate the system velocity post-impa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Aft>
                <a:spcPts val="1125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velocity of each vehicle (w/passengers), respectively, immediately following impact?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(refer to textbook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Aft>
                <a:spcPts val="1125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linear momentum of each vehicle (w/passengers), respectively, immediately after impac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Aft>
                <a:spcPts val="1125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KE of each vehicle (w/passengers), respectively, immediately after impac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9144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ternatively, as Jennifer’s car collides with Brad and Angelina’s, the impact knocks Brad and Angelina’s car off their path but vehicles do not become attached and remain independent of each 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20043"/>
            </a:gs>
            <a:gs pos="100000">
              <a:srgbClr val="d6009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ncept Question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80000"/>
              </a:lnSpc>
              <a:spcAft>
                <a:spcPts val="5000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does the combined KE (before) of the vehicles compare to after the Elastic Collision scenari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Aft>
                <a:spcPts val="5000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lain the reason for the discrepancy between the before-after KE’s for the inelastic vs. elastic collis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Aft>
                <a:spcPts val="5000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does the impact force received by Jennifer’s vehicle compare with the force received by Brad and Angelina’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Aft>
                <a:spcPts val="5000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does the acceleration (due to impact) of Jennifer’s vehicle compare with the acceleration of Brad and Angelina’s?  Calculate the respective accelera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Aft>
                <a:spcPts val="5000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Jennifer were driving a 1500 kg SUV instead of a small car, would her vehicle receive more, less, or the same impact force as Brad and Angelina’s car?  Explai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20043"/>
            </a:gs>
            <a:gs pos="100000">
              <a:srgbClr val="d6009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near momentum is conserved before, during and following both elastic and inelastic collisions (neglecting external forces such as dra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near momentum is exchanged between the colliding bodi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pulse vector associated with one is equal but opposite the impulse vector associated with the oth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ton’s 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aw is alive and well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pact force is equal (but oppositely directed) between both bodies involved in a collision regardless of mass or collision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 is not conserved during inelastic colli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 is conserved during elastic colli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17:39:14Z</dcterms:created>
  <dc:creator>Tony Zable</dc:creator>
  <dc:description/>
  <dc:language>en-US</dc:language>
  <cp:lastModifiedBy>Tony Zable</cp:lastModifiedBy>
  <dcterms:modified xsi:type="dcterms:W3CDTF">2007-06-10T18:49:45Z</dcterms:modified>
  <cp:revision>53</cp:revision>
  <dc:subject/>
  <dc:title>Phy 201:  General Physics I</dc:title>
</cp:coreProperties>
</file>