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350-0199-4EE5-9D81-8D8760CE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29256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6E1-1C7B-422F-B828-FCE0627D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292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292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AA5-65A3-46BD-92F4-E6FE5F7B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2925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2925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2925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814-25D7-412E-A7A9-68AD643A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70D-EB88-4122-9E93-D6ECE903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1EB-EC85-4CDD-867E-0722B5E3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461-C218-4CAC-BB62-EE56FFAB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B06-7B28-4F6C-AD11-3D68A7B0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B7B-0A47-4A89-9758-CB008C74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292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2F5-0EAE-4C9A-B330-AEB01E86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292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09B-99F7-4BD4-9F80-136EE8B4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29256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E26-68F8-47A4-A322-4063B584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47D0-EDBE-4152-8C11-BD0A86A0B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3: General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21: Magnetic Fields &amp; Magnetic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netic Fie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vement of electric charge produces a magnetic field (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iel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field lines point from North (N) to South 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s of magnetic field are called Tesla (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 Tesla (T) = 1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/C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2666880"/>
            <a:ext cx="2286000" cy="2059920"/>
            <a:chOff x="3276720" y="2666880"/>
            <a:chExt cx="2286000" cy="2059920"/>
          </a:xfrm>
        </p:grpSpPr>
        <p:grpSp>
          <p:nvGrpSpPr>
            <p:cNvPr id="46" name=""/>
            <p:cNvGrpSpPr/>
            <p:nvPr/>
          </p:nvGrpSpPr>
          <p:grpSpPr>
            <a:xfrm>
              <a:off x="3276720" y="2666880"/>
              <a:ext cx="1523880" cy="2059920"/>
              <a:chOff x="3276720" y="2666880"/>
              <a:chExt cx="1523880" cy="2059920"/>
            </a:xfrm>
          </p:grpSpPr>
          <p:sp>
            <p:nvSpPr>
              <p:cNvPr id="47" name=""/>
              <p:cNvSpPr/>
              <p:nvPr/>
            </p:nvSpPr>
            <p:spPr>
              <a:xfrm flipV="1">
                <a:off x="327672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358128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388620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419112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449568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480060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86200" y="2666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86200" y="4267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876920" y="3429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nets &amp; magnetic mate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etism always exists as a dipole never as a point “charg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ngle magnetic point charge is called a magnetic monopo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&amp; has never been discovered in na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etic materials have both north and south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arth as a Mag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arth has a magnetic field and acts like a big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efine the magnetic “north” direction as the direction the North end of a compass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ographic “North Pole” is really the South pole of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ographic “South Pole” is really the North pole of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its value varies depending on location, the magnitude of the Earth’s magnetic field (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ar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earth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~ 60 x 10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netic Fields (moving charge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ing charges produce magnetic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gnitude of the produced magnetic field depen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of charge (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d of the charg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from charge (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of magnetic field is determined by the “right hand ru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 thumb in direction of v (or –v for negative cha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l fingers around the thu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rection of the fingers is the direction of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What is the direction of the B fiel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800360" y="6095880"/>
            <a:ext cx="1628640" cy="762120"/>
            <a:chOff x="1800360" y="6095880"/>
            <a:chExt cx="1628640" cy="762120"/>
          </a:xfrm>
        </p:grpSpPr>
        <p:grpSp>
          <p:nvGrpSpPr>
            <p:cNvPr id="63" name=""/>
            <p:cNvGrpSpPr/>
            <p:nvPr/>
          </p:nvGrpSpPr>
          <p:grpSpPr>
            <a:xfrm>
              <a:off x="1800360" y="6095880"/>
              <a:ext cx="522360" cy="658800"/>
              <a:chOff x="1800360" y="6095880"/>
              <a:chExt cx="522360" cy="658800"/>
            </a:xfrm>
          </p:grpSpPr>
          <p:sp>
            <p:nvSpPr>
              <p:cNvPr id="64" name=""/>
              <p:cNvSpPr/>
              <p:nvPr/>
            </p:nvSpPr>
            <p:spPr>
              <a:xfrm>
                <a:off x="1800360" y="6095880"/>
                <a:ext cx="5223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Verdana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876680" y="6145200"/>
                <a:ext cx="315720" cy="3999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409840" y="6299280"/>
              <a:ext cx="1019160" cy="558720"/>
              <a:chOff x="2409840" y="6299280"/>
              <a:chExt cx="1019160" cy="558720"/>
            </a:xfrm>
          </p:grpSpPr>
          <p:sp>
            <p:nvSpPr>
              <p:cNvPr id="67" name=""/>
              <p:cNvSpPr/>
              <p:nvPr/>
            </p:nvSpPr>
            <p:spPr>
              <a:xfrm>
                <a:off x="2409840" y="6324480"/>
                <a:ext cx="914400" cy="0"/>
              </a:xfrm>
              <a:prstGeom prst="line">
                <a:avLst/>
              </a:prstGeom>
              <a:ln w="38160">
                <a:solidFill>
                  <a:srgbClr val="ff99cc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38440" y="6299280"/>
                <a:ext cx="79056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cc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5915160" y="6095880"/>
            <a:ext cx="1628640" cy="762120"/>
            <a:chOff x="5915160" y="6095880"/>
            <a:chExt cx="1628640" cy="762120"/>
          </a:xfrm>
        </p:grpSpPr>
        <p:grpSp>
          <p:nvGrpSpPr>
            <p:cNvPr id="70" name=""/>
            <p:cNvGrpSpPr/>
            <p:nvPr/>
          </p:nvGrpSpPr>
          <p:grpSpPr>
            <a:xfrm>
              <a:off x="5915160" y="6095880"/>
              <a:ext cx="522360" cy="658800"/>
              <a:chOff x="5915160" y="6095880"/>
              <a:chExt cx="522360" cy="658800"/>
            </a:xfrm>
          </p:grpSpPr>
          <p:sp>
            <p:nvSpPr>
              <p:cNvPr id="71" name=""/>
              <p:cNvSpPr/>
              <p:nvPr/>
            </p:nvSpPr>
            <p:spPr>
              <a:xfrm>
                <a:off x="5915160" y="6095880"/>
                <a:ext cx="5223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Verdana"/>
                  </a:rPr>
                  <a:t> 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Verdana"/>
                  </a:rPr>
                  <a:t>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991480" y="6145200"/>
                <a:ext cx="315720" cy="3999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524640" y="6299280"/>
              <a:ext cx="1019160" cy="558720"/>
              <a:chOff x="6524640" y="6299280"/>
              <a:chExt cx="1019160" cy="558720"/>
            </a:xfrm>
          </p:grpSpPr>
          <p:sp>
            <p:nvSpPr>
              <p:cNvPr id="74" name=""/>
              <p:cNvSpPr/>
              <p:nvPr/>
            </p:nvSpPr>
            <p:spPr>
              <a:xfrm>
                <a:off x="6524640" y="6324480"/>
                <a:ext cx="914400" cy="0"/>
              </a:xfrm>
              <a:prstGeom prst="line">
                <a:avLst/>
              </a:prstGeom>
              <a:ln w="38160">
                <a:solidFill>
                  <a:srgbClr val="ff99cc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53240" y="6299280"/>
                <a:ext cx="79056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cc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netic For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fields exert force on moving charges 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(the magnetic for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the magnetic force is al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pendicular to the direction of 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pendicular to the direction of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force exerted on a charge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gnitude of the moving charge (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the moving charg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gnitude of the magnetic field (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ngl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between v and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magnetic force on a moving char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magnetic 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= q 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v 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B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netic Force on a Current-Carrying W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carrying wires have moving 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laced in a magnetic field, the field can exert a force on these moving 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etic force exerted on a wire of length, L,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cc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 = I</a:t>
            </a:r>
            <a:r>
              <a:rPr b="0" lang="en-US" sz="32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Bsin</a:t>
            </a:r>
            <a:r>
              <a:rPr b="0" lang="en-US" sz="3200" spc="-1" strike="noStrike">
                <a:solidFill>
                  <a:srgbClr val="ccff33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mpere’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gnetic analogy to Gauss’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ere’s Law is a tool to calculate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closed loop of length, 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//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closed loop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en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B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//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enclosed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)/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closed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current carrying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current carrying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re Marie Ampe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75-1836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48006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person to describe current as the flow of electricity along a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his derivation of the electrodynamic (electric) force law in 18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Ampere" descr=""/>
          <p:cNvPicPr/>
          <p:nvPr/>
        </p:nvPicPr>
        <p:blipFill>
          <a:blip r:embed="rId1"/>
          <a:stretch/>
        </p:blipFill>
        <p:spPr>
          <a:xfrm>
            <a:off x="5797440" y="1066680"/>
            <a:ext cx="297828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06668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ed to be the “Newton of electric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formally educat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well did not attend scho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uted to have mastered all known mathematics by the age of 1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robably untr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on an electrical &amp; magnetic wave theory of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4:35:37Z</dcterms:created>
  <dc:creator>Tony Zable</dc:creator>
  <dc:description/>
  <dc:language>en-US</dc:language>
  <cp:lastModifiedBy>PCC</cp:lastModifiedBy>
  <dcterms:modified xsi:type="dcterms:W3CDTF">2003-05-07T19:47:42Z</dcterms:modified>
  <cp:revision>32</cp:revision>
  <dc:subject/>
  <dc:title>Phy 203: General Physics III</dc:title>
</cp:coreProperties>
</file>