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B8E3-0E7D-4C7C-ACFD-0FA5381E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2925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950-3000-4E24-9936-5B253E51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292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292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751-9E0D-4B20-BD21-D1FE7D6A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292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292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29256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326-AD43-4C13-A5CC-D1845097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DF6C-D85D-4DF2-93CB-839CD178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152-07B4-4072-A7A7-46F19D0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068-B2D2-410C-9B55-E3B65194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2BE-973F-496E-8BDE-8C32D080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A0ED-6B46-4035-AF86-E15B829C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292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815-F3DD-466F-A2F2-6E73E98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29256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0BF-115B-45EA-8020-BEA0B465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29256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AD2-48FE-4409-BAF3-F669863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1420-EF54-441A-9F0F-08A575FE7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3: General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21: Magnetic Fields &amp; Magnetic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ic Fie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vement of electric charge produces a magnetic field (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el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ield lines point from North (N) to South 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units of magnetic field are called Tesla (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1 Tesla (T) = 1 N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/C</a:t>
            </a:r>
            <a:r>
              <a:rPr b="0" lang="en-US" sz="28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2666880"/>
            <a:ext cx="2286000" cy="2059920"/>
            <a:chOff x="3276720" y="2666880"/>
            <a:chExt cx="2286000" cy="2059920"/>
          </a:xfrm>
        </p:grpSpPr>
        <p:grpSp>
          <p:nvGrpSpPr>
            <p:cNvPr id="46" name=""/>
            <p:cNvGrpSpPr/>
            <p:nvPr/>
          </p:nvGrpSpPr>
          <p:grpSpPr>
            <a:xfrm>
              <a:off x="3276720" y="2666880"/>
              <a:ext cx="1523880" cy="2059920"/>
              <a:chOff x="3276720" y="2666880"/>
              <a:chExt cx="1523880" cy="2059920"/>
            </a:xfrm>
          </p:grpSpPr>
          <p:sp>
            <p:nvSpPr>
              <p:cNvPr id="47" name=""/>
              <p:cNvSpPr/>
              <p:nvPr/>
            </p:nvSpPr>
            <p:spPr>
              <a:xfrm flipV="1">
                <a:off x="327672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358128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388620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419112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449568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4800600" y="3200400"/>
                <a:ext cx="0" cy="914400"/>
              </a:xfrm>
              <a:prstGeom prst="line">
                <a:avLst/>
              </a:prstGeom>
              <a:ln w="9360">
                <a:solidFill>
                  <a:srgbClr val="66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86200" y="26668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86200" y="4267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99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876920" y="3429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s &amp; magnetic mate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etism always exists as a dipole never as a point “charg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ngle magnetic point charge is called a magnetic monopo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&amp; has never been discovered in natur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etic materials have both north and south po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arth as a Mag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arth has a magnetic field and acts like a big mag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efine the magnetic “north” direction as the direction the North end of a compass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ographic “North Pole” is really the South pole of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ographic “South Pole” is really the North pole of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hough its value varies depending on location, the magnitude of the Earth’s magnetic field (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ar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earth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~ 60 x 10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ic Fields (moving charge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ing charges produce magnetic f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itude of the produced magnetic field depen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of charge (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ed of the charg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tance from charge (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 of magnetic field is determined by the “right hand ru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 thumb in direction of v (or –v for negative cha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l fingers around the thu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rection of the fingers is the direction of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What is the direction of the B fiel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800360" y="6095880"/>
            <a:ext cx="1628640" cy="762120"/>
            <a:chOff x="1800360" y="6095880"/>
            <a:chExt cx="1628640" cy="762120"/>
          </a:xfrm>
        </p:grpSpPr>
        <p:grpSp>
          <p:nvGrpSpPr>
            <p:cNvPr id="63" name=""/>
            <p:cNvGrpSpPr/>
            <p:nvPr/>
          </p:nvGrpSpPr>
          <p:grpSpPr>
            <a:xfrm>
              <a:off x="1800360" y="6095880"/>
              <a:ext cx="522360" cy="658800"/>
              <a:chOff x="1800360" y="6095880"/>
              <a:chExt cx="522360" cy="658800"/>
            </a:xfrm>
          </p:grpSpPr>
          <p:sp>
            <p:nvSpPr>
              <p:cNvPr id="64" name=""/>
              <p:cNvSpPr/>
              <p:nvPr/>
            </p:nvSpPr>
            <p:spPr>
              <a:xfrm>
                <a:off x="1800360" y="6095880"/>
                <a:ext cx="5223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Verdana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876680" y="6145200"/>
                <a:ext cx="315720" cy="3999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409840" y="6299280"/>
              <a:ext cx="1019160" cy="558720"/>
              <a:chOff x="2409840" y="6299280"/>
              <a:chExt cx="1019160" cy="558720"/>
            </a:xfrm>
          </p:grpSpPr>
          <p:sp>
            <p:nvSpPr>
              <p:cNvPr id="67" name=""/>
              <p:cNvSpPr/>
              <p:nvPr/>
            </p:nvSpPr>
            <p:spPr>
              <a:xfrm>
                <a:off x="2409840" y="6324480"/>
                <a:ext cx="914400" cy="0"/>
              </a:xfrm>
              <a:prstGeom prst="line">
                <a:avLst/>
              </a:prstGeom>
              <a:ln w="38160">
                <a:solidFill>
                  <a:srgbClr val="ff99cc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38440" y="6299280"/>
                <a:ext cx="79056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cc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"/>
          <p:cNvGrpSpPr/>
          <p:nvPr/>
        </p:nvGrpSpPr>
        <p:grpSpPr>
          <a:xfrm>
            <a:off x="5915160" y="6095880"/>
            <a:ext cx="1628640" cy="762120"/>
            <a:chOff x="5915160" y="6095880"/>
            <a:chExt cx="1628640" cy="762120"/>
          </a:xfrm>
        </p:grpSpPr>
        <p:grpSp>
          <p:nvGrpSpPr>
            <p:cNvPr id="70" name=""/>
            <p:cNvGrpSpPr/>
            <p:nvPr/>
          </p:nvGrpSpPr>
          <p:grpSpPr>
            <a:xfrm>
              <a:off x="5915160" y="6095880"/>
              <a:ext cx="522360" cy="658800"/>
              <a:chOff x="5915160" y="6095880"/>
              <a:chExt cx="522360" cy="658800"/>
            </a:xfrm>
          </p:grpSpPr>
          <p:sp>
            <p:nvSpPr>
              <p:cNvPr id="71" name=""/>
              <p:cNvSpPr/>
              <p:nvPr/>
            </p:nvSpPr>
            <p:spPr>
              <a:xfrm>
                <a:off x="5915160" y="6095880"/>
                <a:ext cx="5223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Verdana"/>
                  </a:rPr>
                  <a:t> 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Verdana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991480" y="6145200"/>
                <a:ext cx="315720" cy="39996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524640" y="6299280"/>
              <a:ext cx="1019160" cy="558720"/>
              <a:chOff x="6524640" y="6299280"/>
              <a:chExt cx="1019160" cy="558720"/>
            </a:xfrm>
          </p:grpSpPr>
          <p:sp>
            <p:nvSpPr>
              <p:cNvPr id="74" name=""/>
              <p:cNvSpPr/>
              <p:nvPr/>
            </p:nvSpPr>
            <p:spPr>
              <a:xfrm>
                <a:off x="6524640" y="6324480"/>
                <a:ext cx="914400" cy="0"/>
              </a:xfrm>
              <a:prstGeom prst="line">
                <a:avLst/>
              </a:prstGeom>
              <a:ln w="38160">
                <a:solidFill>
                  <a:srgbClr val="ff99cc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53240" y="6299280"/>
                <a:ext cx="790560" cy="55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99cc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ic For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ields exert force on moving charges 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(the magnetic for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the magnetic force is al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pendicular to the direction of m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pendicular to the direction of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ic force exerted on a charge depends 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gnitude of the moving charge (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the moving charge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gnitude of the magnetic field (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ngle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between v an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magnetic force on a moving char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magnetic 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= q 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v 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B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sin 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netic Force on a Current-Carrying Wi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carrying wires have moving 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laced in a magnetic field, the field can exert a force on these moving char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gnetic force exerted on a wire of length, L,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cc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 = I</a:t>
            </a:r>
            <a:r>
              <a:rPr b="0" lang="en-US" sz="32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ff33"/>
                </a:solidFill>
                <a:latin typeface="Times New Roman"/>
              </a:rPr>
              <a:t>Bsin</a:t>
            </a:r>
            <a:r>
              <a:rPr b="0" lang="en-US" sz="3200" spc="-1" strike="noStrike">
                <a:solidFill>
                  <a:srgbClr val="ccff33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mpere’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etic analogy to Gauss’ La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ere’s Law is a tool to calculate the magnetic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a closed loop of length, 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//</a:t>
            </a:r>
            <a:r>
              <a:rPr b="0" lang="en-US" sz="2800" spc="-1" strike="noStrike" baseline="30000">
                <a:solidFill>
                  <a:srgbClr val="cc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closed loop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en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B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//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enclosed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)/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ccff33"/>
                </a:solidFill>
                <a:latin typeface="Times New Roman"/>
              </a:rPr>
              <a:t>closed lo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current carrying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current carrying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re Marie Ampe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75-1836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48006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person to describe current as the flow of electricity along a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his derivation of the electrodynamic (electric) force law in 18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Ampere" descr=""/>
          <p:cNvPicPr/>
          <p:nvPr/>
        </p:nvPicPr>
        <p:blipFill>
          <a:blip r:embed="rId1"/>
          <a:stretch/>
        </p:blipFill>
        <p:spPr>
          <a:xfrm>
            <a:off x="5797440" y="1066680"/>
            <a:ext cx="2978280" cy="350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066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ed to be the “Newton of electrici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formally educat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well did not attend scho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uted to have mastered all known mathematics by the age of 1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robably untr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on an electrical &amp; magnetic wave theory of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4:35:37Z</dcterms:created>
  <dc:creator>Tony Zable</dc:creator>
  <dc:description/>
  <dc:language>en-US</dc:language>
  <cp:lastModifiedBy>PCC</cp:lastModifiedBy>
  <dcterms:modified xsi:type="dcterms:W3CDTF">2003-05-07T19:47:42Z</dcterms:modified>
  <cp:revision>32</cp:revision>
  <dc:subject/>
  <dc:title>Phy 203: General Physics III</dc:title>
</cp:coreProperties>
</file>