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373-C47A-4A58-A96E-8A6987E7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734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126-F906-469B-8DFC-A6485631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308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926-5E78-42F4-9C5D-E80B0C11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1800" y="15238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8320" y="15238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734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1800" y="36734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8320" y="36734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C24-88A3-41BA-8C67-6C5A448F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0C1-8F8A-4D8E-ACAA-1501C600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A06-5D0F-4DFE-A122-A61AC95C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4EFB-5BDB-41D3-A158-FB107A5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EA6-0936-47F0-A12F-7777291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A55-50AD-473F-B196-480D5493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CF2-2B4B-4E64-BF50-59EB88F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3080" y="36734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FF9-97A8-4038-AF0A-CC19EB52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3080" y="15238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734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E00-F344-4257-9B40-2C19D05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3F3-D0E1-4700-9F8F-06FC8F15F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203: General Physics I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 19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 Potential Energy &amp; the Electric Pot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Potenti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charge is in an electric field, the electric force exerted upon it, as it moves from one point (A) to another point (B) can do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F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cos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only works when the applied force (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is constant!  When FE is not constant, the work performed is equal to the difference in electric potential energy (EPE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=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-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EPE is similar to gravitational PE (P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gra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energy associated to the position of an object subject to an electric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s are joules (J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(V) is the electric potential energy  per unit char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=EPE/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manner, V associated with a position can be expressed without concern for the specific charge pre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 units are joules/coulomb (J/C), called the volt (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 performed on an electric charge is related to the change in electric potential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) and its charge (q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-W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=q</a:t>
            </a:r>
            <a:r>
              <a:rPr b="0" lang="en-US" sz="32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 = -W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/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qE and W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we can combine them to obt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E = -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V/</a:t>
            </a:r>
            <a:r>
              <a:rPr b="0" lang="en-US" sz="32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99ff33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lessandro Volta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45-1827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ian physicist &amp; inven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person to isolate meth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nated with electricity at an early 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oneered the field of electrochem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volta" descr=""/>
          <p:cNvPicPr/>
          <p:nvPr/>
        </p:nvPicPr>
        <p:blipFill>
          <a:blip r:embed="rId1"/>
          <a:stretch/>
        </p:blipFill>
        <p:spPr>
          <a:xfrm>
            <a:off x="6141960" y="1523880"/>
            <a:ext cx="2692440" cy="2971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800600"/>
            <a:ext cx="85341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cted the first battery to produce electricity (called a voltaic pi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ectric Potentia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for a point charge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eld for a point charge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 required to bring a “test” charge (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from “infinity” to a position r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W = 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– 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 = EPE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{since EP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0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PE is related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(V) at r then becom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819520" y="1371600"/>
                <a:ext cx="3022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84560" y="4267080"/>
                <a:ext cx="4665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314880" y="5819760"/>
                <a:ext cx="25621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acitors &amp; Dielectr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field (E) within the plates of a capacitor is constant but the electric potential (V) is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lectric potential (V) is higher at the positive charged plate (+q) and lower at the negative charged plate (-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V = - E</a:t>
            </a:r>
            <a:r>
              <a:rPr b="0" lang="en-US" sz="2800" spc="-1" strike="noStrike" baseline="30000">
                <a:solidFill>
                  <a:srgbClr val="99ff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99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is the plate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capacitor is charged, the charge that builds up at each plate is proportional to the potential difference across the pl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Q ~ 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pacitance (C) is defined as as the rat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C = Q/</a:t>
            </a:r>
            <a:r>
              <a:rPr b="0" lang="en-US" sz="28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ccff33"/>
                </a:solidFill>
                <a:latin typeface="Times New Roman"/>
              </a:rPr>
              <a:t>V 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(or Q/V where one of the plates is V</a:t>
            </a:r>
            <a:r>
              <a:rPr b="0" lang="en-US" sz="24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ccff33"/>
                </a:solidFill>
                <a:latin typeface="Times New Roman"/>
              </a:rPr>
              <a:t>=0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pacitors &amp; Dielectr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parallel plate capaci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C= </a:t>
            </a: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</a:t>
            </a:r>
            <a:r>
              <a:rPr b="0" lang="en-US" sz="4000" spc="-1" strike="noStrike">
                <a:solidFill>
                  <a:srgbClr val="ccff33"/>
                </a:solidFill>
                <a:latin typeface="Symbol"/>
                <a:ea typeface="Symbol"/>
              </a:rPr>
              <a:t></a:t>
            </a:r>
            <a:r>
              <a:rPr b="0" lang="en-US" sz="4000" spc="-1" strike="noStrike" baseline="-25000">
                <a:solidFill>
                  <a:srgbClr val="ccff33"/>
                </a:solidFill>
                <a:latin typeface="Times New Roman"/>
              </a:rPr>
              <a:t>o</a:t>
            </a: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A/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is the surface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 is the plate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 is the dielectric constant (E=E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vacuum or air-filled capacitor: </a:t>
            </a: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</a:t>
            </a: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~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other materials: </a:t>
            </a: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</a:t>
            </a:r>
            <a:r>
              <a:rPr b="0" lang="en-US" sz="3600" spc="-1" strike="noStrike">
                <a:solidFill>
                  <a:srgbClr val="ccff33"/>
                </a:solidFill>
                <a:latin typeface="Times New Roman"/>
              </a:rPr>
              <a:t>&gt;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 Stored in a Capacito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takes work to charge a capacitor, that work is stored as electrical potential ener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ored energy per unit volume (E/V) for a parallel plate capacitor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e Energy Dens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66680" y="4375080"/>
                <a:ext cx="662940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κ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κ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809800" y="2133720"/>
                <a:ext cx="2451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o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02:16:54Z</dcterms:created>
  <dc:creator>Tony Zable</dc:creator>
  <dc:description/>
  <dc:language>en-US</dc:language>
  <cp:lastModifiedBy>PCC</cp:lastModifiedBy>
  <dcterms:modified xsi:type="dcterms:W3CDTF">2003-04-16T02:34:30Z</dcterms:modified>
  <cp:revision>32</cp:revision>
  <dc:subject/>
  <dc:title>No Slide Title</dc:title>
</cp:coreProperties>
</file>