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F72B-3924-4FF8-9B97-B72C5BFC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6734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C64-11B3-45B1-9B4F-2E9E1E95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83080" y="15238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6734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83080" y="36734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FA4-9B28-4EED-A612-704C557C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61800" y="15238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18320" y="15238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6734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61800" y="36734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18320" y="36734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41C-D7BE-4D24-9F62-2ADAA76E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C51-4CF2-47B1-AEB3-67DAA17C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0175-04DC-4928-B1D9-0A60CDEB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83080" y="15238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EB1-1299-49FE-95E4-C95D97AE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509-F6D9-417D-A878-BE1EBC82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937-0B6D-4A2B-BE95-64D13ED2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3080" y="15238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6734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9FF-4250-4AD8-9261-E7912582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83080" y="15238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83080" y="36734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59F-8F88-46D7-8457-E2A308EB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3080" y="15238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6734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288B-09D5-442A-866B-1D5D403A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0FE9-2EC6-4612-B2B9-B6C16ABEF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203: General Physics I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38862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 19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 Potential Energy &amp; the Electric Pot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ectric Potential Ener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charge is in an electric field, the electric force exerted upon it, as it moves from one point (A) to another point (B) can do wor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=F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cos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only works when the applied force (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is constant!  When FE is not constant, the work performed is equal to the difference in electric potential energy (EPE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=EPE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-EPE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e: EPE is similar to gravitational PE (P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gra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energy associated to the position of an object subject to an electric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ts are joules (J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ectric Potent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ic potential (V) is the electric potential energy  per unit char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=EPE/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is manner, V associated with a position can be expressed without concern for the specific charge pre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I units are joules/coulomb (J/C), called the volt (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 performed on an electric charge is related to the change in electric potential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) and its charge (q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-W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=q</a:t>
            </a:r>
            <a:r>
              <a:rPr b="0" lang="en-US" sz="32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 = -W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/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ce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qE and 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we can combine them to obta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E = -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/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essandro Volta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1745-1827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6172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alian physicist &amp; inven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person to isolate meth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cinated with electricity at an early 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oneered the field of electrochem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volta" descr=""/>
          <p:cNvPicPr/>
          <p:nvPr/>
        </p:nvPicPr>
        <p:blipFill>
          <a:blip r:embed="rId1"/>
          <a:stretch/>
        </p:blipFill>
        <p:spPr>
          <a:xfrm>
            <a:off x="6141960" y="1523880"/>
            <a:ext cx="2692440" cy="2971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4800600"/>
            <a:ext cx="85341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ucted the first battery to produce electricity (called a voltaic pi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ectric Potential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for a point charge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ield for a point charge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 required to bring a “test” charge (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from “infinity” to a position r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W = EPE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– EPE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= EPE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{since EP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0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PE is related to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ic potential (V) at r then becom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819520" y="1371600"/>
                <a:ext cx="3022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284560" y="4267080"/>
                <a:ext cx="46656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q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314880" y="5819760"/>
                <a:ext cx="256212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pacitors &amp; Dielectr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ic field (E) within the plates of a capacitor is constant but the electric potential (V) is n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ic potential (V) is higher at the positive charged plate (+q) and lower at the negative charged plate (-q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V = - E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 is the plate s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he capacitor is charged, the charge that builds up at each plate is proportional to the potential difference across the pl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Q ~ </a:t>
            </a:r>
            <a:r>
              <a:rPr b="0" lang="en-US" sz="28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apacitance (C) is defined as as the rati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C = Q/</a:t>
            </a:r>
            <a:r>
              <a:rPr b="0" lang="en-US" sz="28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ccff33"/>
                </a:solidFill>
                <a:latin typeface="Times New Roman"/>
              </a:rPr>
              <a:t>(or Q/V where one of the plates is V</a:t>
            </a:r>
            <a:r>
              <a:rPr b="0" lang="en-US" sz="2400" spc="-1" strike="noStrike" baseline="-25000">
                <a:solidFill>
                  <a:srgbClr val="ccff33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ccff33"/>
                </a:solidFill>
                <a:latin typeface="Times New Roman"/>
              </a:rPr>
              <a:t>=0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pacitors &amp; Dielectr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 parallel plate capacit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Times New Roman"/>
              </a:rPr>
              <a:t>C= </a:t>
            </a:r>
            <a:r>
              <a:rPr b="0" lang="en-US" sz="3600" spc="-1" strike="noStrike">
                <a:solidFill>
                  <a:srgbClr val="ccff33"/>
                </a:solidFill>
                <a:latin typeface="Symbol"/>
                <a:ea typeface="Symbol"/>
              </a:rPr>
              <a:t></a:t>
            </a:r>
            <a:r>
              <a:rPr b="0" lang="en-US" sz="4000" spc="-1" strike="noStrike">
                <a:solidFill>
                  <a:srgbClr val="ccff33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 baseline="-25000">
                <a:solidFill>
                  <a:srgbClr val="ccff33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ccff33"/>
                </a:solidFill>
                <a:latin typeface="Times New Roman"/>
              </a:rPr>
              <a:t>A/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is the surface a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 is the plate s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 is the dielectric constant (E=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vacuum or air-filled capacitor: </a:t>
            </a:r>
            <a:r>
              <a:rPr b="0" lang="en-US" sz="3600" spc="-1" strike="noStrike">
                <a:solidFill>
                  <a:srgbClr val="ccff33"/>
                </a:solidFill>
                <a:latin typeface="Symbol"/>
                <a:ea typeface="Symbol"/>
              </a:rPr>
              <a:t></a:t>
            </a:r>
            <a:r>
              <a:rPr b="0" lang="en-US" sz="3600" spc="-1" strike="noStrike">
                <a:solidFill>
                  <a:srgbClr val="ccff33"/>
                </a:solidFill>
                <a:latin typeface="Times New Roman"/>
              </a:rPr>
              <a:t>~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other materials: </a:t>
            </a:r>
            <a:r>
              <a:rPr b="0" lang="en-US" sz="3600" spc="-1" strike="noStrike">
                <a:solidFill>
                  <a:srgbClr val="ccff33"/>
                </a:solidFill>
                <a:latin typeface="Symbol"/>
                <a:ea typeface="Symbol"/>
              </a:rPr>
              <a:t></a:t>
            </a:r>
            <a:r>
              <a:rPr b="0" lang="en-US" sz="3600" spc="-1" strike="noStrike">
                <a:solidFill>
                  <a:srgbClr val="ccff33"/>
                </a:solidFill>
                <a:latin typeface="Times New Roman"/>
              </a:rPr>
              <a:t>&gt;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ergy Stored in a Capaci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takes work to charge a capacitor, that work is stored as electrical potential energ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ored energy per unit volume (E/V) for a parallel plate capacitor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e Energy Dens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066680" y="4375080"/>
                <a:ext cx="662940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κ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κ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809800" y="2133720"/>
                <a:ext cx="24512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or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02:16:54Z</dcterms:created>
  <dc:creator>Tony Zable</dc:creator>
  <dc:description/>
  <dc:language>en-US</dc:language>
  <cp:lastModifiedBy>PCC</cp:lastModifiedBy>
  <dcterms:modified xsi:type="dcterms:W3CDTF">2003-04-16T02:34:30Z</dcterms:modified>
  <cp:revision>32</cp:revision>
  <dc:subject/>
  <dc:title>No Slide Title</dc:title>
</cp:coreProperties>
</file>