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E7520-4740-4EF6-A6D3-998B6DFC16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k of electric flux as a way of counting E field lines (or arrows) that pass through an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1) point charge 2) line of charge 3) parallel plate capac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nstrate with H atom (1 p &amp; 1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l of 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3 or more cha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E114-CF0E-4968-8382-9E4EE5D78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CD79-B332-40CD-9400-E9C6A0ECD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4355-72D7-4C16-BB71-0DCB9E631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E02F-749F-4FCC-BA57-17835A289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F2B6-C981-45D6-AF35-1D563551B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8C3E-3CE0-4246-B482-96F76A224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C5BB-2F36-485B-96C2-6F5B691B5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0367-5AD4-441A-83D0-71A3B74A7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C154-A51A-475B-B581-462BF8F53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E7AE-DAE2-46A6-A174-A263E26F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8372-480B-400F-A6F0-B3A232003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47A2-F3CE-4CD9-810C-B4528DCD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578CE-8032-45DF-AF3D-6A8108BAD9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hy 203: General Physics II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7010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 18: Electric Forces &amp; Electric Fiel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cture No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auss’ La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uss’ Law is a fundamental law of nature relating electric charge to electric flu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ider a electric field passing through a region in space.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lectric flu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the product of electric field  normal to the area (E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s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and surface area (A) o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66"/>
                </a:solidFill>
                <a:latin typeface="Symbol"/>
                <a:ea typeface="Symbol"/>
              </a:rPr>
              <a:t></a:t>
            </a:r>
            <a:r>
              <a:rPr b="0" lang="en-US" sz="2800" spc="-1" strike="noStrike" baseline="-25000">
                <a:solidFill>
                  <a:srgbClr val="99ff66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99ff66"/>
                </a:solidFill>
                <a:latin typeface="Times New Roman"/>
              </a:rPr>
              <a:t>= (E </a:t>
            </a:r>
            <a:r>
              <a:rPr b="0" lang="en-US" sz="2800" spc="-1" strike="noStrike" baseline="30000">
                <a:solidFill>
                  <a:srgbClr val="99ff66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99ff66"/>
                </a:solidFill>
                <a:latin typeface="Times New Roman"/>
              </a:rPr>
              <a:t>cos</a:t>
            </a:r>
            <a:r>
              <a:rPr b="0" lang="en-US" sz="2800" spc="-1" strike="noStrike">
                <a:solidFill>
                  <a:srgbClr val="99ff66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99ff66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99ff66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99ff66"/>
                </a:solidFill>
                <a:latin typeface="Times New Roman"/>
              </a:rPr>
              <a:t>A {electric flux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auss’ Law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total electric flux through any closed (“Gaussian”) surface is equal to the enclosed charge (Q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enclos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divided by the permittivity of free space (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66"/>
                </a:solidFill>
                <a:latin typeface="Symbol"/>
                <a:ea typeface="Symbol"/>
              </a:rPr>
              <a:t></a:t>
            </a:r>
            <a:r>
              <a:rPr b="0" lang="en-US" sz="2800" spc="-1" strike="noStrike" baseline="-25000">
                <a:solidFill>
                  <a:srgbClr val="99ff66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99ff66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99ff66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99ff66"/>
                </a:solidFill>
                <a:latin typeface="Times New Roman"/>
              </a:rPr>
              <a:t> (E </a:t>
            </a:r>
            <a:r>
              <a:rPr b="0" lang="en-US" sz="2800" spc="-1" strike="noStrike" baseline="30000">
                <a:solidFill>
                  <a:srgbClr val="99ff66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99ff66"/>
                </a:solidFill>
                <a:latin typeface="Times New Roman"/>
              </a:rPr>
              <a:t>cos</a:t>
            </a:r>
            <a:r>
              <a:rPr b="0" lang="en-US" sz="2800" spc="-1" strike="noStrike">
                <a:solidFill>
                  <a:srgbClr val="99ff66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99ff66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99ff66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99ff66"/>
                </a:solidFill>
                <a:latin typeface="Times New Roman"/>
              </a:rPr>
              <a:t>A = Q</a:t>
            </a:r>
            <a:r>
              <a:rPr b="0" lang="en-US" sz="2800" spc="-1" strike="noStrike" baseline="-25000">
                <a:solidFill>
                  <a:srgbClr val="99ff66"/>
                </a:solidFill>
                <a:latin typeface="Times New Roman"/>
              </a:rPr>
              <a:t>enclosed</a:t>
            </a:r>
            <a:r>
              <a:rPr b="0" lang="en-US" sz="2800" spc="-1" strike="noStrike">
                <a:solidFill>
                  <a:srgbClr val="99ff66"/>
                </a:solidFill>
                <a:latin typeface="Times New Roman"/>
              </a:rPr>
              <a:t>/ </a:t>
            </a:r>
            <a:r>
              <a:rPr b="0" lang="en-US" sz="2800" spc="-1" strike="noStrike">
                <a:solidFill>
                  <a:srgbClr val="99ff66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 baseline="-25000">
                <a:solidFill>
                  <a:srgbClr val="99ff66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uss’ Law can be used to determine the electric field (E) for many physical orientations (distributions) of char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ohann Carl Friedrich Gauss</a:t>
            </a:r>
            <a:br>
              <a:rPr sz="44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1777-1855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64771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e of the greatest mathematicians in hist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shed major works in the fields of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n-euclidian &amp; differential geomet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tistic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including least squares metho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Gauss" descr=""/>
          <p:cNvPicPr/>
          <p:nvPr/>
        </p:nvPicPr>
        <p:blipFill>
          <a:blip r:embed="rId1"/>
          <a:stretch/>
        </p:blipFill>
        <p:spPr>
          <a:xfrm>
            <a:off x="6662880" y="1371600"/>
            <a:ext cx="2315880" cy="28195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28600" y="4343400"/>
            <a:ext cx="86104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tential Theory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hence the term “potential” energy &amp; electric potential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restrial magnetism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including least squares metho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de a fortune investing in bonds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is it just me or does Gauss look strikingly similar to Ebenezer Scrooge??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lectric Charg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53316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fundamental property of protons &amp; electr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I unit of charge is the coulomb (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wo types of charge (q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sitive (+): e.g. protons (q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proto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= +1.602x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-19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C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gative (-): e.g. electrons (q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electro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= -1.602x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-19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C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toms &amp; molecules have no net char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qual # of protons &amp; electr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tons &amp; electrons have the same magnitude but opposite char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perties of charg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ike charges repel each 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nlike charges attract each 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ectric charge is quantiz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smallest unit of charge (e) is 1.602x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-19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net charge of any matter i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99ff33"/>
                </a:solidFill>
                <a:latin typeface="Times New Roman"/>
              </a:rPr>
              <a:t>net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 = 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ectric charge is conserv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re is no known process that can change the charge of someth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ulomb’s La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attractive/repulsive force between charges is calle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lectric for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99ff"/>
                </a:solidFill>
                <a:latin typeface="Times New Roman"/>
              </a:rPr>
              <a:t>(remember forces are vectors!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magnitude of the electric force between 2 charges can be determined by Coulomb’s Law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 is 8.99 x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N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/C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{Coulomb’s constant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 is the separation distance between char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&amp; q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re the magnitude of charges respective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irection of 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determined by the sign of the char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3505320" y="2743200"/>
                <a:ext cx="190476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Arial"/>
              </a:rPr>
              <a:t>Charles Augustin de Coulomb</a:t>
            </a: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(1736-1806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5410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gineer by edu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n prize for his work on the subject of fri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n prize for using calculus of variations to solve engineering probl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shed 7 important papers on electricity &amp; magnetism 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tween 1785-1791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including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Coulomb_2" descr=""/>
          <p:cNvPicPr/>
          <p:nvPr/>
        </p:nvPicPr>
        <p:blipFill>
          <a:blip r:embed="rId1"/>
          <a:stretch/>
        </p:blipFill>
        <p:spPr>
          <a:xfrm>
            <a:off x="5958000" y="1295280"/>
            <a:ext cx="2881080" cy="3505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80880" y="5029200"/>
            <a:ext cx="8763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law of attraction and repul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electric point char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gnetic po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distribution of electricity on the surface of charged bod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Electric Fiel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ability of a charge to influence other charges in its vicinity its electric fie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I units for electric field are N/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lectric field is a vector propert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fields due to multiple charges add as vec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field lines originate at + charges &amp; terminate at - char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irection of an electric field vector (at a point in space) is the direction of electric force that would be exerted by on a positive charge at that lo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4723920" y="4571640"/>
            <a:ext cx="2362680" cy="2210040"/>
            <a:chOff x="4723920" y="4571640"/>
            <a:chExt cx="2362680" cy="2210040"/>
          </a:xfrm>
        </p:grpSpPr>
        <p:grpSp>
          <p:nvGrpSpPr>
            <p:cNvPr id="62" name=""/>
            <p:cNvGrpSpPr/>
            <p:nvPr/>
          </p:nvGrpSpPr>
          <p:grpSpPr>
            <a:xfrm>
              <a:off x="4723920" y="4571640"/>
              <a:ext cx="2362680" cy="2210040"/>
              <a:chOff x="4723920" y="4571640"/>
              <a:chExt cx="2362680" cy="2210040"/>
            </a:xfrm>
          </p:grpSpPr>
          <p:sp>
            <p:nvSpPr>
              <p:cNvPr id="63" name=""/>
              <p:cNvSpPr/>
              <p:nvPr/>
            </p:nvSpPr>
            <p:spPr>
              <a:xfrm>
                <a:off x="5638680" y="5410080"/>
                <a:ext cx="533520" cy="5335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V="1">
                <a:off x="5943600" y="4571640"/>
                <a:ext cx="0" cy="7621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324480" y="5713560"/>
                <a:ext cx="762120" cy="144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H="1">
                <a:off x="5943600" y="6019920"/>
                <a:ext cx="1440" cy="76176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flipV="1">
                <a:off x="4723920" y="5712120"/>
                <a:ext cx="762120" cy="43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791320" y="5334120"/>
                <a:ext cx="609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9" name=""/>
            <p:cNvGrpSpPr/>
            <p:nvPr/>
          </p:nvGrpSpPr>
          <p:grpSpPr>
            <a:xfrm>
              <a:off x="5038560" y="4813560"/>
              <a:ext cx="1806120" cy="1725480"/>
              <a:chOff x="5038560" y="4813560"/>
              <a:chExt cx="1806120" cy="1725480"/>
            </a:xfrm>
          </p:grpSpPr>
          <p:sp>
            <p:nvSpPr>
              <p:cNvPr id="70" name=""/>
              <p:cNvSpPr/>
              <p:nvPr/>
            </p:nvSpPr>
            <p:spPr>
              <a:xfrm flipH="1" flipV="1">
                <a:off x="5087520" y="4813560"/>
                <a:ext cx="491040" cy="58284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V="1">
                <a:off x="6261840" y="4934880"/>
                <a:ext cx="582840" cy="4914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230520" y="5956200"/>
                <a:ext cx="491040" cy="58284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>
                <a:off x="5038560" y="5985720"/>
                <a:ext cx="584640" cy="48888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4" name=""/>
          <p:cNvGrpSpPr/>
          <p:nvPr/>
        </p:nvGrpSpPr>
        <p:grpSpPr>
          <a:xfrm>
            <a:off x="1447920" y="4571640"/>
            <a:ext cx="2361960" cy="2210040"/>
            <a:chOff x="1447920" y="4571640"/>
            <a:chExt cx="2361960" cy="2210040"/>
          </a:xfrm>
        </p:grpSpPr>
        <p:grpSp>
          <p:nvGrpSpPr>
            <p:cNvPr id="75" name=""/>
            <p:cNvGrpSpPr/>
            <p:nvPr/>
          </p:nvGrpSpPr>
          <p:grpSpPr>
            <a:xfrm>
              <a:off x="1447920" y="4571640"/>
              <a:ext cx="2361960" cy="2210040"/>
              <a:chOff x="1447920" y="4571640"/>
              <a:chExt cx="2361960" cy="2210040"/>
            </a:xfrm>
          </p:grpSpPr>
          <p:sp>
            <p:nvSpPr>
              <p:cNvPr id="76" name=""/>
              <p:cNvSpPr/>
              <p:nvPr/>
            </p:nvSpPr>
            <p:spPr>
              <a:xfrm>
                <a:off x="2362320" y="5410080"/>
                <a:ext cx="533160" cy="5335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2666880" y="4571640"/>
                <a:ext cx="0" cy="7621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048120" y="5713560"/>
                <a:ext cx="761760" cy="144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2666520" y="6019920"/>
                <a:ext cx="1800" cy="76176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1447920" y="5712120"/>
                <a:ext cx="761760" cy="43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438280" y="5424480"/>
                <a:ext cx="609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1761840" y="4813560"/>
              <a:ext cx="1806120" cy="1725480"/>
              <a:chOff x="1761840" y="4813560"/>
              <a:chExt cx="1806120" cy="1725480"/>
            </a:xfrm>
          </p:grpSpPr>
          <p:sp>
            <p:nvSpPr>
              <p:cNvPr id="83" name=""/>
              <p:cNvSpPr/>
              <p:nvPr/>
            </p:nvSpPr>
            <p:spPr>
              <a:xfrm flipH="1" flipV="1">
                <a:off x="1810800" y="4813560"/>
                <a:ext cx="491400" cy="58284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V="1">
                <a:off x="2985120" y="4934880"/>
                <a:ext cx="582840" cy="4914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954160" y="5956200"/>
                <a:ext cx="491400" cy="58284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>
                <a:off x="1761840" y="5985720"/>
                <a:ext cx="584640" cy="48888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Electric Field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(cont.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magnitude of electric field for a point charge (q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force (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acting on a “test” charge (q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placed in an electric field (E) 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66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99ff66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99ff66"/>
                </a:solidFill>
                <a:latin typeface="Times New Roman"/>
              </a:rPr>
              <a:t> = q</a:t>
            </a:r>
            <a:r>
              <a:rPr b="0" lang="en-US" sz="3200" spc="-1" strike="noStrike" baseline="-25000">
                <a:solidFill>
                  <a:srgbClr val="99ff66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99ff66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e the similarity of the electric force law to Newton’s 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Law (F=m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mal definition of electric fiel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electric force per unit charge that acts on a test charge at a point in space 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66"/>
                </a:solidFill>
                <a:latin typeface="Times New Roman"/>
              </a:rPr>
              <a:t>E = F</a:t>
            </a:r>
            <a:r>
              <a:rPr b="0" lang="en-US" sz="3200" spc="-1" strike="noStrike" baseline="-25000">
                <a:solidFill>
                  <a:srgbClr val="99ff66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99ff66"/>
                </a:solidFill>
                <a:latin typeface="Times New Roman"/>
              </a:rPr>
              <a:t>/q</a:t>
            </a:r>
            <a:r>
              <a:rPr b="0" lang="en-US" sz="3200" spc="-1" strike="noStrike" baseline="-25000">
                <a:solidFill>
                  <a:srgbClr val="99ff66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3730680" y="1589040"/>
                <a:ext cx="145260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k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allel Plate Capacito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6091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parallel plate capacitor consists of 2 conducting plates separated by a small space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which may be filled with air or some other dielectric material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-250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cess charge (-q) on one inner face repels equal charge away from the opposite face leaving (+q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42160" indent="-208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arge on each face is uniformly spread out on the surf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-250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ectric field is constant between the pla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42160" indent="-208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lectric field lines point from +q to -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-250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electric field (magnitude) inside a parallel plate capacitor 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66"/>
                </a:solidFill>
                <a:latin typeface="Times New Roman"/>
              </a:rPr>
              <a:t>E = q/</a:t>
            </a:r>
            <a:r>
              <a:rPr b="0" lang="en-US" sz="3200" spc="-1" strike="noStrike">
                <a:solidFill>
                  <a:srgbClr val="99ff66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 baseline="-25000">
                <a:solidFill>
                  <a:srgbClr val="99ff66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99ff66"/>
                </a:solidFill>
                <a:latin typeface="Times New Roman"/>
              </a:rPr>
              <a:t>A = </a:t>
            </a:r>
            <a:r>
              <a:rPr b="0" lang="en-US" sz="3200" spc="-1" strike="noStrike">
                <a:solidFill>
                  <a:srgbClr val="99ff66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99ff66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99ff66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 baseline="-25000">
                <a:solidFill>
                  <a:srgbClr val="99ff66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99ff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(for air filled capacito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s 8.85 x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-1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/(N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,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he permittivity constant (free space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s the surface charge density (q/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1676520"/>
            <a:ext cx="27432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ff"/>
                </a:solidFill>
                <a:latin typeface="Times New Roman"/>
              </a:rPr>
              <a:t>A is surface are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ff"/>
                </a:solidFill>
                <a:latin typeface="Times New Roman"/>
              </a:rPr>
              <a:t>q is charge on each f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ff"/>
                </a:solidFill>
                <a:latin typeface="Times New Roman"/>
              </a:rPr>
              <a:t>E is electric fiel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971800" y="1392120"/>
            <a:ext cx="2971800" cy="1963080"/>
            <a:chOff x="2971800" y="1392120"/>
            <a:chExt cx="2971800" cy="1963080"/>
          </a:xfrm>
        </p:grpSpPr>
        <p:grpSp>
          <p:nvGrpSpPr>
            <p:cNvPr id="94" name=""/>
            <p:cNvGrpSpPr/>
            <p:nvPr/>
          </p:nvGrpSpPr>
          <p:grpSpPr>
            <a:xfrm>
              <a:off x="3429000" y="1392120"/>
              <a:ext cx="1981080" cy="1620000"/>
              <a:chOff x="3429000" y="1392120"/>
              <a:chExt cx="1981080" cy="1620000"/>
            </a:xfrm>
          </p:grpSpPr>
          <p:sp>
            <p:nvSpPr>
              <p:cNvPr id="95" name=""/>
              <p:cNvSpPr/>
              <p:nvPr/>
            </p:nvSpPr>
            <p:spPr>
              <a:xfrm>
                <a:off x="3429000" y="1392120"/>
                <a:ext cx="188640" cy="1495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221800" y="1392120"/>
                <a:ext cx="188280" cy="1495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617640" y="1392120"/>
                <a:ext cx="491040" cy="162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+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+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+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+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919040" y="1392120"/>
                <a:ext cx="491040" cy="162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994920" y="1655640"/>
                <a:ext cx="94356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994920" y="2095560"/>
                <a:ext cx="94356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994920" y="2535120"/>
                <a:ext cx="94356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089600" y="2535120"/>
                <a:ext cx="660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>
              <a:off x="2971800" y="20779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562720" y="2077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505320" y="28954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+q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876920" y="28954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-q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ductors &amp; Insulato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280" y="60948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ductors are materials that allow electric charge to flow (or move through i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57280" indent="-214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cess charge will repel itself pushing all excess charge to the surface of the condu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57280" indent="-214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der equilibrium conditions, all excess charge resides along the surface of the condu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57280" indent="-214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electric charge flows along a conductor (i.e. electricity) it flows along the surfac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think about the implications!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57280" indent="-214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ectric field inside a conductor is ze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sulators are materials that do not allow electric charge to fl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57280" indent="-214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cess charge will remain fixed (or stati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57280" indent="-214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cess charge can be inside an insulator or along its surface and does not have to be uniformly distribu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57280" indent="-214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ectric charge inside insulator depends on orientation and quantity of excess char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lectric Shiel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stated previously, the electric field inside a conducting material is zero 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insid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0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a conductor completely surrounds an empty space, the electric field inside the empty space is also zer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onductor “shields” any charge inside region from electric fields produced outside the conduc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30T14:35:37Z</dcterms:created>
  <dc:creator>Tony Zable</dc:creator>
  <dc:description/>
  <dc:language>en-US</dc:language>
  <cp:lastModifiedBy>PCC</cp:lastModifiedBy>
  <dcterms:modified xsi:type="dcterms:W3CDTF">2003-03-31T23:57:47Z</dcterms:modified>
  <cp:revision>42</cp:revision>
  <dc:subject/>
  <dc:title>Phy 203: General Physics III</dc:title>
</cp:coreProperties>
</file>