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16A9-3DED-4C5A-ADBB-7B6F62B02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electric flux as a way of counting E field lines (or arrows) that pass through an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1) point charge 2) line of charge 3) parallel plate capac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with H atom (1 p &amp; 1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3 or mor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F4A-A6A6-41DE-B6D0-07915FE2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1536-BE37-4472-9E2F-4B0B7DD6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9152-194D-4369-BE82-44C72407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4381-DD3E-419A-88CE-CEBA28C6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2BB2-CAF7-47C8-B2C6-0968A98A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739-A4B5-4126-9516-BCBB8213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3CE-4BF7-4648-9FCC-473E9304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47C2-28FE-4E65-8E2B-0D38BD7F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3DA-D68B-4AF5-91F5-4537AD1F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64FB-4D86-4F65-93BE-932CF63C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C7AC-74C4-4B61-BA18-93BAC8DD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7505-C17B-48F6-8A18-D898D7EC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E1ED-4E09-4E2E-AA40-CDD4B0CC92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203: General Physics I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 18: Electric Forces &amp; Electric Fie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uss’ La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uss’ Law is a fundamental law of nature relating electric charge to electric flu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a electric field passing through a region in space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lectric flu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the product of electric field  normal to the area (E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and surface area (A) 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 baseline="-25000">
                <a:solidFill>
                  <a:srgbClr val="99ff66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= (E </a:t>
            </a:r>
            <a:r>
              <a:rPr b="0" lang="en-US" sz="2800" spc="-1" strike="noStrike" baseline="30000">
                <a:solidFill>
                  <a:srgbClr val="99ff66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cos</a:t>
            </a:r>
            <a:r>
              <a:rPr b="0" lang="en-US" sz="2800" spc="-1" strike="noStrike">
                <a:solidFill>
                  <a:srgbClr val="99ff66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99ff66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A {electric flux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auss’ Law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otal electric flux through any closed (“Gaussian”) surface is equal to the enclosed charge (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nclo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divided by the permittivity of free space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 baseline="-25000">
                <a:solidFill>
                  <a:srgbClr val="99ff66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99ff66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 (E </a:t>
            </a:r>
            <a:r>
              <a:rPr b="0" lang="en-US" sz="2800" spc="-1" strike="noStrike" baseline="30000">
                <a:solidFill>
                  <a:srgbClr val="99ff66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cos</a:t>
            </a:r>
            <a:r>
              <a:rPr b="0" lang="en-US" sz="2800" spc="-1" strike="noStrike">
                <a:solidFill>
                  <a:srgbClr val="99ff66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99ff66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A = Q</a:t>
            </a:r>
            <a:r>
              <a:rPr b="0" lang="en-US" sz="2800" spc="-1" strike="noStrike" baseline="-25000">
                <a:solidFill>
                  <a:srgbClr val="99ff66"/>
                </a:solidFill>
                <a:latin typeface="Times New Roman"/>
              </a:rPr>
              <a:t>enclosed</a:t>
            </a:r>
            <a:r>
              <a:rPr b="0" lang="en-US" sz="2800" spc="-1" strike="noStrike">
                <a:solidFill>
                  <a:srgbClr val="99ff66"/>
                </a:solidFill>
                <a:latin typeface="Times New Roman"/>
              </a:rPr>
              <a:t>/ </a:t>
            </a:r>
            <a:r>
              <a:rPr b="0" lang="en-US" sz="2800" spc="-1" strike="noStrike">
                <a:solidFill>
                  <a:srgbClr val="99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99ff66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uss’ Law can be used to determine the electric field (E) for many physical orientations (distributions) of ch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hann Carl Friedrich Gaus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1777-1855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6477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the greatest mathematicians in hi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shed major works in the fields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euclidian &amp; differential geome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stic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ncluding least squares metho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Gauss" descr=""/>
          <p:cNvPicPr/>
          <p:nvPr/>
        </p:nvPicPr>
        <p:blipFill>
          <a:blip r:embed="rId1"/>
          <a:stretch/>
        </p:blipFill>
        <p:spPr>
          <a:xfrm>
            <a:off x="6662880" y="1371600"/>
            <a:ext cx="2315880" cy="2819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8600" y="4343400"/>
            <a:ext cx="8610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ential Theor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hence the term “potential” energy &amp; electric potenti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restrial magnetism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ncluding least squares metho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a fortune investing in bond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is it just me or does Gauss look strikingly similar to Ebenezer Scrooge?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ectric Char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undamental property of protons &amp; electr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I unit of charge is the coulomb (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types of charge (q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sitive (+): e.g. protons (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prot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+1.602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-1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gative (-): e.g. electrons (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electr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-1.602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-1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oms &amp; molecules have no net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qual # of protons &amp; electr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tons &amp; electrons have the same magnitude but opposite char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erties of charg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ke charges repel each 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like charges attract each 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 charge is quant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mallest unit of charge (e) is 1.602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-1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net charge of any matter i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Times New Roman"/>
              </a:rPr>
              <a:t>net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 = 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 charge is conser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re is no known process that can change the charge of some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lomb’s La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ttractive/repulsive force between charges is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lectric for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(remember forces are vectors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gnitude of the electric force between 2 charges can be determined by Coulomb’s Law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 is 8.99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C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{Coulomb’s constant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 is the separation distance between char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&amp; 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e the magnitude of charges respectiv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rection of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determined by the sign of the char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505320" y="2743200"/>
                <a:ext cx="19047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Charles Augustin de Coulomb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1736-1806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5410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 by edu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n prize for his work on the subject of fri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n prize for using calculus of variations to solve engineering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shed 7 important papers on electricity &amp; magnetism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ween 1785-1791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includ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Coulomb_2" descr=""/>
          <p:cNvPicPr/>
          <p:nvPr/>
        </p:nvPicPr>
        <p:blipFill>
          <a:blip r:embed="rId1"/>
          <a:stretch/>
        </p:blipFill>
        <p:spPr>
          <a:xfrm>
            <a:off x="5958000" y="1295280"/>
            <a:ext cx="2881080" cy="3505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5029200"/>
            <a:ext cx="8763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aw of attraction and repul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lectric point char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etic p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stribution of electricity on the surface of charged bo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Electric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bility of a charge to influence other charges in its vicinity its electric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 units for electric field are N/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lectric field is a vector proper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ields due to multiple charges add as ve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ield lines originate at + charges &amp; terminate at - char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rection of an electric field vector (at a point in space) is the direction of electric force that would be exerted by on a positive charge at that lo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723920" y="4571640"/>
            <a:ext cx="2362680" cy="2210040"/>
            <a:chOff x="4723920" y="4571640"/>
            <a:chExt cx="2362680" cy="2210040"/>
          </a:xfrm>
        </p:grpSpPr>
        <p:grpSp>
          <p:nvGrpSpPr>
            <p:cNvPr id="62" name=""/>
            <p:cNvGrpSpPr/>
            <p:nvPr/>
          </p:nvGrpSpPr>
          <p:grpSpPr>
            <a:xfrm>
              <a:off x="4723920" y="4571640"/>
              <a:ext cx="2362680" cy="2210040"/>
              <a:chOff x="4723920" y="4571640"/>
              <a:chExt cx="2362680" cy="2210040"/>
            </a:xfrm>
          </p:grpSpPr>
          <p:sp>
            <p:nvSpPr>
              <p:cNvPr id="63" name=""/>
              <p:cNvSpPr/>
              <p:nvPr/>
            </p:nvSpPr>
            <p:spPr>
              <a:xfrm>
                <a:off x="5638680" y="5410080"/>
                <a:ext cx="533520" cy="533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5943600" y="4571640"/>
                <a:ext cx="0" cy="762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324480" y="5713560"/>
                <a:ext cx="762120" cy="14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>
                <a:off x="5943600" y="6019920"/>
                <a:ext cx="1440" cy="7617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>
                <a:off x="4723920" y="5712120"/>
                <a:ext cx="762120" cy="4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791320" y="533412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5038560" y="4813560"/>
              <a:ext cx="1806120" cy="1725480"/>
              <a:chOff x="5038560" y="4813560"/>
              <a:chExt cx="1806120" cy="1725480"/>
            </a:xfrm>
          </p:grpSpPr>
          <p:sp>
            <p:nvSpPr>
              <p:cNvPr id="70" name=""/>
              <p:cNvSpPr/>
              <p:nvPr/>
            </p:nvSpPr>
            <p:spPr>
              <a:xfrm flipH="1" flipV="1">
                <a:off x="5087520" y="4813560"/>
                <a:ext cx="491040" cy="5828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6261840" y="4934880"/>
                <a:ext cx="582840" cy="4914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230520" y="5956200"/>
                <a:ext cx="491040" cy="5828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5038560" y="5985720"/>
                <a:ext cx="584640" cy="4888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1447920" y="4571640"/>
            <a:ext cx="2361960" cy="2210040"/>
            <a:chOff x="1447920" y="4571640"/>
            <a:chExt cx="2361960" cy="2210040"/>
          </a:xfrm>
        </p:grpSpPr>
        <p:grpSp>
          <p:nvGrpSpPr>
            <p:cNvPr id="75" name=""/>
            <p:cNvGrpSpPr/>
            <p:nvPr/>
          </p:nvGrpSpPr>
          <p:grpSpPr>
            <a:xfrm>
              <a:off x="1447920" y="4571640"/>
              <a:ext cx="2361960" cy="2210040"/>
              <a:chOff x="1447920" y="4571640"/>
              <a:chExt cx="2361960" cy="2210040"/>
            </a:xfrm>
          </p:grpSpPr>
          <p:sp>
            <p:nvSpPr>
              <p:cNvPr id="76" name=""/>
              <p:cNvSpPr/>
              <p:nvPr/>
            </p:nvSpPr>
            <p:spPr>
              <a:xfrm>
                <a:off x="2362320" y="5410080"/>
                <a:ext cx="533160" cy="533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666880" y="4571640"/>
                <a:ext cx="0" cy="762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048120" y="5713560"/>
                <a:ext cx="761760" cy="14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2666520" y="6019920"/>
                <a:ext cx="1800" cy="7617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1447920" y="5712120"/>
                <a:ext cx="761760" cy="4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38280" y="542448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761840" y="4813560"/>
              <a:ext cx="1806120" cy="1725480"/>
              <a:chOff x="1761840" y="4813560"/>
              <a:chExt cx="1806120" cy="1725480"/>
            </a:xfrm>
          </p:grpSpPr>
          <p:sp>
            <p:nvSpPr>
              <p:cNvPr id="83" name=""/>
              <p:cNvSpPr/>
              <p:nvPr/>
            </p:nvSpPr>
            <p:spPr>
              <a:xfrm flipH="1" flipV="1">
                <a:off x="1810800" y="4813560"/>
                <a:ext cx="491400" cy="5828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2985120" y="4934880"/>
                <a:ext cx="582840" cy="4914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954160" y="5956200"/>
                <a:ext cx="491400" cy="5828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1761840" y="5985720"/>
                <a:ext cx="584640" cy="4888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Electric Fiel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agnitude of electric field for a point charge (q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orce (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acting on a “test” charge (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placed in an electric field (E)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 = q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e the similarity of the electric force law to Newton’s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aw (F=m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 definition of electric fie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lectric force per unit charge that acts on a test charge at a point in space 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E = F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/q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730680" y="1589040"/>
                <a:ext cx="14526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llel Plate Capaci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arallel plate capacitor consists of 2 conducting plates separated by a small spac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which may be filled with air or some other dielectric materi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charge (-q) on one inner face repels equal charge away from the opposite face leaving (+q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ge on each face is uniformly spread out on the su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 field is constant between the pl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2160" indent="-20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ric field lines point from +q to -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lectric field (magnitude) inside a parallel plate capacitor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E = q/</a:t>
            </a:r>
            <a:r>
              <a:rPr b="0" lang="en-US" sz="3200" spc="-1" strike="noStrike">
                <a:solidFill>
                  <a:srgbClr val="99ff66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99ff66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99ff66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 baseline="-25000">
                <a:solidFill>
                  <a:srgbClr val="99ff66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ff66"/>
                </a:solidFill>
                <a:latin typeface="Times New Roman"/>
              </a:rPr>
              <a:t>(for air filled capaci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8.85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(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permittivity constant (free space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the surface charge density (q/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1676520"/>
            <a:ext cx="27432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A is surface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q is charge on each 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E is electric 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971800" y="1392120"/>
            <a:ext cx="2971800" cy="1963080"/>
            <a:chOff x="2971800" y="1392120"/>
            <a:chExt cx="2971800" cy="1963080"/>
          </a:xfrm>
        </p:grpSpPr>
        <p:grpSp>
          <p:nvGrpSpPr>
            <p:cNvPr id="94" name=""/>
            <p:cNvGrpSpPr/>
            <p:nvPr/>
          </p:nvGrpSpPr>
          <p:grpSpPr>
            <a:xfrm>
              <a:off x="3429000" y="1392120"/>
              <a:ext cx="1981080" cy="1620000"/>
              <a:chOff x="3429000" y="1392120"/>
              <a:chExt cx="1981080" cy="1620000"/>
            </a:xfrm>
          </p:grpSpPr>
          <p:sp>
            <p:nvSpPr>
              <p:cNvPr id="95" name=""/>
              <p:cNvSpPr/>
              <p:nvPr/>
            </p:nvSpPr>
            <p:spPr>
              <a:xfrm>
                <a:off x="3429000" y="1392120"/>
                <a:ext cx="188640" cy="1495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221800" y="1392120"/>
                <a:ext cx="188280" cy="1495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617640" y="1392120"/>
                <a:ext cx="491040" cy="162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19040" y="1392120"/>
                <a:ext cx="491040" cy="162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994920" y="1655640"/>
                <a:ext cx="943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994920" y="2095560"/>
                <a:ext cx="943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994920" y="2535120"/>
                <a:ext cx="943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089600" y="2535120"/>
                <a:ext cx="660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971800" y="2077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62720" y="207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05320" y="2895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76920" y="2895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ductors &amp; Insula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uctors are materials that allow electric charge to flow (or move through i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charge will repel itself pushing all excess charge to the surface of the con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der equilibrium conditions, all excess charge resides along the surface of the con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electric charge flows along a conductor (i.e. electricity) it flows along the surfac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think about the implications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 field inside a conductor is z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ulators are materials that do not allow electric charge to 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charge will remain fixed (or stati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charge can be inside an insulator or along its surface and does not have to be uniformly distribu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 charge inside insulator depends on orientation and quantity of excess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ectric Shiel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stated previously, the electric field inside a conducting material is zero 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insid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a conductor completely surrounds an empty space, the electric field inside the empty space is also z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ductor “shields” any charge inside region from electric fields produced outside the condu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4:35:37Z</dcterms:created>
  <dc:creator>Tony Zable</dc:creator>
  <dc:description/>
  <dc:language>en-US</dc:language>
  <cp:lastModifiedBy>PCC</cp:lastModifiedBy>
  <dcterms:modified xsi:type="dcterms:W3CDTF">2003-03-31T23:57:47Z</dcterms:modified>
  <cp:revision>42</cp:revision>
  <dc:subject/>
  <dc:title>Phy 203: General Physics III</dc:title>
</cp:coreProperties>
</file>