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FF9-0612-4155-A46D-8BC6A575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5A7-49A1-40EC-975E-18725CA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9D8-B38C-4C0A-AF97-7D1504B4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E85-816E-4E50-8B8C-9AF599AA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190-B402-4858-9CF8-C90746BB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36F-20A2-443E-96C6-ABD6228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212-F3FF-47C1-8C94-A792AC72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C00-97AE-434F-BEBE-66CE5AA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999-1102-4702-AA59-FAF0085A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93F-4B50-4DE5-A959-3DC42A8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783-21DD-4BD9-8721-449123BD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41B-AC65-4DFE-9D52-2B2D333E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FFEE-652A-4CA7-A5C6-EFFE5C409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6: Waves &amp; S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av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 are traveling disturbances or vib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ves carry energy from place to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 types of wa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ver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ample: light, electromagnetic wa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ance is perpendicular to direction of wave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xample: sound wav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urbance is parallel to direction of wave propag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perties of Periodic Wa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waves share 3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pagation speed of the wave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w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acial length of a wave from crest to crest is called its wavelength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e (or frequency) of vibration describes how fast a wave oscillates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agation of a wave is related to its wavelength &amp; its frequenc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wave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wave depends on the properties of the material (medium) where the wave trav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ve on a st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9720" y="5410080"/>
            <a:ext cx="47242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= tension in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 = mass of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= length of the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495680" y="5562720"/>
                <a:ext cx="144792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w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by vibrations in a me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urbance is the local change in pressure generated by the vibrating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travels because of the molecular intera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gion of increased pressure( compared to the undisturbed pressure)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gion of  lower pressure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ref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ximum increase in pressure is th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mplitude of the pressure wave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easur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quency of the s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0Hz to-20000Hz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waves below 20 Hz are called infrasonic wa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sure waves over 20,000Hz are called ultrasonic wa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Speed of S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ed of sou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pends on the compressive properties of the med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of the high frequencies, the compression/expansions are fast and no heat is exchanged (adiabati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 can travel in gases, liquids and soli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g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liqui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peed of sound in soli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00800" y="2978280"/>
                <a:ext cx="1523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400800" y="4343400"/>
                <a:ext cx="15238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dia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00800" y="5638680"/>
                <a:ext cx="15238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nd Intens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aves transport energy without transporting mas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mount of energy transported per second is called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the wave (W) (power of the sou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the wave is determined by the source. The power is distributed (spreads) in all directions. Far away from the source, the power is spread over a greater 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nsity is a measure of power transmitted by a wave per unit ar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I = P/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uman does not sense sound intensity linearly but rather logarithm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cibel scale has been developed to “linearize” the human ear response to sound 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 (10 dB)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log (I/I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minimum intensity of sound the “average” human ear can det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of the source producing the wave equals  the number of cycles per seco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requency measured by an observer is the number of crests (condensations) encountered per secon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both the source and the observer are at rest, the 2 frequencies are equa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one or both are in motion, the 2 frequencies are differ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fference between source and observed frequency is calle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ppler 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Shif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ing source, observer at re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velength is chang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cause of the relative motion of source and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Source moving toward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Source moving away from the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2784600"/>
                <a:ext cx="304812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486400" y="2438280"/>
            <a:ext cx="3429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peed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= speed of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requency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85800" y="4952880"/>
                <a:ext cx="30481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ppler Shif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ing observer, source at res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ime between encountering 2 crests changes for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Observer moving toward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Observer moving away from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38080" y="5240160"/>
                <a:ext cx="32767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38080" y="3048120"/>
                <a:ext cx="327672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erve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486400" y="2743200"/>
            <a:ext cx="342900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speed of 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 = speed of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frequency of 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6:10:54Z</dcterms:created>
  <dc:creator>Tony Zable</dc:creator>
  <dc:description/>
  <dc:language>en-US</dc:language>
  <cp:lastModifiedBy>PCC</cp:lastModifiedBy>
  <dcterms:modified xsi:type="dcterms:W3CDTF">2003-03-10T20:46:35Z</dcterms:modified>
  <cp:revision>21</cp:revision>
  <dc:subject/>
  <dc:title>Phy 202: General Physics II</dc:title>
</cp:coreProperties>
</file>