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80D-4988-433E-8B53-DC3EB743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2B7-E5CF-4213-86EF-D8C835B2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D04-5257-4E94-9674-F196C47F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6A5-3E11-4683-93F8-35BD4119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E9C-67A8-48F0-8C86-9DB83BF9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D14-B29B-4A9B-B6C9-6471FC18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B2F-57D5-4C67-81C3-512F743D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901-0285-4F7E-A8CC-768292EC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AA4-C9E3-422A-B454-FB575008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436-8651-4E17-906C-A56EC3E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184-D27E-497B-95D5-4EFC9B74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FFC-9AD0-4A53-ABF7-F125F5C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0348-A815-4681-894A-D1CA9C54F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6: Waves &amp; 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av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 are traveling disturbances or vib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 carry energy from place to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 types of wa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ver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xample: light, electromagnetic wa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ance is perpendicular to direction of wave propa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itudi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xample: sound wa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ance is parallel to direction of wave propa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erties of Periodic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waves share 3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pagation speed of the wave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acial length of a wave from crest to crest is called its wavelength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te (or frequency) of vibration describes how fast a wave oscillates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agation of a wave is related to its wavelength &amp; its frequenc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wave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ed of wave depends on the properties of the material (medium) where the wave trav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ve on a str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5410080"/>
            <a:ext cx="47242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tension in the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 = mass of the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= length of the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95680" y="5562720"/>
                <a:ext cx="1447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itudinal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by vibrations in a me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urbance is the local change in pressure generated by the vibrating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travels because of the molecular intera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gion of increased pressure( compared to the undisturbed pressure) is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gion of  lower pressure is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ref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ximum increase in pressure is t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mplitude of the pressure wave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easur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quency of the s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0Hz to-20000Hz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waves below 20 Hz are called infrasonic w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waves over 20,000Hz are called ultrasonic wa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peed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ed of sou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pends on the compressive properties of the med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of the high frequencies, the compression/expansions are fast and no heat is exchanged (adiabati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 can travel in gases, liquids and soli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ed of sound in g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ed of sound in liqui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ed of sound in soli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00800" y="2978280"/>
                <a:ext cx="1523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400800" y="4343400"/>
                <a:ext cx="15238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dia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00800" y="5638680"/>
                <a:ext cx="1523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 Intens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ves transport energy without transporting mas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amount of energy transported per second is called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wave (W) (power of the sou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the wave is determined by the source. The power is distributed (spreads) in all directions. Far away from the source, the power is spread over a greater 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 is a measure of power transmitted by a wave per unit are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I = P/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uman does not sense sound intensity linearly but rather logarithm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cibel scale has been developed to “linearize” the human ear response to sound 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 (10 dB) 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log (I/I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minimum intensity of sound the “average” human ear can det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of the source producing the wave equals  the number of cycles per seco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measured by an observer is the number of crests (condensations) encountered per seco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both the source and the observer are at rest, the 2 frequencies are equ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one or both are in motion, the 2 frequencies are diffe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ce between source and observed frequency is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ppler 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Shif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ing source, observer at re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length is chang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cause of the relative motion of source and ob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Source moving toward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Source moving away from the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2784600"/>
                <a:ext cx="304812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486400" y="2438280"/>
            <a:ext cx="342900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speed of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 = speed of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frequency of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5800" y="4952880"/>
                <a:ext cx="30481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Shif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ing observer, source at re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ime between encountering 2 crests changes for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Observer moving toward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Observer moving away from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38080" y="5240160"/>
                <a:ext cx="3276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38080" y="3048120"/>
                <a:ext cx="3276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486400" y="2743200"/>
            <a:ext cx="342900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speed of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 = speed of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frequency of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6:10:54Z</dcterms:created>
  <dc:creator>Tony Zable</dc:creator>
  <dc:description/>
  <dc:language>en-US</dc:language>
  <cp:lastModifiedBy>PCC</cp:lastModifiedBy>
  <dcterms:modified xsi:type="dcterms:W3CDTF">2003-03-10T20:46:35Z</dcterms:modified>
  <cp:revision>21</cp:revision>
  <dc:subject/>
  <dc:title>Phy 202: General Physics II</dc:title>
</cp:coreProperties>
</file>