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4EE6-75BF-49B1-9130-1F080C320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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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“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5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opy is a state function (like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ntropy occur independent of path taken by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8A6-B9EA-4994-8464-36B03153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15C-0555-4C47-B5FC-D1D211C3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CA6-35C4-469E-B676-B171F8C9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B11-956B-42D5-8944-BE8189B6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7D65-22E7-42C9-9AA5-CA5ED5EA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50AC-A4C4-43F9-99C5-06F4C90D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402-379D-428E-891C-26400B4C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F917-A432-47CC-8F3D-04C30DA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FD6-AC63-4015-9107-E3CEB4FC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B15-77E3-4829-A763-DDB45DD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D53-B0EA-452B-A473-484A3FDF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0FD-0D2F-4122-A460-906669B9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552-CE02-4D96-B99E-81B8EDF95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5: Thermodynam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-V relation for Adiabat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gas undergoes an adiabatic expansion/contraction the relationship between pressure and volum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i</a:t>
            </a:r>
            <a:r>
              <a:rPr b="0" lang="en-US" sz="3200" spc="-1" strike="noStrike" baseline="30000">
                <a:solidFill>
                  <a:srgbClr val="99ff33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P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 baseline="30000">
                <a:solidFill>
                  <a:srgbClr val="99ff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 ratio the molar heat capacities at constant P and V, respectiv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notomic g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5/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monotomic gases,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7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ecific Heat Capacity &amp; 1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Law of Thermodynamics (for diatomic gase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eat (Q) absorbed by a gas can be expressed 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 = Cn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C is the molar heat capacity (J/mo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gases it is necessary to distinguish between molar heat capacity at constant pressur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constant volume (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’s begin with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 of Thermodynam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+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constant pressure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 = (3/2)nRT &amp; W = P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 = n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Q =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+ 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= (5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 (5/2)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constant volume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 = (3/2)nRT &amp; W = 0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Q =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+ 0 =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C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= (3/2)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Eng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cess that utilizes heat energy input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to enable a working substance perform work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energy input equals the work performed plus the heat energy discar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Q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</a:rPr>
              <a:t>in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= Q</a:t>
            </a:r>
            <a:r>
              <a:rPr b="0" lang="en-US" sz="3600" spc="-1" strike="noStrike" baseline="-25000">
                <a:solidFill>
                  <a:srgbClr val="66ff33"/>
                </a:solidFill>
                <a:latin typeface="Times New Roman"/>
              </a:rPr>
              <a:t>out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+ 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828800" y="2057400"/>
            <a:ext cx="4724280" cy="2362320"/>
            <a:chOff x="1828800" y="2057400"/>
            <a:chExt cx="4724280" cy="2362320"/>
          </a:xfrm>
        </p:grpSpPr>
        <p:sp>
          <p:nvSpPr>
            <p:cNvPr id="79" name=""/>
            <p:cNvSpPr/>
            <p:nvPr/>
          </p:nvSpPr>
          <p:spPr>
            <a:xfrm>
              <a:off x="3276720" y="2057400"/>
              <a:ext cx="2057400" cy="1371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20574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5680" y="36576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520" y="2362320"/>
              <a:ext cx="685800" cy="685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2438280"/>
              <a:ext cx="1371600" cy="533520"/>
            </a:xfrm>
            <a:prstGeom prst="rightArrow">
              <a:avLst>
                <a:gd name="adj1" fmla="val 50000"/>
                <a:gd name="adj2" fmla="val 64271"/>
              </a:avLst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21337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251460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771360" y="377172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2514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eat 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Heat 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not Cycle (Eng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“ideal” reversible heat engine (no heat engine can be more efficient than a Carnot eng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4 stage engine that operates between 2 temperature reservoirs (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consisting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isothermic ph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adabatic ph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iciency of a Heat 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asure of the effectiveness of a heat engine is its thermodynamic efficienc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fficiency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W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erforme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(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 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% Efficiency = %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(W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erforme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the Carnot (“ideal”)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% Efficiency = %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Carn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(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– 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h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efficiency can be written 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%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Carn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[(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h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-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col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hot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]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tr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asure of the disorder (or randomness) of a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a reversible the change in entropy is measured as the ratio of heat gained to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 = (Q/T)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final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heat energy is gained by a system, entropy is gained by the syste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nd lost by the surrounding environ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heat is lost by a system, entropy is lost by the syste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and gained by the surrounding environ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t entropy change by the universe due to a thermodynamic proc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universe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gained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 - 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lost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/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- Q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hot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/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tal entropy of the universe (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univer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will never decrease, it will eith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ain unchanged (for a reversible proc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rease (for an irreversible proce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in entropy is related to the amount of energy that is lost irretrievably by a thermodynamic proce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unavailable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cold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unive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di Carnot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96-183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nch engin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d only 1 work during his life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cribed the details of the “Carnot” engine (an “ideal” heat eng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cinated with steam eng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nted the advancements made in rival Eng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ulk of his work focused on understanding heat and steam engine design/effici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 based on the “caloric” the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53341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ed cholera and died the next day, at the age of 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arnot_Sadi" descr=""/>
          <p:cNvPicPr/>
          <p:nvPr/>
        </p:nvPicPr>
        <p:blipFill>
          <a:blip r:embed="rId1"/>
          <a:stretch/>
        </p:blipFill>
        <p:spPr>
          <a:xfrm>
            <a:off x="5408640" y="1066680"/>
            <a:ext cx="3328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ws of Thermodynam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2 objects are in thermodynamic equilibrium independently with a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bject, they are in fact in thermodynamic equilibrium with each other or in other word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can use a thermometer to measure the temperature of some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ervation of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Q -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rmodynamic limit of heat engine effici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840" indent="-410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t only flows spontaneously from high T to cold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840" indent="-410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heat engine can never be more efficient that a “Carnot” engine operating between the same hot &amp; cold temperature 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840" indent="-410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total entropy of the universe never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Law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possible to lower the temperature of a system to absolute in a finite number of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ssible to reach the temperature of absolute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sure-Volume Graph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19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ful visual display of a gas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e the work performed during a thermodynamic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a under the PV curve is the work perform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graphs on the right are PV curves performed at constant temperature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71880" y="1409760"/>
          <a:ext cx="591984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09760"/>
                    <a:ext cx="59198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02920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000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0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rmodynamic Processes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for gase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sothermi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ant temperat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 mean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0 (U is constant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sochoric (or isovolumetric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ant vol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0 means W = 0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o work performed on/by syste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sobari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ant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0 means W = P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diabati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 gain/loss of heat energy (Q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 = 0 mean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therm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389160" indent="-38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the temperature (T) of the working substance remain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-38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2 possible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440" indent="-333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ork is performed on the working substance, it releases the energy as heat (Q)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Q is release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440" indent="-333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heat energy (Q) absorbed is converted to work by the working substance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Q is absorbed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7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-389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0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0 s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Q – W 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Q = (nRT)ln(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9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work performed by working substanc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chor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the volume (V) of the working substance remain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work is performed during this process 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0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{area under PV curve is zero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outco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energy (U) increases as heat energy (Q) is  absorbed by the working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energy (U) decreases as heat (Q) is released by the working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= 0 then W = 0,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U = 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obar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the pressure (P) of the working substance remain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0, then the area under the PV curve (the work performed) is equal to P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P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{work performed by working substance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nal energy change of the system is equal to the difference between heat energy absorbed &amp; work performed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Q – W = Q - P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nal energy chang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) is also related to the change in temperatur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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(3/2)nR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 {monatomic gas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U = (5/2)nR</a:t>
            </a:r>
            <a:r>
              <a:rPr b="0" lang="en-US" sz="2800" spc="-1" strike="noStrike" baseline="30000">
                <a:solidFill>
                  <a:srgbClr val="ff00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T {diatomic gas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iabatic Proces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ss where no heat energy (Q) is allowed to enter or leave the system, Q = 0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= Q – W = -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outco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 performed on the working substance increases its internal energy by exactly the same am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erformed by the working substance decreases its internal energy by exactly the same am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-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depends o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monatomic g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- (3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82640" indent="-421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diatomic g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- (5/2)nR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7:36:23Z</dcterms:created>
  <dc:creator>PCC</dc:creator>
  <dc:description/>
  <dc:language>en-US</dc:language>
  <cp:lastModifiedBy>PCC</cp:lastModifiedBy>
  <dcterms:modified xsi:type="dcterms:W3CDTF">2003-02-24T18:14:32Z</dcterms:modified>
  <cp:revision>33</cp:revision>
  <dc:subject/>
  <dc:title>Phy 202: General Physics II</dc:title>
</cp:coreProperties>
</file>