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235-25D8-4A3A-8997-AE41B817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878-09C1-4F83-A12C-FFABD4B4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97A-D1B4-49F1-A27A-F65637D1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1BF-A467-421C-80AE-4619195A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2D7-DEE7-4C29-A980-37615FB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2F9-9BEE-4C74-94ED-12C05FB6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14D-BF42-4BCD-94A7-F1E880E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B1D8-E07A-476C-988D-4B1F0E54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E85-A46D-42B6-A151-BBEE3A88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B93-9717-47FB-B1A4-3582141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94F-E599-492F-BC3E-3DE75BF2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FD79-C28E-4E75-999E-499B672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F1D-1C96-4964-AC7E-49143CEB0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4: The Ideal Gas &amp; Kinetic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Ato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mole =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called Avogadro’s number (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the mole?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ecause, a one mole quantity of any element has a mass (in grams) equal to its atomic m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’s the relationship between mass and numerical quantity of any element or comp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e.g. Atomic mass of 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 = 1.008 g/mo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 has a mass of 1.008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= 16.00 g/mo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O has a mass of 16.00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e.g. Molecular mass of 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 x 1.008 g/mol = 2.016 g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has a mass of 2.016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= 2.016+16.00 g/mol =18.016 g/m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{1 mole of 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 has a mass of 18.016 grams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deal Ga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asurable physical parameters that describe the state of a ga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gas particles/molecules (n or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erature 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quation state describes how these parameters are related is called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 Gas La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, which takes 2 for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(1)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V/nT = R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8.314 J/mol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# of moles &amp; R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niversal G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(2)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V/NT = k = 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1.380x10</a:t>
            </a:r>
            <a:r>
              <a:rPr b="0" lang="en-US" sz="3200" spc="-1" strike="noStrike" baseline="30000">
                <a:solidFill>
                  <a:srgbClr val="66ff33"/>
                </a:solidFill>
                <a:latin typeface="Times New Roman"/>
              </a:rPr>
              <a:t>-23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J/K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numerical quantity &amp; k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ltzmann’s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 = R/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velopment of the Ideal Ga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Boyle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662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V = constant (at constant n &amp;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sure increases as volume de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Avogadro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811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/n = constant (at constant P &amp; 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ume increases as # of particles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n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Charles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unpublished ~1787, 1802 by Gay-Lussac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/T = constant (at constant n &amp;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ume increases as temperature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Gay-Lussac </a:t>
            </a:r>
            <a:r>
              <a:rPr b="0" lang="en-US" sz="2000" spc="-1" strike="noStrike">
                <a:solidFill>
                  <a:srgbClr val="66ffcc"/>
                </a:solidFill>
                <a:latin typeface="Times New Roman"/>
              </a:rPr>
              <a:t>(1802)</a:t>
            </a:r>
            <a:r>
              <a:rPr b="0" lang="en-US" sz="2400" spc="-1" strike="noStrike">
                <a:solidFill>
                  <a:srgbClr val="66ffcc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/T = constant (at constant n &amp; 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68000" indent="-180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sure increases as temperature increases &amp; vice versa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P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…=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cques Charl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46-1823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5562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eemed member of the French Academy of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hydrogen-filled ball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dited for discovering the relationship between the volume of an enclosed gas &amp; its tempera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04920" y="4038480"/>
            <a:ext cx="57909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inent French chemist &amp; rival of John Da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ew in balloons to measure the earth’s magnetic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ed experiments on gases in chemical re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42892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seph Gay-Lussac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78-185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Gaylussac" descr=""/>
          <p:cNvPicPr/>
          <p:nvPr/>
        </p:nvPicPr>
        <p:blipFill>
          <a:blip r:embed="rId2"/>
          <a:stretch/>
        </p:blipFill>
        <p:spPr>
          <a:xfrm>
            <a:off x="6353280" y="4038480"/>
            <a:ext cx="2387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etic Theory of Ga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 pressure is due to molecular collisions between gas particles and the walls of the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verage kinetic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K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a gas particl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½ m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rms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kT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(kinetic) energy of a particle is proportional to its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rms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(3kT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the relationship between particle motion &amp;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nal energ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U) of a ga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N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K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N[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kT)]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Nk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U = 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/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(nR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 by which particles move from high concentration to low concentration (analogous to hea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mass diffusion is relat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ength of the particle pathway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ross-sectional area of the pathway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centration difference between the ends of the pathwa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=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hig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etermine the rate of mass diff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m/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t = D(A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C)/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is called the diffusion constant (SI units are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cium Diffusion Across a Biological Membra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tracellular membrane system, called the sarcoplasmic reticulum (SR), is responsible for regulating calcium ion (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movement into/out of the musc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the diffusion constant is D = 12 x 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/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“calcium channel” protein allows the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iffuse across the SR membrane.  Its dimension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of the channel pore is 6.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meter of the pore is 1.2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centration of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1 mol/L inside the S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at is it in kg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/L inside the S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at is it in kg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What is the rate of diffusion through C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hann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01:34:36Z</dcterms:created>
  <dc:creator>Tony Zable</dc:creator>
  <dc:description/>
  <dc:language>en-US</dc:language>
  <cp:lastModifiedBy>PCC</cp:lastModifiedBy>
  <dcterms:modified xsi:type="dcterms:W3CDTF">2003-02-17T17:38:12Z</dcterms:modified>
  <cp:revision>11</cp:revision>
  <dc:subject/>
  <dc:title>Phy 202: General Physics II</dc:title>
</cp:coreProperties>
</file>