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3314-97E1-4044-8EFF-9D3A69180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72E1-2844-48D2-ACBA-AE324342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B72C-6F75-414D-A9B7-E9A052D12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24CA-088A-4F2C-AC77-4E0CAA753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A3F6-6A9B-43CC-9300-B1C8B088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D081-0E90-4F28-80CD-08C4A108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AD43-8946-4B3E-8CA7-7242E923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3D6E-E8E5-4C9B-BB5E-76087629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25B4-57A5-4744-89B8-7EB16E4D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66E1-530C-4465-B7FC-C42C5354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EB97-B198-4E3B-82DA-ABD6D4B0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4813-E5A8-4936-A967-66608B93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7376-19AD-4EA6-B8CE-D3D3EB759C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 202: General Physics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619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14: The Ideal Gas &amp; Kinetic The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unting Ato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8000"/>
          </a:bodyPr>
          <a:p>
            <a:pPr marL="233280" indent="-233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mole = 6.022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n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umber 6.022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called Avogadro’s number (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the mole?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ecause, a one mole quantity of any element has a mass (in grams) equal to its atomic m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05080" indent="-194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’s the relationship between mass and numerical quantity of any element or comp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cc"/>
                </a:solidFill>
                <a:latin typeface="Times New Roman"/>
              </a:rPr>
              <a:t>e.g. Atomic mass of ____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 = 1.008 g/mol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{1 mole of H has a mass of 1.008 grams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 = 16.00 g/mol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{1 mole of O has a mass of 16.00 grams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cc"/>
                </a:solidFill>
                <a:latin typeface="Times New Roman"/>
              </a:rPr>
              <a:t>e.g. Molecular mass of ____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 x 1.008 g/mol = 2.016 g/m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{1 mole of 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has a mass of 2.016 grams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 = 2.016+16.00 g/mol =18.016 g/m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{1 mole of 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O has a mass of 18.016 grams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Ideal Gas La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320" y="53352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easurable physical parameters that describe the state of a gas 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sure (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ume (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mber of gas particles/molecules (n or 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mperature (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quation state describes how these parameters are related is called th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deal Gas La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, which takes 2 form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(1)</a:t>
            </a: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PV/nT = R = 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8.314 J/mol</a:t>
            </a:r>
            <a:r>
              <a:rPr b="0" lang="en-US" sz="3200" spc="-1" strike="noStrike" baseline="30000">
                <a:solidFill>
                  <a:srgbClr val="66ff33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2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 is # of moles &amp; R i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Universal G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ns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(2)</a:t>
            </a: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PV/NT = k = 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1.380x10</a:t>
            </a:r>
            <a:r>
              <a:rPr b="0" lang="en-US" sz="3200" spc="-1" strike="noStrike" baseline="30000">
                <a:solidFill>
                  <a:srgbClr val="66ff33"/>
                </a:solidFill>
                <a:latin typeface="Times New Roman"/>
              </a:rPr>
              <a:t>-23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 J/K</a:t>
            </a: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52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 is numerical quantity &amp; k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oltzmann’s Const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2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k = R/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velopment of the Ideal Gas La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3000"/>
          </a:bodyPr>
          <a:p>
            <a:pPr marL="216000" indent="-21600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Times New Roman"/>
              </a:rPr>
              <a:t>Boyle </a:t>
            </a:r>
            <a:r>
              <a:rPr b="0" lang="en-US" sz="2000" spc="-1" strike="noStrike">
                <a:solidFill>
                  <a:srgbClr val="66ffcc"/>
                </a:solidFill>
                <a:latin typeface="Times New Roman"/>
              </a:rPr>
              <a:t>(1662)</a:t>
            </a:r>
            <a:r>
              <a:rPr b="0" lang="en-US" sz="2400" spc="-1" strike="noStrike">
                <a:solidFill>
                  <a:srgbClr val="66ffcc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V = constant (at constant n &amp; 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ssure increases as volume decreases &amp; vice versa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P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…= const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Times New Roman"/>
              </a:rPr>
              <a:t>Avogadro </a:t>
            </a:r>
            <a:r>
              <a:rPr b="0" lang="en-US" sz="2000" spc="-1" strike="noStrike">
                <a:solidFill>
                  <a:srgbClr val="66ffcc"/>
                </a:solidFill>
                <a:latin typeface="Times New Roman"/>
              </a:rPr>
              <a:t>(1811)</a:t>
            </a:r>
            <a:r>
              <a:rPr b="0" lang="en-US" sz="2400" spc="-1" strike="noStrike">
                <a:solidFill>
                  <a:srgbClr val="66ffcc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/n = constant (at constant P &amp; 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olume increases as # of particles increases &amp; vice versa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/n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V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/n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…= const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Times New Roman"/>
              </a:rPr>
              <a:t>Charles </a:t>
            </a:r>
            <a:r>
              <a:rPr b="0" lang="en-US" sz="2000" spc="-1" strike="noStrike">
                <a:solidFill>
                  <a:srgbClr val="66ffcc"/>
                </a:solidFill>
                <a:latin typeface="Times New Roman"/>
              </a:rPr>
              <a:t>(unpublished ~1787, 1802 by Gay-Lussac)</a:t>
            </a:r>
            <a:r>
              <a:rPr b="0" lang="en-US" sz="2400" spc="-1" strike="noStrike">
                <a:solidFill>
                  <a:srgbClr val="66ffcc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/T = constant (at constant n &amp; P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olume increases as temperature increases &amp; vice versa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/T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V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/T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…= const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Times New Roman"/>
              </a:rPr>
              <a:t>Gay-Lussac </a:t>
            </a:r>
            <a:r>
              <a:rPr b="0" lang="en-US" sz="2000" spc="-1" strike="noStrike">
                <a:solidFill>
                  <a:srgbClr val="66ffcc"/>
                </a:solidFill>
                <a:latin typeface="Times New Roman"/>
              </a:rPr>
              <a:t>(1802)</a:t>
            </a:r>
            <a:r>
              <a:rPr b="0" lang="en-US" sz="2400" spc="-1" strike="noStrike">
                <a:solidFill>
                  <a:srgbClr val="66ffcc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/T = constant (at constant n &amp; V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ssure increases as temperature increases &amp; vice versa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/T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P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/T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…= const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cques Charle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1746-1823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556236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eemed member of the French Academy of Sci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nted the hydrogen-filled ballo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dited for discovering the relationship between the volume of an enclosed gas &amp; its temperatu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04920" y="4038480"/>
            <a:ext cx="579096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minent French chemist &amp; rival of John Dalt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ew in balloons to measure the earth’s magnetic proper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ducted experiments on gases in chemical rea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324480" y="838080"/>
            <a:ext cx="2428920" cy="2590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304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seph Gay-Lussac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1778-1850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Gaylussac" descr=""/>
          <p:cNvPicPr/>
          <p:nvPr/>
        </p:nvPicPr>
        <p:blipFill>
          <a:blip r:embed="rId2"/>
          <a:stretch/>
        </p:blipFill>
        <p:spPr>
          <a:xfrm>
            <a:off x="6353280" y="4038480"/>
            <a:ext cx="23875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inetic Theory of Ga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s pressure is due to molecular collisions between gas particles and the walls of the contai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verage kinetic energ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K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av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of a gas particle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KE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avg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½ mv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rms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= 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/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(kT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erage (kinetic) energy of a particle is proportional to its temp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rms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= (3kT)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1/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s the relationship between particle motion &amp; temp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ternal energ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U) of a gas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U = N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KE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avg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N[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/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(kT)]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= 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/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(Nk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U = 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/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(nR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ffu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cess by which particles move from high concentration to low concentration (analogous to hea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ate of mass diffusion is related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ength of the particle pathway (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ross-sectional area of the pathway (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oncentration difference between the ends of the pathway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=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hig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lo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determine the rate of mass diffus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m/</a:t>
            </a:r>
            <a:r>
              <a:rPr b="0" lang="en-US" sz="36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t = D(A</a:t>
            </a:r>
            <a:r>
              <a:rPr b="0" lang="en-US" sz="3600" spc="-1" strike="noStrike" baseline="30000">
                <a:solidFill>
                  <a:srgbClr val="66ff33"/>
                </a:solidFill>
                <a:latin typeface="Times New Roman"/>
              </a:rPr>
              <a:t>.</a:t>
            </a:r>
            <a:r>
              <a:rPr b="0" lang="en-US" sz="36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C)/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 is called the diffusion constant (SI units are 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lcium Diffusion Across a Biological Membra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tracellular membrane system, called the sarcoplasmic reticulum (SR), is responsible for regulating calcium ion (C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movement into/out of the muscl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the diffusion constant is D = 12 x 10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-10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/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“calcium channel” protein allows the C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diffuse across the SR membrane.  Its dimensions 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ngth of the channel pore is 6.0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ameter of the pore is 1.2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centration of C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1 mol/L inside the SR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What is it in kg/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?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5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ol/L inside the SR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What is it in kg/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?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Question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What is the rate of diffusion through C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channe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7T01:34:36Z</dcterms:created>
  <dc:creator>Tony Zable</dc:creator>
  <dc:description/>
  <dc:language>en-US</dc:language>
  <cp:lastModifiedBy>PCC</cp:lastModifiedBy>
  <dcterms:modified xsi:type="dcterms:W3CDTF">2003-02-17T17:38:12Z</dcterms:modified>
  <cp:revision>11</cp:revision>
  <dc:subject/>
  <dc:title>Phy 202: General Physics II</dc:title>
</cp:coreProperties>
</file>