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88B7-DE92-421F-A34C-84A4FA483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conduction through 2 layers of different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both emission &amp; radiation: determine net power generated by a wood st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= A = 3.5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0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sto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471 K in a room at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o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303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Compare Rate of energy emitted for a light (e=0.1, T=310K) and dark (e=0.9, T=315K) colored object on a ho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33"/>
                </a:solidFill>
                <a:uFillTx/>
                <a:latin typeface="Times New Roman"/>
              </a:rPr>
              <a:t>Q/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Times New Roman"/>
              </a:rPr>
              <a:t>t = 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Symbol"/>
                <a:ea typeface="Symbol"/>
              </a:rPr>
              <a:t></a:t>
            </a:r>
            <a:r>
              <a:rPr b="0" lang="en-US" sz="1200" spc="-1" strike="noStrike" u="sng" baseline="-25000">
                <a:solidFill>
                  <a:srgbClr val="99ff33"/>
                </a:solidFill>
                <a:uFillTx/>
                <a:latin typeface="Times New Roman"/>
              </a:rPr>
              <a:t>light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Times New Roman"/>
              </a:rPr>
              <a:t> (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Symbol"/>
                <a:ea typeface="Symbol"/>
              </a:rPr>
              <a:t>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Times New Roman"/>
              </a:rPr>
              <a:t> A</a:t>
            </a:r>
            <a:r>
              <a:rPr b="0" lang="en-US" sz="1200" spc="-1" strike="noStrike" u="sng" baseline="30000">
                <a:solidFill>
                  <a:srgbClr val="99ff33"/>
                </a:solidFill>
                <a:uFillTx/>
                <a:latin typeface="Times New Roman"/>
              </a:rPr>
              <a:t>.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Times New Roman"/>
              </a:rPr>
              <a:t>T</a:t>
            </a:r>
            <a:r>
              <a:rPr b="0" lang="en-US" sz="1200" spc="-1" strike="noStrike" u="sng" baseline="30000">
                <a:solidFill>
                  <a:srgbClr val="99ff33"/>
                </a:solidFill>
                <a:uFillTx/>
                <a:latin typeface="Times New Roman"/>
              </a:rPr>
              <a:t>4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Times New Roman"/>
              </a:rPr>
              <a:t>)</a:t>
            </a:r>
            <a:r>
              <a:rPr b="0" lang="en-US" sz="1200" spc="-1" strike="noStrike" u="sng" baseline="-25000">
                <a:solidFill>
                  <a:srgbClr val="99ff33"/>
                </a:solidFill>
                <a:uFillTx/>
                <a:latin typeface="Times New Roman"/>
              </a:rPr>
              <a:t>light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Times New Roman"/>
              </a:rPr>
              <a:t> = (0.1)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(310K)</a:t>
            </a:r>
            <a:r>
              <a:rPr b="0" lang="en-US" sz="1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.10 or 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Q/</a:t>
            </a:r>
            <a:r>
              <a:rPr b="0" lang="en-US" sz="1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t = </a:t>
            </a:r>
            <a:r>
              <a:rPr b="0" lang="en-US" sz="1200" spc="-1" strike="noStrike">
                <a:solidFill>
                  <a:srgbClr val="99ff33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dark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99ff33"/>
                </a:solidFill>
                <a:latin typeface="Symbol"/>
                <a:ea typeface="Symbol"/>
              </a:rPr>
              <a:t>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 A</a:t>
            </a:r>
            <a:r>
              <a:rPr b="0" lang="en-US" sz="12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1200" spc="-1" strike="noStrike" baseline="30000">
                <a:solidFill>
                  <a:srgbClr val="99ff33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)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dark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 = (0.9)(315K)</a:t>
            </a:r>
            <a:r>
              <a:rPr b="0" lang="en-US" sz="1200" spc="-1" strike="noStrike" baseline="30000">
                <a:solidFill>
                  <a:srgbClr val="99ff33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99ff33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light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1200" spc="-1" strike="noStrike" baseline="30000">
                <a:solidFill>
                  <a:srgbClr val="99ff33"/>
                </a:solidFill>
                <a:latin typeface="Times New Roman"/>
              </a:rPr>
              <a:t>4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light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1200" spc="-1" strike="noStrike">
                <a:solidFill>
                  <a:srgbClr val="99ff33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dark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1200" spc="-1" strike="noStrike" baseline="30000">
                <a:solidFill>
                  <a:srgbClr val="99ff33"/>
                </a:solidFill>
                <a:latin typeface="Times New Roman"/>
              </a:rPr>
              <a:t>4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dark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 which means T</a:t>
            </a:r>
            <a:r>
              <a:rPr b="0" lang="en-US" sz="1200" spc="-1" strike="noStrike" baseline="30000">
                <a:solidFill>
                  <a:srgbClr val="99ff33"/>
                </a:solidFill>
                <a:latin typeface="Times New Roman"/>
              </a:rPr>
              <a:t>4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light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/T</a:t>
            </a:r>
            <a:r>
              <a:rPr b="0" lang="en-US" sz="1200" spc="-1" strike="noStrike" baseline="30000">
                <a:solidFill>
                  <a:srgbClr val="99ff33"/>
                </a:solidFill>
                <a:latin typeface="Times New Roman"/>
              </a:rPr>
              <a:t>4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dark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= </a:t>
            </a:r>
            <a:r>
              <a:rPr b="0" lang="en-US" sz="1200" spc="-1" strike="noStrike">
                <a:solidFill>
                  <a:srgbClr val="99ff33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dark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99ff33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light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 = T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dark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99ff33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dark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99ff33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light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)</a:t>
            </a:r>
            <a:r>
              <a:rPr b="0" lang="en-US" sz="1200" spc="-1" strike="noStrike" baseline="30000">
                <a:solidFill>
                  <a:srgbClr val="99ff33"/>
                </a:solidFill>
                <a:latin typeface="Times New Roman"/>
              </a:rPr>
              <a:t>1/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7A6-9EF5-4948-886E-83E20CF4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DFD-E733-4129-AC99-5E784D5A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DA7-5FC2-4FDF-A627-57449F26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C93-0F91-4E2C-A206-EE1C6986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D56-325C-436F-8C9E-74482153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3F6-8238-4518-A783-F1A3C547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2EF-CB87-4DF5-9D50-FF53795A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B4D-F00D-4B64-A2AD-38755274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FFD-3250-482D-B89C-06AFA084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AC9-8002-4E5D-8126-A2D862D9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356-7B76-4769-BA32-397D38CF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68A-9605-41A8-97D0-2DE898E3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DFEA-3B2E-4BBD-AE12-0F61D2635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-gap.dcs.st-and.ac.uk/~history/Mathematicians/Newton.html" TargetMode="External"/><Relationship Id="rId3" Type="http://schemas.openxmlformats.org/officeDocument/2006/relationships/hyperlink" Target="http://www-gap.dcs.st-and.ac.uk/~history/Mathematicians/Pascal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2: General Physics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13: Heat Trans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79520" y="-305280"/>
            <a:ext cx="825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Greenhouse Effe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esence of our atmosphere helps the Earth maintain a moderate &amp; livable temperature range, due to a process calle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reenhouse Eff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ant energ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hort wavelength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the sun is absorbed by the surface of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arth’s surface radiates energy (long wavelengt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of the long wavelength radiation is reflected by the earth’s atmosphere by so called “Greenhouse Gas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flected long wavelength radiation is reabsorbed by the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ositive feedback process heats the surface of the eart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eps the surface warmer at n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not confuse Greenhouse Effect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Good!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 Global Warming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Ba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 is believed to be due to an increased production of greenhouse gases which may increased the amount of long wavelength radiation reflected back to the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ean Baptiste Fourier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68-1830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3080" y="1066320"/>
            <a:ext cx="5333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nch mathematic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ally wanted to become a priest but drawn to mathema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orary of Laplace, Lagrange, Biot &amp; Pois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d as Precept under Napole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condu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Fourier_4" descr=""/>
          <p:cNvPicPr/>
          <p:nvPr/>
        </p:nvPicPr>
        <p:blipFill>
          <a:blip r:embed="rId1"/>
          <a:stretch/>
        </p:blipFill>
        <p:spPr>
          <a:xfrm>
            <a:off x="5607000" y="1066680"/>
            <a:ext cx="3308400" cy="4038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3880" y="548640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esterday was m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 birthday, at that age </a:t>
            </a:r>
            <a:r>
              <a:rPr b="0" i="1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Newt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asc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had already acquired many claims to immortality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Heat Transf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energy that is carried from place to place by the bulk movement of a flu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energy that is transferred directly through a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energy that is transferred by means of electromagnetic waves (radiant energy or ligh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t flow due to collisions between neighboring atoms (a sort of “domino effect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te of conductive heat flow (Q/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)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tional to temperature difference between 2 regions in a conducting pathway mater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tional to cross sectional area of material (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tional to ability of material to conduct heat (k) {call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rmal condu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ely proportional to length of conducting pathway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ing all of these elements for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urier’s Heat Equation (1609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Q/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 = k (A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) / 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ate of Heat Flow in 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Q = [k (A 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) / L] 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Heat Flow in J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ductive Heat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uction depends on temperature difference between 2 regions &amp; how far apart those regions are sepa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28240" y="3581280"/>
            <a:ext cx="3809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ing the cross-sectional area increases amount of heat that will flow in a give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W0511_13.08_6333" descr=""/>
          <p:cNvPicPr/>
          <p:nvPr/>
        </p:nvPicPr>
        <p:blipFill>
          <a:blip r:embed="rId1"/>
          <a:srcRect l="0" t="0" r="0" b="37831"/>
          <a:stretch/>
        </p:blipFill>
        <p:spPr>
          <a:xfrm>
            <a:off x="3933720" y="1084320"/>
            <a:ext cx="4864320" cy="1747800"/>
          </a:xfrm>
          <a:prstGeom prst="rect">
            <a:avLst/>
          </a:prstGeom>
          <a:ln w="0">
            <a:noFill/>
          </a:ln>
        </p:spPr>
      </p:pic>
      <p:pic>
        <p:nvPicPr>
          <p:cNvPr id="62" name="W0512_13.09_6333" descr=""/>
          <p:cNvPicPr/>
          <p:nvPr/>
        </p:nvPicPr>
        <p:blipFill>
          <a:blip r:embed="rId2"/>
          <a:srcRect l="0" t="0" r="0" b="32189"/>
          <a:stretch/>
        </p:blipFill>
        <p:spPr>
          <a:xfrm>
            <a:off x="3962520" y="3276720"/>
            <a:ext cx="4835520" cy="2225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57913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course, the relative ability to conduct heat is an intrinsic property of different materials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fluid is warm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 expands (thermal volume expan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nsity de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oyant forces exerted by cooler (denser) fluids causes warmer fluids to ri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ember Archimedes’ Principle 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warmer fluids rise they cool and descend warmer fluids beneath push them out of the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et result is a natural mixing that occurs, calle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on is a very efficient form of thermal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energy gets rapidly dispersed throughout the bulk of a flu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mixing is induced artificially (i.e. with a fan) convection occurs more rapidly &amp; efficiently, this is calle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ced conv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Conv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38098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on Currents in heating &amp; cooling appli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280" y="990360"/>
            <a:ext cx="3810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on currents in a sauce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W0507_13.03_6333" descr=""/>
          <p:cNvPicPr/>
          <p:nvPr/>
        </p:nvPicPr>
        <p:blipFill>
          <a:blip r:embed="rId1"/>
          <a:srcRect l="0" t="0" r="0" b="46300"/>
          <a:stretch/>
        </p:blipFill>
        <p:spPr>
          <a:xfrm>
            <a:off x="152280" y="990720"/>
            <a:ext cx="4332240" cy="2544480"/>
          </a:xfrm>
          <a:prstGeom prst="rect">
            <a:avLst/>
          </a:prstGeom>
          <a:ln w="0">
            <a:noFill/>
          </a:ln>
        </p:spPr>
      </p:pic>
      <p:pic>
        <p:nvPicPr>
          <p:cNvPr id="70" name="W0508_13.04_6333" descr=""/>
          <p:cNvPicPr/>
          <p:nvPr/>
        </p:nvPicPr>
        <p:blipFill>
          <a:blip r:embed="rId2"/>
          <a:srcRect l="0" t="0" r="0" b="19753"/>
          <a:stretch/>
        </p:blipFill>
        <p:spPr>
          <a:xfrm>
            <a:off x="4572000" y="3733920"/>
            <a:ext cx="4276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bjects emit(or radiate) energy in the form of electromagnetic w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te of radiant energy emitted is relat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area (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wer of the surface temperature (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{in kelvin!!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ility of an object absorb/emit radiant energy, called emissivity (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0 for a perfect refle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1 for a absorber/emi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between 0 &amp; 1 for normal substances and varies with waveleng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ed together we have Stefan-Boltzmann’s Law of Radi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Q/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 = 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A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ate of Radiant Heat Flow in 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5.67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he Stefan-Boltzmann Consta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ffect of Emissivity on Absorption of Radiant 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bodies emit as well as absorb radiant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body is in thermal equilibrium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absorbed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Q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em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objects will reach higher equilibrium T than lighter objec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.g. consider pavement and concrete on a hot day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 emitters are also good absorbers of radiant energ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~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 emitters are also good poor of radiant energ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~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W0516_13.15_6333" descr=""/>
          <p:cNvPicPr/>
          <p:nvPr/>
        </p:nvPicPr>
        <p:blipFill>
          <a:blip r:embed="rId1"/>
          <a:srcRect l="0" t="0" r="0" b="27573"/>
          <a:stretch/>
        </p:blipFill>
        <p:spPr>
          <a:xfrm>
            <a:off x="5751360" y="1295280"/>
            <a:ext cx="3316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9:53:56Z</dcterms:created>
  <dc:creator>PCC</dc:creator>
  <dc:description/>
  <dc:language>en-US</dc:language>
  <cp:lastModifiedBy>PCC</cp:lastModifiedBy>
  <dcterms:modified xsi:type="dcterms:W3CDTF">2003-02-03T18:18:30Z</dcterms:modified>
  <cp:revision>86</cp:revision>
  <dc:subject/>
  <dc:title>Phy 202: General Physics II</dc:title>
</cp:coreProperties>
</file>