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B369-BEC9-454C-B28E-45F6CC761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lsius &amp; Fahrenheit scales are based on the phase transition temperatures for pur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egard this for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AE8B-6C97-495C-80E0-1ABDD1FD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017-A687-4A5A-8A4D-CCD6FA55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24F8-749F-45BB-B8F2-B7A35415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1C9-3294-499B-908F-7FEF1CE5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3DB-C031-496B-964D-352699E4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F20-DB69-43A2-9672-33D07F7C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DA6-86CF-49A6-BA07-FA065423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767-0305-42A8-89FB-66908A0C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880-B35E-4BCA-8EC4-862A671A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911-6F92-4306-BAA6-7BAD2E5D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A64-531A-4A58-828F-239770F8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6D1-8DD3-430D-AC85-67EA6917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9336-8F7C-4CCD-84D2-D4383B00B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2: Temperature &amp;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sider a “square” hole in a solid bod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34167"/>
          <a:stretch/>
        </p:blipFill>
        <p:spPr>
          <a:xfrm>
            <a:off x="1219320" y="838080"/>
            <a:ext cx="670536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44197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k of the solid body as a collection of connected solid cub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mall cubes each expand with increased temperature, which expands the hole in the mid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 block (same size as the original hole) is heated to the same (higher) temperature it will fit perfectly in the 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The hole expands/contracts as if it were a solid body of that materia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&amp; Internal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t is energy that flows from a high temperature object to a lower temperatur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something absorbs heat its internal energy (or the energy of its atoms/molecules)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something releases heat its internal energy de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 units of heat are joules (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hings occur when an object absorbs or releases heat energy (Q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mperature will change (which is why they expand/contract, due to changes in molecular mo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bject (or part of it) will change phase (solid, liquid, g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254160" y="-228960"/>
            <a:ext cx="956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&amp; Temperature Chan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n solid (or liquid) of mass, m, absorbs and no phase change occu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Q = c</a:t>
            </a:r>
            <a:r>
              <a:rPr b="0" lang="en-US" sz="32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 {Black’s Heat Equation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is heat absorbed/lost,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is the temperature change, and c is called the specific heat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-219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c Heat Capa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hysical property that relates how energy absorbed reflects changes in temperature for a given sub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 SI term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amount of energy required to change the temperature of 1 kg of a substance by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(or 1 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 units for specific heat capacity are J/(k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ls tend to have low specific heat capacities (which is one reason they make great cooking vesse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metal substances tend to have higher specific heat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has an unusually high specific heat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echanical Equivalent of He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it was established that heat was indeed energy, heat was traditionally measured in units of calories (cal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calorie = amount of heat required to raise the temperature of 1 g of water by 1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mes Prescott Joule established that heat energy is the equivalent of mechanical energy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cal = 4.186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nutrition we often invoke the kilocalorie (or nutritional calori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 kcal = 1 Cal = 1000 cal = 4186 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typical” person needs to eat ~2000 Cal daily (or 2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l of food energ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lorimet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960" y="456840"/>
            <a:ext cx="6476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ethod to measure specific heat capacity that is based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inciple of conservation of en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known specific heat capacity for water (1000 cal/k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or 4186 J/k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W0484_12.25_6333" descr=""/>
          <p:cNvPicPr/>
          <p:nvPr/>
        </p:nvPicPr>
        <p:blipFill>
          <a:blip r:embed="rId1"/>
          <a:srcRect l="0" t="0" r="0" b="29999"/>
          <a:stretch/>
        </p:blipFill>
        <p:spPr>
          <a:xfrm>
            <a:off x="6324480" y="228600"/>
            <a:ext cx="261936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320" y="2895480"/>
            <a:ext cx="87627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ces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eated object is placed into a thermally isolated container containing a known amount of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net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Q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gained by water 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+ Q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gained by object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 and liquid reach thermal equilibriu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gained by water 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= Q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lost by object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{= - Q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gained by object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nal temperature of the object/water is used to determine the specific heat of th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ical Calorimetry Proble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unknown object of known mass (e.g. 0.10 kg) is heated to a known temperature (e.g. 90.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then placed in a  thermally isolated container (the “calorimeter”) containing a known mass (say 0.10 kg) of cold temperature (e.g. 15.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wate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the final temperature of the water/object is 22.5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, what is the specific heat capacity of the object?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is the substance made of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object of known specific heat (e.g. gold) and mass (e.g. 0.15 kg) is heated to a known temperature (e.g. 95.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then placed in a  thermally isolated container (the “calorimeter”) containing a known mass (say 0.10 kg) of cold temperature (e.g. 15.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) wat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is the final temperature of the object/wa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t &amp; Phase Chan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 substance absorbs/loses heat energy its temperature will change unti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bstance reaches its “critical” temperature it will no longer change 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in/loss of additional heat energy will also result in the phase transformation of the matter from one phase to anoth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olid 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liquid 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lationship that describes heat energy (Q) gained/lost to mass of substance (m) that undergoes a phase chang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Q = m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is called the latent he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he SI units are J/k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nt heat is a physical property that describes how much energy is required to transform the mass of a substance from one phase to anoth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.g. latent heat of fusion or vaporization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5960" y="76320"/>
            <a:ext cx="609588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eat vs. Temperature Graph (for wa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W0485_12.27_6333" descr=""/>
          <p:cNvPicPr/>
          <p:nvPr/>
        </p:nvPicPr>
        <p:blipFill>
          <a:blip r:embed="rId1"/>
          <a:srcRect l="0" t="0" r="0" b="34483"/>
          <a:stretch/>
        </p:blipFill>
        <p:spPr>
          <a:xfrm>
            <a:off x="5562720" y="3352680"/>
            <a:ext cx="3276360" cy="3111480"/>
          </a:xfrm>
          <a:prstGeom prst="rect">
            <a:avLst/>
          </a:prstGeom>
          <a:ln w="0">
            <a:noFill/>
          </a:ln>
        </p:spPr>
      </p:pic>
      <p:pic>
        <p:nvPicPr>
          <p:cNvPr id="91" name="W0486_12.28_6333" descr=""/>
          <p:cNvPicPr/>
          <p:nvPr/>
        </p:nvPicPr>
        <p:blipFill>
          <a:blip r:embed="rId2"/>
          <a:srcRect l="0" t="0" r="0" b="36187"/>
          <a:stretch/>
        </p:blipFill>
        <p:spPr>
          <a:xfrm>
            <a:off x="457200" y="685800"/>
            <a:ext cx="464832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43600" y="2362320"/>
            <a:ext cx="266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amples of Phase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114800"/>
            <a:ext cx="4495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why do you feel so “cold” when you step out of the shower soaking we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seph Black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28-1799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791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ish chem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-)discovered carbon dioxi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“fixed air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er of calorimetry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d a theory of heat that did not reference phlogiston,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eat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heat capacity &amp; Latent 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ly renowned as a  great teach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334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"Many were induced, by the report of his students, to attend his courses, without having any particular relish for chemical knowledge.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Black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27921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emperatur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(T) is a measure of how “hot” or “cold” something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nerg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it hea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more on this la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s a measure of the mo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vibration or translation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the atoms/molecules that make-up an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reater the motion/vibration the greater the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maller the motion/vibration the lower the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 is measured in 3 common sc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hrenheit (USCS),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sius or Centigrade (Metric),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lvin (SI), 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note: units of Kelvin are not degrees K (or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), just K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ommon Temperature Sca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hrenheit &amp;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1430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sius &amp; Fahrenhe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W0465_12.01_6333" descr=""/>
          <p:cNvPicPr/>
          <p:nvPr/>
        </p:nvPicPr>
        <p:blipFill>
          <a:blip r:embed="rId1"/>
          <a:srcRect l="0" t="0" r="0" b="19557"/>
          <a:stretch/>
        </p:blipFill>
        <p:spPr>
          <a:xfrm>
            <a:off x="762120" y="1676520"/>
            <a:ext cx="2369880" cy="4952880"/>
          </a:xfrm>
          <a:prstGeom prst="rect">
            <a:avLst/>
          </a:prstGeom>
          <a:ln w="0">
            <a:noFill/>
          </a:ln>
        </p:spPr>
      </p:pic>
      <p:pic>
        <p:nvPicPr>
          <p:cNvPr id="60" name="W0466_12.02_6333" descr=""/>
          <p:cNvPicPr/>
          <p:nvPr/>
        </p:nvPicPr>
        <p:blipFill>
          <a:blip r:embed="rId2"/>
          <a:srcRect l="0" t="0" r="0" b="22431"/>
          <a:stretch/>
        </p:blipFill>
        <p:spPr>
          <a:xfrm>
            <a:off x="4724280" y="1676520"/>
            <a:ext cx="3544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lute Zero (0K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" name="W0468_12.04_6333" descr=""/>
          <p:cNvPicPr/>
          <p:nvPr/>
        </p:nvPicPr>
        <p:blipFill>
          <a:blip r:embed="rId1"/>
          <a:srcRect l="0" t="0" r="0" b="25579"/>
          <a:stretch/>
        </p:blipFill>
        <p:spPr>
          <a:xfrm>
            <a:off x="1801800" y="914400"/>
            <a:ext cx="5437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Thermal Expan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solid materials expand or contract depending on their temperat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 increases object exp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 decreases object contr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referred to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near thermal expa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W0470_12.09_6333" descr=""/>
          <p:cNvPicPr/>
          <p:nvPr/>
        </p:nvPicPr>
        <p:blipFill>
          <a:blip r:embed="rId1"/>
          <a:srcRect l="0" t="0" r="0" b="36312"/>
          <a:stretch/>
        </p:blipFill>
        <p:spPr>
          <a:xfrm>
            <a:off x="2590920" y="3429000"/>
            <a:ext cx="38098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ar Thermal Expansio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tent to which something expands/contracts with temperature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) 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hysical properties of the material (a property called the coefficient of linear expansion, 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riginal length of the object (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crease/decrease in temperatur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) in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or K un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 = </a:t>
            </a: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</a:t>
            </a:r>
            <a:r>
              <a:rPr b="0" lang="en-US" sz="36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measured in units of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r 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sinc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 is the same for both scales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rmome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mometers are devices used to measure 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 a physical property that is temperature 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(linear thermal expan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(volume thermal expans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is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mmon thermometers are based on linear thermal expansion (The mercury thermome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lume Thermal Expan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s will expand in volume as well as in 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 thermal expansion is analogous to linear thermal expan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 = 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efficient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s called the coefficient of volume thermal expansion &amp; is related the coefficient of linear thermal expansion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= 3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only do solid objects expand/contract with temperature but so do holes within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9:53:56Z</dcterms:created>
  <dc:creator>PCC</dc:creator>
  <dc:description/>
  <dc:language>en-US</dc:language>
  <cp:lastModifiedBy>PCC</cp:lastModifiedBy>
  <dcterms:modified xsi:type="dcterms:W3CDTF">2003-01-27T18:16:25Z</dcterms:modified>
  <cp:revision>92</cp:revision>
  <dc:subject/>
  <dc:title>Phy 202: General Physics II</dc:title>
</cp:coreProperties>
</file>