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5D37-C04B-41B2-B3A6-F631BDB9C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iceberg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den h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r the mass the greater the period (T) or T ~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when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C578-3C96-46E7-B7D8-0402E476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1066-A61A-4216-90FB-A6342A49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74C3-A266-483D-A87D-574EF11B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A307-1A5E-40E2-9E5D-430078DA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B6A8-0500-4256-8AD1-02E5984A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2610-9CE8-42C1-88AF-FA1A085E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20C0-9E3F-46CB-8424-00826065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5F8F-8664-4CE9-B109-5C0E2870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3F83-3CD4-4915-B41C-2D522486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9AD9-78FA-4622-9E30-766A335F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58E6-2C65-45D4-A211-68A42FB1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D491-3159-4FDC-883C-CC6A88E0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BFA9-CEF5-4F6F-964C-7660A275C4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 202: General Physics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 11: Flu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-30528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rchimedes’ Princi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an object is submerged in a fluid, the fluid exerts a buoyant force on the object equal to the weight of the fluid displaced by the objec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 = m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fluid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g = 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fluid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displaced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 submerged object has greater density than the flui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s weight will be greater than the buoyant force (it will sin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 submerged object has lower density than the flui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ill partially submerge in the fluid until it reaches a depth where its weight will be the same as the weight of the fluid displaced (it will floa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 submerged object has the same density as the fluid it will neither sink nor float but will remain in equilibrium as long as it is completely submer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quation of Continu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a fluid flows, the rate of mass entering a point must be equal to the rate of mass exiting the poi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entering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t = m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exiting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 (since 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m = </a:t>
            </a:r>
            <a:r>
              <a:rPr b="0" lang="en-US" sz="2400" spc="-1" strike="noStrike">
                <a:solidFill>
                  <a:srgbClr val="ff00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V = </a:t>
            </a:r>
            <a:r>
              <a:rPr b="0" lang="en-US" sz="2400" spc="-1" strike="noStrike">
                <a:solidFill>
                  <a:srgbClr val="ff00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&amp; </a:t>
            </a:r>
            <a:r>
              <a:rPr b="0" lang="en-US" sz="2400" spc="-1" strike="noStrike">
                <a:solidFill>
                  <a:srgbClr val="ff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x/</a:t>
            </a:r>
            <a:r>
              <a:rPr b="0" lang="en-US" sz="2400" spc="-1" strike="noStrike">
                <a:solidFill>
                  <a:srgbClr val="ff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t = 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is the cross-sectional area of the fluid seg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 is the width of the fluid seg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W0429_11.28_6333" descr=""/>
          <p:cNvPicPr/>
          <p:nvPr/>
        </p:nvPicPr>
        <p:blipFill>
          <a:blip r:embed="rId1"/>
          <a:srcRect l="0" t="0" r="0" b="45538"/>
          <a:stretch/>
        </p:blipFill>
        <p:spPr>
          <a:xfrm>
            <a:off x="1828800" y="4495680"/>
            <a:ext cx="55627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rnoulli’s Eq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8686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rnoulli’s Principl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90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s speed of fluid increases its pressure dro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rnoulli’s principle can be extended to Bernoulli’s equation for a fluid that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nviscous (no friction or interaction with sidewall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ompressible (liquid does not expand nor compres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rnoulli’s Equat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gy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+ ½ 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= P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gy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+ ½ 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99ff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can be rewritten 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- P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=  - 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gy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- ½ 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 + 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gy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+ ½ 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99ff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- P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g(y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- y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) + ½ </a:t>
            </a: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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-v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e, the “state” of the fluid is constant at all point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gy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+ ½ 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= const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91320" y="4952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niel Bernoulli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1700-1782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iss merchant, doctor &amp; mathematici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ed 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brating str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cean ti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netic the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monstrated that as the velocity of a fluid increases its pressure decreases (known as Bernoulli’s Princip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BernoulliDaniel" descr=""/>
          <p:cNvPicPr/>
          <p:nvPr/>
        </p:nvPicPr>
        <p:blipFill>
          <a:blip r:embed="rId1"/>
          <a:stretch/>
        </p:blipFill>
        <p:spPr>
          <a:xfrm>
            <a:off x="6172200" y="1219320"/>
            <a:ext cx="2743200" cy="33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are fluid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luid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re anything that flows (liquids or gas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often convenient to refer to quantity of fluids in terms of mass density (instead of ma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ss Density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is mass per unit volume 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= m/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 units are kg/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sure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gnitude of the normal force (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applied to a surface per unit area (A), 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P = F</a:t>
            </a:r>
            <a:r>
              <a:rPr b="0" lang="en-US" sz="3200" spc="-1" strike="noStrike" baseline="-25000">
                <a:solidFill>
                  <a:srgbClr val="66ff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/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 units are newtons/meter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N/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or pascals (P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fluids at rest (static), a force can only be applied normal to the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ngential forces result in fluid flow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ssure in Flui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uids are mob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not retain their shap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not independently support their sha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essure within a fluid varies with dep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sure is constant at all points of the same dep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sure increases with increasing depth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P ~ 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where h is the depth below the surface of the fluid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essure difference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) between 2 points in a fluid is related to the density of fluid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&amp; the depth difference between the po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eater the density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the greater the pressure difference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greater the depth difference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) the greater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</a:t>
            </a:r>
            <a:r>
              <a:rPr b="0" lang="en-US" sz="36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– P</a:t>
            </a:r>
            <a:r>
              <a:rPr b="0" lang="en-US" sz="36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= </a:t>
            </a:r>
            <a:r>
              <a:rPr b="0" lang="en-US" sz="3600" spc="-1" strike="noStrike">
                <a:solidFill>
                  <a:srgbClr val="99ff33"/>
                </a:solidFill>
                <a:latin typeface="Symbol"/>
                <a:ea typeface="Symbol"/>
              </a:rPr>
              <a:t>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-30528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rivation of pressures in flui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533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 a disk of water in a static flui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ying Newton’s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aw to the disk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90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F = P</a:t>
            </a:r>
            <a:r>
              <a:rPr b="0" lang="en-US" sz="3200" spc="-1" strike="noStrike" baseline="-25000">
                <a:solidFill>
                  <a:srgbClr val="ff00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A – P</a:t>
            </a:r>
            <a:r>
              <a:rPr b="0" lang="en-US" sz="3200" spc="-1" strike="noStrike" baseline="-25000">
                <a:solidFill>
                  <a:srgbClr val="ff00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A – mg = 0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90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A – P</a:t>
            </a:r>
            <a:r>
              <a:rPr b="0" lang="en-US" sz="3200" spc="-1" strike="noStrike" baseline="-25000">
                <a:solidFill>
                  <a:srgbClr val="ff00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A = mg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ss of the disk is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m = </a:t>
            </a:r>
            <a:r>
              <a:rPr b="0" lang="en-US" sz="2400" spc="-1" strike="noStrike">
                <a:solidFill>
                  <a:srgbClr val="ff00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o Newton’s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aw can be rewritten 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90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A – P</a:t>
            </a:r>
            <a:r>
              <a:rPr b="0" lang="en-US" sz="3200" spc="-1" strike="noStrike" baseline="-25000">
                <a:solidFill>
                  <a:srgbClr val="ff00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A = mg = (</a:t>
            </a:r>
            <a:r>
              <a:rPr b="0" lang="en-US" sz="3200" spc="-1" strike="noStrike">
                <a:solidFill>
                  <a:srgbClr val="ff00ff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00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)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viding through by A yiel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90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– P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90320" indent="-188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e that pressure in a fluid doe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epend 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54200" indent="-150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total mass of the fluid d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754200" indent="-150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surface area where the force is appli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838080" y="990720"/>
            <a:ext cx="2819520" cy="837360"/>
            <a:chOff x="838080" y="990720"/>
            <a:chExt cx="2819520" cy="837360"/>
          </a:xfrm>
        </p:grpSpPr>
        <p:grpSp>
          <p:nvGrpSpPr>
            <p:cNvPr id="60" name=""/>
            <p:cNvGrpSpPr/>
            <p:nvPr/>
          </p:nvGrpSpPr>
          <p:grpSpPr>
            <a:xfrm>
              <a:off x="838080" y="1066680"/>
              <a:ext cx="2286000" cy="761400"/>
              <a:chOff x="838080" y="1066680"/>
              <a:chExt cx="2286000" cy="761400"/>
            </a:xfrm>
          </p:grpSpPr>
          <p:sp>
            <p:nvSpPr>
              <p:cNvPr id="61" name=""/>
              <p:cNvSpPr/>
              <p:nvPr/>
            </p:nvSpPr>
            <p:spPr>
              <a:xfrm>
                <a:off x="838080" y="1066680"/>
                <a:ext cx="2286000" cy="380520"/>
              </a:xfrm>
              <a:prstGeom prst="ellipse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38080" y="1447200"/>
                <a:ext cx="2286000" cy="380880"/>
              </a:xfrm>
              <a:prstGeom prst="ellipse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38080" y="1294920"/>
                <a:ext cx="0" cy="380520"/>
              </a:xfrm>
              <a:prstGeom prst="line">
                <a:avLst/>
              </a:prstGeom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124080" y="1294920"/>
                <a:ext cx="0" cy="380520"/>
              </a:xfrm>
              <a:prstGeom prst="line">
                <a:avLst/>
              </a:prstGeom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3124080" y="1218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ff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66ffff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28800" y="990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324480" y="609480"/>
            <a:ext cx="2743200" cy="2285640"/>
            <a:chOff x="6324480" y="609480"/>
            <a:chExt cx="2743200" cy="2285640"/>
          </a:xfrm>
        </p:grpSpPr>
        <p:grpSp>
          <p:nvGrpSpPr>
            <p:cNvPr id="68" name=""/>
            <p:cNvGrpSpPr/>
            <p:nvPr/>
          </p:nvGrpSpPr>
          <p:grpSpPr>
            <a:xfrm>
              <a:off x="6324480" y="1219320"/>
              <a:ext cx="2286000" cy="761400"/>
              <a:chOff x="6324480" y="1219320"/>
              <a:chExt cx="2286000" cy="761400"/>
            </a:xfrm>
          </p:grpSpPr>
          <p:sp>
            <p:nvSpPr>
              <p:cNvPr id="69" name=""/>
              <p:cNvSpPr/>
              <p:nvPr/>
            </p:nvSpPr>
            <p:spPr>
              <a:xfrm>
                <a:off x="6324480" y="1219320"/>
                <a:ext cx="2286000" cy="380520"/>
              </a:xfrm>
              <a:prstGeom prst="ellipse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324480" y="1599840"/>
                <a:ext cx="2286000" cy="380880"/>
              </a:xfrm>
              <a:prstGeom prst="ellipse">
                <a:avLst/>
              </a:prstGeom>
              <a:noFill/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324480" y="1447560"/>
                <a:ext cx="0" cy="380520"/>
              </a:xfrm>
              <a:prstGeom prst="line">
                <a:avLst/>
              </a:prstGeom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610480" y="1447560"/>
                <a:ext cx="0" cy="380520"/>
              </a:xfrm>
              <a:prstGeom prst="line">
                <a:avLst/>
              </a:prstGeom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6858000" y="19810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ff"/>
                  </a:solidFill>
                  <a:latin typeface="Times New Roman"/>
                </a:rPr>
                <a:t>m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467480" y="60948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ff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ff00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ff00ff"/>
                  </a:solidFill>
                  <a:latin typeface="Times New Roman"/>
                </a:rPr>
                <a:t>=P</a:t>
              </a:r>
              <a:r>
                <a:rPr b="0" lang="en-US" sz="2400" spc="-1" strike="noStrike" baseline="-25000">
                  <a:solidFill>
                    <a:srgbClr val="ff00ff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ff00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467480" y="609480"/>
              <a:ext cx="0" cy="7621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1828800"/>
              <a:ext cx="0" cy="3808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7543800" y="1752120"/>
              <a:ext cx="0" cy="11430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20120" y="2209680"/>
              <a:ext cx="1447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ff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ff00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00ff"/>
                  </a:solidFill>
                  <a:latin typeface="Times New Roman"/>
                </a:rPr>
                <a:t>=P</a:t>
              </a:r>
              <a:r>
                <a:rPr b="0" lang="en-US" sz="2400" spc="-1" strike="noStrike" baseline="-25000">
                  <a:solidFill>
                    <a:srgbClr val="ff00ff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00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tmospheric Press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the surface of a fluid is exposed to air, the pressure at that surface (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is equal to that of the atmospheric air pressure at that ele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 sea level the atmospheric pressure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66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 = 1.013x10</a:t>
            </a:r>
            <a:r>
              <a:rPr b="0" lang="en-US" sz="2800" spc="-1" strike="noStrike" baseline="30000">
                <a:solidFill>
                  <a:srgbClr val="66ff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 N/m</a:t>
            </a:r>
            <a:r>
              <a:rPr b="0" lang="en-US" sz="2800" spc="-1" strike="noStrike" baseline="30000">
                <a:solidFill>
                  <a:srgbClr val="66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essure at any depth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) below the surface of the fluid is given b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 = P</a:t>
            </a:r>
            <a:r>
              <a:rPr b="0" lang="en-US" sz="3600" spc="-1" strike="noStrike" baseline="-25000">
                <a:solidFill>
                  <a:srgbClr val="99ff33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99ff33"/>
                </a:solidFill>
                <a:latin typeface="Symbol"/>
                <a:ea typeface="Symbol"/>
              </a:rPr>
              <a:t>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relationship also applies to air pressure at higher altitudes (to the extent that the air density does not change substanti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high can you suck water up using a straw? (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r pumping water uphill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1426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order to draw water (or any fluid) upward you must lower the pressure difference between the pressure inside the “straw” and the outside environment (usually the atmosphe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W0415_11.11_6333" descr=""/>
          <p:cNvPicPr/>
          <p:nvPr/>
        </p:nvPicPr>
        <p:blipFill>
          <a:blip r:embed="rId1"/>
          <a:srcRect l="0" t="0" r="0" b="28383"/>
          <a:stretch/>
        </p:blipFill>
        <p:spPr>
          <a:xfrm>
            <a:off x="6330960" y="3276720"/>
            <a:ext cx="2736720" cy="3429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6320" y="3733920"/>
            <a:ext cx="533376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there a limit to how low you can make the pressure inside a stra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high can you suck wa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rome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rometers are devices used to measure air or atmospheric pres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s of baromete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osed en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pen e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W417_11.13_6333" descr=""/>
          <p:cNvPicPr/>
          <p:nvPr/>
        </p:nvPicPr>
        <p:blipFill>
          <a:blip r:embed="rId1"/>
          <a:srcRect l="0" t="0" r="0" b="39472"/>
          <a:stretch/>
        </p:blipFill>
        <p:spPr>
          <a:xfrm>
            <a:off x="4800600" y="2720880"/>
            <a:ext cx="4114800" cy="3375000"/>
          </a:xfrm>
          <a:prstGeom prst="rect">
            <a:avLst/>
          </a:prstGeom>
          <a:ln w="0">
            <a:noFill/>
          </a:ln>
        </p:spPr>
      </p:pic>
      <p:pic>
        <p:nvPicPr>
          <p:cNvPr id="88" name="W0416_11.12_6333" descr=""/>
          <p:cNvPicPr/>
          <p:nvPr/>
        </p:nvPicPr>
        <p:blipFill>
          <a:blip r:embed="rId2"/>
          <a:srcRect l="0" t="0" r="0" b="26270"/>
          <a:stretch/>
        </p:blipFill>
        <p:spPr>
          <a:xfrm>
            <a:off x="882720" y="2743200"/>
            <a:ext cx="24699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scal’s Princi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6858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pressure is applied to an enclosed fluid, the pressure is transmitted undiminished to all parts of the fluid and the enclosing wa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W0419_11.15_6333" descr=""/>
          <p:cNvPicPr/>
          <p:nvPr/>
        </p:nvPicPr>
        <p:blipFill>
          <a:blip r:embed="rId1"/>
          <a:srcRect l="0" t="0" r="0" b="20847"/>
          <a:stretch/>
        </p:blipFill>
        <p:spPr>
          <a:xfrm>
            <a:off x="6581880" y="1828800"/>
            <a:ext cx="2562120" cy="5029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-76320" y="2286000"/>
            <a:ext cx="7086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ffect of the applied pressure is to increase the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or the fluid The application of hydraulics is based on this Pascal’s Princip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 = P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/A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 = (F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/A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f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 = A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(F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/A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9:53:56Z</dcterms:created>
  <dc:creator>PCC</dc:creator>
  <dc:description/>
  <dc:language>en-US</dc:language>
  <cp:lastModifiedBy>PCC</cp:lastModifiedBy>
  <dcterms:modified xsi:type="dcterms:W3CDTF">2003-01-15T20:46:18Z</dcterms:modified>
  <cp:revision>62</cp:revision>
  <dc:subject/>
  <dc:title>Phy 202: General Physics II</dc:title>
</cp:coreProperties>
</file>