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46FC-23D0-42E6-8D6A-DF6DCD2FB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mass the greater the period (T) or T ~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EEEE-D256-4B92-820E-BCD2CB28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178-8BF6-4E93-AB67-28FC36D1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BCA9-AB42-4D70-87C2-FB35B944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D46-5ECA-48A1-B937-46529FEB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BA79-7550-461B-B9C6-02EA28A0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75F9-9478-4164-A629-966E641A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D81-E92C-41EF-8400-11733561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8C8-DD6C-41B2-B385-918807D6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F2D-4343-48D2-8544-B22FF1D9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E16B-94A2-40A6-8F0D-4FC34147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F354-C779-4961-A7AE-CF45BBC7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71B1-62FB-4017-9095-EE4EFFB6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650C-81E9-4377-A7E1-41EE99B2A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2: General Physics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 10: Simple Harmonic Motion &amp; Elast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endul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the motion of a mass (m) attached to a string (length, l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-389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ravitational force (mg) exerts a torque on the mass (at all but the bottom point of the sw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= I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mgl sin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ce I = m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s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~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= (mgl/I) sin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(mgl/ml</a:t>
            </a:r>
            <a:r>
              <a:rPr b="0" lang="en-US" sz="24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) sin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= (g/l)</a:t>
            </a:r>
            <a:r>
              <a:rPr b="0" lang="en-US" sz="24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sin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=  (g/l)</a:t>
            </a:r>
            <a:r>
              <a:rPr b="0" lang="en-US" sz="24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-389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eriod of the motion (T) is theref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T = 2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(l/g)</a:t>
            </a:r>
            <a:r>
              <a:rPr b="0" lang="en-US" sz="2400" spc="-1" strike="noStrike" baseline="30000">
                <a:solidFill>
                  <a:srgbClr val="99ff33"/>
                </a:solidFill>
                <a:latin typeface="Times New Roman"/>
              </a:rPr>
              <a:t>½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imilar to  a ~x (for a spring) therefore this motion looks like the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66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629400" y="1523880"/>
            <a:ext cx="2286000" cy="2742840"/>
            <a:chOff x="6629400" y="1523880"/>
            <a:chExt cx="2286000" cy="2742840"/>
          </a:xfrm>
        </p:grpSpPr>
        <p:sp>
          <p:nvSpPr>
            <p:cNvPr id="81" name=""/>
            <p:cNvSpPr/>
            <p:nvPr/>
          </p:nvSpPr>
          <p:spPr>
            <a:xfrm>
              <a:off x="6629400" y="3429000"/>
              <a:ext cx="53352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934320" y="1675800"/>
              <a:ext cx="838080" cy="1752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86600" y="1523880"/>
              <a:ext cx="144792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34320" y="3691800"/>
              <a:ext cx="167580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81" y="10155"/>
                  </a:moveTo>
                  <a:arcTo wR="10800" hR="10800" stAng="-205337" swAng="1104902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81" y="10155"/>
                  </a:moveTo>
                  <a:arcTo wR="10800" hR="10800" stAng="-205337" swAng="11049021"/>
                </a:path>
              </a:pathLst>
            </a:custGeom>
            <a:noFill/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8381880" y="3429000"/>
              <a:ext cx="53352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7772400" y="1675800"/>
              <a:ext cx="838080" cy="175284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701028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72400" y="18288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3886200"/>
            <a:ext cx="0" cy="76212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astic Defor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s of deform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etching/com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stretch/compress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Y(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L /L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)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ar de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shear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S (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X/L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)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 de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P = -B (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V/V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W373_10.29_6333" descr=""/>
          <p:cNvPicPr/>
          <p:nvPr/>
        </p:nvPicPr>
        <p:blipFill>
          <a:blip r:embed="rId1"/>
          <a:srcRect l="0" t="0" r="0" b="52102"/>
          <a:stretch/>
        </p:blipFill>
        <p:spPr>
          <a:xfrm>
            <a:off x="5715000" y="1066680"/>
            <a:ext cx="2743200" cy="1487520"/>
          </a:xfrm>
          <a:prstGeom prst="rect">
            <a:avLst/>
          </a:prstGeom>
          <a:ln w="0">
            <a:noFill/>
          </a:ln>
        </p:spPr>
      </p:pic>
      <p:pic>
        <p:nvPicPr>
          <p:cNvPr id="96" name="W374_10.31_6333" descr=""/>
          <p:cNvPicPr/>
          <p:nvPr/>
        </p:nvPicPr>
        <p:blipFill>
          <a:blip r:embed="rId2"/>
          <a:srcRect l="0" t="0" r="0" b="42018"/>
          <a:stretch/>
        </p:blipFill>
        <p:spPr>
          <a:xfrm>
            <a:off x="1523880" y="3429000"/>
            <a:ext cx="3810240" cy="1433520"/>
          </a:xfrm>
          <a:prstGeom prst="rect">
            <a:avLst/>
          </a:prstGeom>
          <a:ln w="0">
            <a:noFill/>
          </a:ln>
        </p:spPr>
      </p:pic>
      <p:pic>
        <p:nvPicPr>
          <p:cNvPr id="97" name="W376_10.33_6333" descr=""/>
          <p:cNvPicPr/>
          <p:nvPr/>
        </p:nvPicPr>
        <p:blipFill>
          <a:blip r:embed="rId3"/>
          <a:srcRect l="0" t="0" r="0" b="24897"/>
          <a:stretch/>
        </p:blipFill>
        <p:spPr>
          <a:xfrm>
            <a:off x="6172200" y="3276720"/>
            <a:ext cx="2284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ess, Strain &amp; Hooke’s La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960" y="533160"/>
            <a:ext cx="6172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consider a strained mass as though it were a collection of small masses attached by a system of sp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ce deformation is related to the applied forc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stretch/compress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(YA/L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)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W372_10.28_6333" descr=""/>
          <p:cNvPicPr/>
          <p:nvPr/>
        </p:nvPicPr>
        <p:blipFill>
          <a:blip r:embed="rId1"/>
          <a:srcRect l="0" t="0" r="0" b="29508"/>
          <a:stretch/>
        </p:blipFill>
        <p:spPr>
          <a:xfrm>
            <a:off x="6400800" y="838080"/>
            <a:ext cx="2546280" cy="2743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320" y="3886200"/>
            <a:ext cx="883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ffective spring constant (k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ffec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for the mas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k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effective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= YA/L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 that k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ffect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inversely proportional to 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nsider a long spring (spring constant=k). How do the spring constants of the smaller pieces (k’) compare to the original 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Ideal Spring &amp; Hooke’s La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ring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e objects that exhibit elastic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ide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ing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less (the mass of the spring is negligible compared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lied force 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ppli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required to compress/stretch is proportional to the displacement of the spring from its unstrained length (x)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</a:rPr>
              <a:t>applied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= k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k is called the spring consta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stiffness of the sp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tretch/compress a spring, the spring exerts a restoring force of equal &amp; opposite magnitude (reaction force, F) against the stretching/compressing force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F = -k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this is referred to as Hooke’s Law!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(Elastic) Restoring Force 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&amp; Newton’s 3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Law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57440" y="14479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ed force is proportional to displacement of the spring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applied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k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ac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oring force is equal/opposite to applied for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F = -F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applied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-k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W347_10.01_6333" descr=""/>
          <p:cNvPicPr/>
          <p:nvPr/>
        </p:nvPicPr>
        <p:blipFill>
          <a:blip r:embed="rId1"/>
          <a:srcRect l="0" t="0" r="0" b="24025"/>
          <a:stretch/>
        </p:blipFill>
        <p:spPr>
          <a:xfrm>
            <a:off x="431640" y="1371600"/>
            <a:ext cx="467388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 Performed by an Ideal Spr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n ideal spring is stretched a displacement x by an applied force, the average force applied to the spring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½ k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 performed to stretch the spring 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W = (F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cos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)x = ½ kx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ained spring therefore gains an elastic potential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PE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elastic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= ½ kx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ing an Ideal Spring results in Simple Harmonic Mo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502920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ing a strained a spring results in oscillating motion due to the spring restoring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tion oscillates between (+x and –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type of motion is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ple Harmonic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W351_10.05_6333" descr=""/>
          <p:cNvPicPr/>
          <p:nvPr/>
        </p:nvPicPr>
        <p:blipFill>
          <a:blip r:embed="rId1"/>
          <a:srcRect l="0" t="0" r="0" b="34271"/>
          <a:stretch/>
        </p:blipFill>
        <p:spPr>
          <a:xfrm>
            <a:off x="1905120" y="1447920"/>
            <a:ext cx="518148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ton’s 2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Law &amp; Ideal Spr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ing Newton’s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w to a stretched ideal spr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F = ma = -k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cceleration of the spring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a = - (k/m)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cceleration of the spring at any point in the motion is proportional to the displacement of the 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otions of this type, the angular frequency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of the motion 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=(k/m)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iod of the motion (T)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T = 1/f = 2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= 2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99ff33"/>
                </a:solidFill>
                <a:latin typeface="Symbol"/>
                <a:ea typeface="Symbol"/>
              </a:rPr>
              <a:t>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(m/k)</a:t>
            </a:r>
            <a:r>
              <a:rPr b="0" lang="en-US" sz="3200" spc="-1" strike="noStrike" baseline="30000">
                <a:solidFill>
                  <a:srgbClr val="99ff33"/>
                </a:solidFill>
                <a:latin typeface="Times New Roman"/>
              </a:rPr>
              <a:t>½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4952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572000"/>
            <a:ext cx="2590920" cy="9842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General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a = </a:t>
            </a:r>
            <a:r>
              <a:rPr b="0" lang="en-US" sz="2400" spc="-1" strike="noStrike">
                <a:solidFill>
                  <a:srgbClr val="66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66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x (</a:t>
            </a: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when a ~ 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Harmonic Mo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restoring force of a spring obeys Hooke’s Law (F=-kx), the resulting motion is called Simple Harmonic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a mass attached to a stretched spring that is released at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0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placement (x) of the mass due to the spring’s restoring force will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x = A cos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A is the amplitude of the strained sp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elocity (v) of the mass will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v = -A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sin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 = -v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sin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cceleration (a) of the mass will 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a = -A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cos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 = -a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cos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phical Perspective of SH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140940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placement (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x = Acos(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42900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locity (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 = -v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in(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438880"/>
            <a:ext cx="3810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celeration (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a = -a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max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cos(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00360" y="838080"/>
          <a:ext cx="4981680" cy="19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0360" y="838080"/>
                    <a:ext cx="498168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581280" y="4876920"/>
          <a:ext cx="5029200" cy="1981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4876920"/>
                    <a:ext cx="50292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591000" y="2857680"/>
          <a:ext cx="4994280" cy="1955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91000" y="2857680"/>
                    <a:ext cx="4994280" cy="19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 of Energy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&amp; Simple Harmonic Mo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ork is performed on a spring due to stretch/compression by an applied force the spring gains potential energy equal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PE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elastic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= ½ kx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the spring is released and the restoring force w/in the spring drives the motion of the spr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ssuming no fric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elast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s converted to KE as the spring force does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the spring’s length equals its unstretched length, all of the P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elasti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s converted to 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ying conservation of Energy to the spr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(PE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elastic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stretched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= KE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unstretc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½ kx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2 =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½ mv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fore, the speed of the spring at its unstretched length is related to the length of the original displacement of the spring: v = (k/m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9:53:56Z</dcterms:created>
  <dc:creator>PCC</dc:creator>
  <dc:description/>
  <dc:language>en-US</dc:language>
  <cp:lastModifiedBy>PCC</cp:lastModifiedBy>
  <dcterms:modified xsi:type="dcterms:W3CDTF">2003-01-07T02:11:22Z</dcterms:modified>
  <cp:revision>20</cp:revision>
  <dc:subject/>
  <dc:title>Phy 202: General Physics II</dc:title>
</cp:coreProperties>
</file>