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3D9-B888-4FB5-BFEA-98F3446B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26E-9324-4173-9D22-EC50B3E5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2A2-8CEC-4B89-AD21-81310C70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8AC-4C49-457A-BBE5-69D5CDE2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51A-3D5E-41EA-939C-E15EE681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740-F201-40CA-AD86-5860F1E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512-6A68-455F-9C28-4937C6F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45F-794E-4605-97DF-FE1C647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D68-B978-486C-BFE5-262D866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BDF-B9D9-4AD1-B02D-D5F37E6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CCA-F8C6-4D83-98C4-DB4FB236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859-3F44-4D3F-920F-36A9954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613-BE29-43D6-B6A3-AD7D941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3ACC-0F24-4BB2-BEBB-A453DF313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0: Simple Harmonic Motion &amp; Elast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ndul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the motion of a mass (m) attached to a string (length, l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-38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avitational force (mg) exerts a torque on the mass (at all but the bottom point of the sw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I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mgl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ce I = m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(mgl/I)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(mgl/ml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(g/l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 (g/l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-38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eriod of the motion (T) is theref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T = 2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(l/g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milar to  a ~x (for a spring) therefore this motion looks like the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629400" y="1523880"/>
            <a:ext cx="2286000" cy="2742840"/>
            <a:chOff x="6629400" y="1523880"/>
            <a:chExt cx="2286000" cy="2742840"/>
          </a:xfrm>
        </p:grpSpPr>
        <p:sp>
          <p:nvSpPr>
            <p:cNvPr id="81" name=""/>
            <p:cNvSpPr/>
            <p:nvPr/>
          </p:nvSpPr>
          <p:spPr>
            <a:xfrm>
              <a:off x="6629400" y="3429000"/>
              <a:ext cx="53352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34320" y="1675800"/>
              <a:ext cx="838080" cy="175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1523880"/>
              <a:ext cx="1447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4320" y="3691800"/>
              <a:ext cx="167580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1" y="10155"/>
                  </a:moveTo>
                  <a:arcTo wR="10800" hR="10800" stAng="-205337" swAng="110490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1" y="10155"/>
                  </a:moveTo>
                  <a:arcTo wR="10800" hR="10800" stAng="-205337" swAng="11049021"/>
                </a:path>
              </a:pathLst>
            </a:custGeom>
            <a:noFill/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381880" y="3429000"/>
              <a:ext cx="53352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7772400" y="1675800"/>
              <a:ext cx="838080" cy="17528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0102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1828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86200"/>
            <a:ext cx="0" cy="76212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astic De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deform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tching/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stretch/compress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Y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L /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ar de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shear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 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X/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de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 = -B 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W373_10.29_6333" descr=""/>
          <p:cNvPicPr/>
          <p:nvPr/>
        </p:nvPicPr>
        <p:blipFill>
          <a:blip r:embed="rId1"/>
          <a:srcRect l="0" t="0" r="0" b="52102"/>
          <a:stretch/>
        </p:blipFill>
        <p:spPr>
          <a:xfrm>
            <a:off x="5715000" y="1066680"/>
            <a:ext cx="2743200" cy="1487520"/>
          </a:xfrm>
          <a:prstGeom prst="rect">
            <a:avLst/>
          </a:prstGeom>
          <a:ln w="0">
            <a:noFill/>
          </a:ln>
        </p:spPr>
      </p:pic>
      <p:pic>
        <p:nvPicPr>
          <p:cNvPr id="96" name="W374_10.31_6333" descr=""/>
          <p:cNvPicPr/>
          <p:nvPr/>
        </p:nvPicPr>
        <p:blipFill>
          <a:blip r:embed="rId2"/>
          <a:srcRect l="0" t="0" r="0" b="42018"/>
          <a:stretch/>
        </p:blipFill>
        <p:spPr>
          <a:xfrm>
            <a:off x="1523880" y="3429000"/>
            <a:ext cx="381024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W376_10.33_6333" descr=""/>
          <p:cNvPicPr/>
          <p:nvPr/>
        </p:nvPicPr>
        <p:blipFill>
          <a:blip r:embed="rId3"/>
          <a:srcRect l="0" t="0" r="0" b="24897"/>
          <a:stretch/>
        </p:blipFill>
        <p:spPr>
          <a:xfrm>
            <a:off x="6172200" y="3276720"/>
            <a:ext cx="228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ss, Strain &amp; Hook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53316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consider a strained mass as though it were a collection of small masses attached by a system of sp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deformation is related to the applied forc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stretch/compress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(YA/L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W372_10.28_6333" descr=""/>
          <p:cNvPicPr/>
          <p:nvPr/>
        </p:nvPicPr>
        <p:blipFill>
          <a:blip r:embed="rId1"/>
          <a:srcRect l="0" t="0" r="0" b="29508"/>
          <a:stretch/>
        </p:blipFill>
        <p:spPr>
          <a:xfrm>
            <a:off x="6400800" y="838080"/>
            <a:ext cx="254628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38862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ive spring constant (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for the mas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ffective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 YA/L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at 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versely proportional to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sider a long spring (spring constant=k). How do the spring constants of the smaller pieces (k’) compare to the original 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deal Spring &amp; Hook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rin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objects that exhibit elastic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ide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ing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less (the mass of the spring is negligible compar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lied force 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ppli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required to compress/stretch is proportional to the displacement of the spring from its unstrained length (x)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= 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k is called the spring consta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stiffness of the sp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tretch/compress a spring, the spring exerts a restoring force of equal &amp; opposite magnitude (reaction force, F) against the stretching/compressing for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 = -k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this is referred to as Hooke’s Law!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(Elastic) Restoring Force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&amp; Newton’s 3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w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5744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ed force is proportional to displacement of the spr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ing force is equal/opposite to applied for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 = -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-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W347_10.01_6333" descr=""/>
          <p:cNvPicPr/>
          <p:nvPr/>
        </p:nvPicPr>
        <p:blipFill>
          <a:blip r:embed="rId1"/>
          <a:srcRect l="0" t="0" r="0" b="24025"/>
          <a:stretch/>
        </p:blipFill>
        <p:spPr>
          <a:xfrm>
            <a:off x="431640" y="1371600"/>
            <a:ext cx="46738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 Performed by an Ideal Sp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ideal spring is stretched a displacement x by an applied force, the average force applied to the spr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½ k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performed to stretch the spring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(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os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x = ½ k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ained spring therefore gains an elastic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elastic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½ k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ing an Ideal Spring results in 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029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ing a strained a spring results in oscillating motion due to the spring restoring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 oscillates between (+x and –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ype of motion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 Harmonic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W351_10.05_6333" descr=""/>
          <p:cNvPicPr/>
          <p:nvPr/>
        </p:nvPicPr>
        <p:blipFill>
          <a:blip r:embed="rId1"/>
          <a:srcRect l="0" t="0" r="0" b="34271"/>
          <a:stretch/>
        </p:blipFill>
        <p:spPr>
          <a:xfrm>
            <a:off x="1905120" y="1447920"/>
            <a:ext cx="51814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Law &amp; Ideal Sp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to a stretched ideal sp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 = ma = -k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cceleration of the spr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a = - (k/m)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cceleration of the spring at any point in the motion is proportional to the displacement of the 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tions of this type, the angular frequency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the motion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(k/m)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iod of the motion (T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 = 1/f = 2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2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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(m/k)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0"/>
            <a:ext cx="2590920" cy="98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x (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when a ~ 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restoring force of a spring obeys Hooke’s Law (F=-kx), the resulting motion is called Simple Harmonic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mass attached to a stretched spring that is released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placement (x) of the mass due to the spring’s restoring force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x = A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A is the amplitude of the strained 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elocity (v) of the mass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v = -A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s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= -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s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cceleration (a) of the mass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a = -A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= -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Perspective of SH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40940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placement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x = Acos(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4290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ocity (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-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in(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43888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leration 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= -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cos(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00360" y="838080"/>
          <a:ext cx="4981680" cy="19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0360" y="838080"/>
                    <a:ext cx="49816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581280" y="4876920"/>
          <a:ext cx="5029200" cy="19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876920"/>
                    <a:ext cx="50292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91000" y="2857680"/>
          <a:ext cx="4994280" cy="195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91000" y="2857680"/>
                    <a:ext cx="499428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 of Energ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&amp; 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ork is performed on a spring due to stretch/compression by an applied force the spring gains potential energy equal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½ kx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the spring is released and the restoring force w/in the spring drives the motion of the sp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ssuming no fri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as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converted to KE as the spring force does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the spring’s length equals its unstretched length, all of the P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as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converted to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g conservation of Energy to the sp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(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stretch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K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unstret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½ kx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 =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½ mv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the speed of the spring at its unstretched length is related to the length of the original displacement of the spring: v = (k/m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07T02:11:22Z</dcterms:modified>
  <cp:revision>20</cp:revision>
  <dc:subject/>
  <dc:title>Phy 202: General Physics II</dc:title>
</cp:coreProperties>
</file>